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6A9-E50B-4FB1-A154-B3F9316A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494-7690-4C7B-9F4C-99056AB4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02D-7833-49A3-B38B-6C41ABF3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6DB-EFE2-4192-9FD1-6819D392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0789-62AD-4F35-9BE8-E7260A64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796-714C-4BEB-94DD-172F8D77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1EE-974B-404D-8224-136078D9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173-DA31-4B04-8B99-AD061442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F62-E342-497F-ACFE-12BC1C9E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587-570A-47B5-BF72-99BCF9B5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056-E7D5-439D-999A-FD70F5EC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90B-9872-4811-90DC-831ED43F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926B-FA8C-4E42-AAE4-80B6F70A1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y the following fr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96880" y="2627280"/>
                <a:ext cx="3254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19120" y="3844800"/>
                <a:ext cx="488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352520" y="4984920"/>
                <a:ext cx="47772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803240" y="2759040"/>
            <a:ext cx="216000" cy="179280"/>
          </a:xfrm>
          <a:custGeom>
            <a:avLst/>
            <a:gdLst/>
            <a:ahLst/>
            <a:rect l="l" t="t" r="r" b="b"/>
            <a:pathLst>
              <a:path w="596" h="497">
                <a:moveTo>
                  <a:pt x="5011" y="7863"/>
                </a:moveTo>
                <a:cubicBezTo>
                  <a:pt x="5060" y="7863"/>
                  <a:pt x="5110" y="7863"/>
                  <a:pt x="5159" y="7863"/>
                </a:cubicBezTo>
              </a:path>
              <a:path w="596" h="497">
                <a:moveTo>
                  <a:pt x="5060" y="7689"/>
                </a:moveTo>
                <a:lnTo>
                  <a:pt x="5060" y="7689"/>
                </a:lnTo>
                <a:lnTo>
                  <a:pt x="5060" y="7689"/>
                </a:lnTo>
              </a:path>
              <a:path w="596" h="497">
                <a:moveTo>
                  <a:pt x="5060" y="7689"/>
                </a:moveTo>
                <a:lnTo>
                  <a:pt x="5060" y="7689"/>
                </a:lnTo>
              </a:path>
              <a:path w="596" h="497">
                <a:moveTo>
                  <a:pt x="5035" y="8062"/>
                </a:moveTo>
                <a:cubicBezTo>
                  <a:pt x="5060" y="8062"/>
                  <a:pt x="5068" y="8062"/>
                  <a:pt x="5060" y="8086"/>
                </a:cubicBezTo>
              </a:path>
              <a:path w="596" h="497">
                <a:moveTo>
                  <a:pt x="5432" y="7714"/>
                </a:moveTo>
                <a:cubicBezTo>
                  <a:pt x="5489" y="7686"/>
                  <a:pt x="5512" y="7675"/>
                  <a:pt x="5556" y="7665"/>
                </a:cubicBezTo>
                <a:cubicBezTo>
                  <a:pt x="5599" y="7764"/>
                  <a:pt x="5581" y="7788"/>
                  <a:pt x="5507" y="7863"/>
                </a:cubicBezTo>
                <a:cubicBezTo>
                  <a:pt x="5588" y="7904"/>
                  <a:pt x="5667" y="7980"/>
                  <a:pt x="5581" y="8086"/>
                </a:cubicBezTo>
                <a:cubicBezTo>
                  <a:pt x="5521" y="8159"/>
                  <a:pt x="5476" y="8153"/>
                  <a:pt x="5407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76640" y="2982960"/>
            <a:ext cx="117360" cy="61920"/>
          </a:xfrm>
          <a:custGeom>
            <a:avLst/>
            <a:gdLst/>
            <a:ahLst/>
            <a:rect l="l" t="t" r="r" b="b"/>
            <a:pathLst>
              <a:path w="324" h="174">
                <a:moveTo>
                  <a:pt x="6350" y="8310"/>
                </a:moveTo>
                <a:cubicBezTo>
                  <a:pt x="6425" y="8289"/>
                  <a:pt x="6492" y="8285"/>
                  <a:pt x="6573" y="8285"/>
                </a:cubicBezTo>
              </a:path>
              <a:path w="324" h="174">
                <a:moveTo>
                  <a:pt x="6325" y="8458"/>
                </a:moveTo>
                <a:cubicBezTo>
                  <a:pt x="6438" y="8452"/>
                  <a:pt x="6537" y="8435"/>
                  <a:pt x="6648" y="8409"/>
                </a:cubicBezTo>
              </a:path>
              <a:path w="324" h="174">
                <a:moveTo>
                  <a:pt x="6648" y="8409"/>
                </a:moveTo>
                <a:lnTo>
                  <a:pt x="6648" y="840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54200" y="2795760"/>
            <a:ext cx="276480" cy="204480"/>
          </a:xfrm>
          <a:custGeom>
            <a:avLst/>
            <a:gdLst/>
            <a:ahLst/>
            <a:rect l="l" t="t" r="r" b="b"/>
            <a:pathLst>
              <a:path w="770" h="571">
                <a:moveTo>
                  <a:pt x="7466" y="7764"/>
                </a:moveTo>
                <a:cubicBezTo>
                  <a:pt x="7466" y="7917"/>
                  <a:pt x="7470" y="8060"/>
                  <a:pt x="7491" y="8210"/>
                </a:cubicBezTo>
                <a:cubicBezTo>
                  <a:pt x="7491" y="8218"/>
                  <a:pt x="7491" y="8227"/>
                  <a:pt x="7491" y="8235"/>
                </a:cubicBezTo>
              </a:path>
              <a:path w="770" h="571">
                <a:moveTo>
                  <a:pt x="7094" y="8334"/>
                </a:moveTo>
                <a:cubicBezTo>
                  <a:pt x="7334" y="8326"/>
                  <a:pt x="7599" y="8273"/>
                  <a:pt x="7838" y="8310"/>
                </a:cubicBezTo>
                <a:cubicBezTo>
                  <a:pt x="7861" y="8332"/>
                  <a:pt x="7872" y="8340"/>
                  <a:pt x="7838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3205080"/>
            <a:ext cx="277920" cy="135000"/>
          </a:xfrm>
          <a:custGeom>
            <a:avLst/>
            <a:gdLst/>
            <a:ahLst/>
            <a:rect l="l" t="t" r="r" b="b"/>
            <a:pathLst>
              <a:path w="769" h="373">
                <a:moveTo>
                  <a:pt x="5011" y="9103"/>
                </a:moveTo>
                <a:cubicBezTo>
                  <a:pt x="5077" y="9103"/>
                  <a:pt x="5143" y="9103"/>
                  <a:pt x="5209" y="9103"/>
                </a:cubicBezTo>
              </a:path>
              <a:path w="769" h="373">
                <a:moveTo>
                  <a:pt x="5135" y="8905"/>
                </a:moveTo>
                <a:cubicBezTo>
                  <a:pt x="5135" y="8921"/>
                  <a:pt x="5135" y="8938"/>
                  <a:pt x="5135" y="8954"/>
                </a:cubicBezTo>
              </a:path>
              <a:path w="769" h="373">
                <a:moveTo>
                  <a:pt x="5135" y="8954"/>
                </a:moveTo>
                <a:lnTo>
                  <a:pt x="5135" y="8954"/>
                </a:lnTo>
              </a:path>
              <a:path w="769" h="373">
                <a:moveTo>
                  <a:pt x="5159" y="9252"/>
                </a:moveTo>
                <a:cubicBezTo>
                  <a:pt x="5159" y="9260"/>
                  <a:pt x="5159" y="9269"/>
                  <a:pt x="5159" y="9277"/>
                </a:cubicBezTo>
              </a:path>
              <a:path w="769" h="373">
                <a:moveTo>
                  <a:pt x="5531" y="8954"/>
                </a:moveTo>
                <a:cubicBezTo>
                  <a:pt x="5589" y="8935"/>
                  <a:pt x="5646" y="8915"/>
                  <a:pt x="5705" y="8905"/>
                </a:cubicBezTo>
                <a:cubicBezTo>
                  <a:pt x="5679" y="8938"/>
                  <a:pt x="5657" y="8971"/>
                  <a:pt x="5631" y="9004"/>
                </a:cubicBezTo>
                <a:cubicBezTo>
                  <a:pt x="5733" y="9078"/>
                  <a:pt x="5822" y="9075"/>
                  <a:pt x="5730" y="9203"/>
                </a:cubicBezTo>
                <a:cubicBezTo>
                  <a:pt x="5682" y="9270"/>
                  <a:pt x="5641" y="9272"/>
                  <a:pt x="5581" y="92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84280" y="2616120"/>
            <a:ext cx="696960" cy="785880"/>
          </a:xfrm>
          <a:custGeom>
            <a:avLst/>
            <a:gdLst/>
            <a:ahLst/>
            <a:rect l="l" t="t" r="r" b="b"/>
            <a:pathLst>
              <a:path w="1936" h="2184">
                <a:moveTo>
                  <a:pt x="7243" y="8706"/>
                </a:moveTo>
                <a:cubicBezTo>
                  <a:pt x="7340" y="8664"/>
                  <a:pt x="7440" y="8638"/>
                  <a:pt x="7541" y="8607"/>
                </a:cubicBezTo>
                <a:cubicBezTo>
                  <a:pt x="7596" y="8741"/>
                  <a:pt x="7520" y="8851"/>
                  <a:pt x="7417" y="8954"/>
                </a:cubicBezTo>
                <a:cubicBezTo>
                  <a:pt x="7341" y="9011"/>
                  <a:pt x="7329" y="9014"/>
                  <a:pt x="7293" y="9054"/>
                </a:cubicBezTo>
                <a:cubicBezTo>
                  <a:pt x="7411" y="9037"/>
                  <a:pt x="7520" y="9009"/>
                  <a:pt x="7640" y="9004"/>
                </a:cubicBezTo>
                <a:cubicBezTo>
                  <a:pt x="7683" y="9004"/>
                  <a:pt x="7708" y="9010"/>
                  <a:pt x="7739" y="9029"/>
                </a:cubicBezTo>
              </a:path>
              <a:path w="1936" h="2184">
                <a:moveTo>
                  <a:pt x="6772" y="9153"/>
                </a:moveTo>
                <a:cubicBezTo>
                  <a:pt x="6938" y="9320"/>
                  <a:pt x="7101" y="9340"/>
                  <a:pt x="7342" y="9327"/>
                </a:cubicBezTo>
                <a:cubicBezTo>
                  <a:pt x="7622" y="9312"/>
                  <a:pt x="7967" y="9241"/>
                  <a:pt x="8186" y="9054"/>
                </a:cubicBezTo>
                <a:cubicBezTo>
                  <a:pt x="8464" y="8816"/>
                  <a:pt x="8579" y="8539"/>
                  <a:pt x="8533" y="8186"/>
                </a:cubicBezTo>
                <a:cubicBezTo>
                  <a:pt x="8482" y="7790"/>
                  <a:pt x="8231" y="7477"/>
                  <a:pt x="7863" y="7317"/>
                </a:cubicBezTo>
                <a:cubicBezTo>
                  <a:pt x="7635" y="7218"/>
                  <a:pt x="7320" y="7262"/>
                  <a:pt x="7094" y="7342"/>
                </a:cubicBezTo>
                <a:cubicBezTo>
                  <a:pt x="6812" y="7442"/>
                  <a:pt x="6736" y="7829"/>
                  <a:pt x="6672" y="8086"/>
                </a:cubicBezTo>
                <a:cubicBezTo>
                  <a:pt x="6592" y="8408"/>
                  <a:pt x="6611" y="8754"/>
                  <a:pt x="6672" y="9079"/>
                </a:cubicBezTo>
                <a:cubicBezTo>
                  <a:pt x="6715" y="9310"/>
                  <a:pt x="6768" y="9329"/>
                  <a:pt x="6945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2880" y="3670200"/>
            <a:ext cx="1500120" cy="1000080"/>
          </a:xfrm>
          <a:custGeom>
            <a:avLst/>
            <a:gdLst/>
            <a:ahLst/>
            <a:rect l="l" t="t" r="r" b="b"/>
            <a:pathLst>
              <a:path w="4168" h="2779">
                <a:moveTo>
                  <a:pt x="5507" y="11311"/>
                </a:moveTo>
                <a:cubicBezTo>
                  <a:pt x="5571" y="11311"/>
                  <a:pt x="5621" y="11323"/>
                  <a:pt x="5680" y="11336"/>
                </a:cubicBezTo>
                <a:cubicBezTo>
                  <a:pt x="5688" y="11336"/>
                  <a:pt x="5697" y="11336"/>
                  <a:pt x="5705" y="11336"/>
                </a:cubicBezTo>
              </a:path>
              <a:path w="4168" h="2779">
                <a:moveTo>
                  <a:pt x="5631" y="11112"/>
                </a:moveTo>
                <a:lnTo>
                  <a:pt x="5631" y="11112"/>
                </a:lnTo>
                <a:lnTo>
                  <a:pt x="5631" y="11112"/>
                </a:lnTo>
              </a:path>
              <a:path w="4168" h="2779">
                <a:moveTo>
                  <a:pt x="5631" y="11112"/>
                </a:moveTo>
                <a:lnTo>
                  <a:pt x="5631" y="11112"/>
                </a:lnTo>
              </a:path>
              <a:path w="4168" h="2779">
                <a:moveTo>
                  <a:pt x="5606" y="11559"/>
                </a:moveTo>
                <a:cubicBezTo>
                  <a:pt x="5614" y="11567"/>
                  <a:pt x="5623" y="11576"/>
                  <a:pt x="5631" y="11584"/>
                </a:cubicBezTo>
              </a:path>
              <a:path w="4168" h="2779">
                <a:moveTo>
                  <a:pt x="6077" y="11112"/>
                </a:moveTo>
                <a:cubicBezTo>
                  <a:pt x="6170" y="11103"/>
                  <a:pt x="6255" y="11088"/>
                  <a:pt x="6350" y="11088"/>
                </a:cubicBezTo>
                <a:cubicBezTo>
                  <a:pt x="6358" y="11088"/>
                  <a:pt x="6367" y="11088"/>
                  <a:pt x="6375" y="11088"/>
                </a:cubicBezTo>
                <a:cubicBezTo>
                  <a:pt x="6363" y="11223"/>
                  <a:pt x="6301" y="11373"/>
                  <a:pt x="6325" y="11509"/>
                </a:cubicBezTo>
                <a:cubicBezTo>
                  <a:pt x="6333" y="11517"/>
                  <a:pt x="6342" y="11526"/>
                  <a:pt x="6350" y="11534"/>
                </a:cubicBezTo>
              </a:path>
              <a:path w="4168" h="2779">
                <a:moveTo>
                  <a:pt x="5705" y="12353"/>
                </a:moveTo>
                <a:cubicBezTo>
                  <a:pt x="5791" y="12365"/>
                  <a:pt x="5865" y="12378"/>
                  <a:pt x="5953" y="12378"/>
                </a:cubicBezTo>
              </a:path>
              <a:path w="4168" h="2779">
                <a:moveTo>
                  <a:pt x="5854" y="12179"/>
                </a:moveTo>
                <a:cubicBezTo>
                  <a:pt x="5854" y="12187"/>
                  <a:pt x="5854" y="12196"/>
                  <a:pt x="5854" y="12204"/>
                </a:cubicBezTo>
              </a:path>
              <a:path w="4168" h="2779">
                <a:moveTo>
                  <a:pt x="5854" y="12204"/>
                </a:moveTo>
                <a:lnTo>
                  <a:pt x="5854" y="12204"/>
                </a:lnTo>
              </a:path>
              <a:path w="4168" h="2779">
                <a:moveTo>
                  <a:pt x="5804" y="12576"/>
                </a:moveTo>
                <a:cubicBezTo>
                  <a:pt x="5812" y="12576"/>
                  <a:pt x="5821" y="12576"/>
                  <a:pt x="5829" y="12576"/>
                </a:cubicBezTo>
              </a:path>
              <a:path w="4168" h="2779">
                <a:moveTo>
                  <a:pt x="6226" y="12278"/>
                </a:moveTo>
                <a:cubicBezTo>
                  <a:pt x="6318" y="12266"/>
                  <a:pt x="6438" y="12231"/>
                  <a:pt x="6449" y="12353"/>
                </a:cubicBezTo>
                <a:cubicBezTo>
                  <a:pt x="6452" y="12389"/>
                  <a:pt x="6415" y="12655"/>
                  <a:pt x="6449" y="12626"/>
                </a:cubicBezTo>
                <a:cubicBezTo>
                  <a:pt x="6507" y="12568"/>
                  <a:pt x="6565" y="12510"/>
                  <a:pt x="6623" y="12452"/>
                </a:cubicBezTo>
              </a:path>
              <a:path w="4168" h="2779">
                <a:moveTo>
                  <a:pt x="7045" y="11857"/>
                </a:moveTo>
                <a:cubicBezTo>
                  <a:pt x="7125" y="11857"/>
                  <a:pt x="7205" y="11839"/>
                  <a:pt x="7268" y="11857"/>
                </a:cubicBezTo>
              </a:path>
              <a:path w="4168" h="2779">
                <a:moveTo>
                  <a:pt x="6970" y="12030"/>
                </a:moveTo>
                <a:cubicBezTo>
                  <a:pt x="7104" y="12003"/>
                  <a:pt x="7155" y="11992"/>
                  <a:pt x="7243" y="11956"/>
                </a:cubicBezTo>
              </a:path>
              <a:path w="4168" h="2779">
                <a:moveTo>
                  <a:pt x="7243" y="11956"/>
                </a:moveTo>
                <a:lnTo>
                  <a:pt x="7243" y="11956"/>
                </a:lnTo>
              </a:path>
              <a:path w="4168" h="2779">
                <a:moveTo>
                  <a:pt x="8210" y="10840"/>
                </a:moveTo>
                <a:cubicBezTo>
                  <a:pt x="8255" y="10832"/>
                  <a:pt x="8605" y="10707"/>
                  <a:pt x="8558" y="10840"/>
                </a:cubicBezTo>
                <a:cubicBezTo>
                  <a:pt x="8483" y="10939"/>
                  <a:pt x="8458" y="10972"/>
                  <a:pt x="8384" y="11013"/>
                </a:cubicBezTo>
                <a:cubicBezTo>
                  <a:pt x="8376" y="11013"/>
                  <a:pt x="8367" y="11013"/>
                  <a:pt x="8359" y="11013"/>
                </a:cubicBezTo>
                <a:cubicBezTo>
                  <a:pt x="8441" y="11013"/>
                  <a:pt x="8671" y="10998"/>
                  <a:pt x="8558" y="11162"/>
                </a:cubicBezTo>
                <a:cubicBezTo>
                  <a:pt x="8464" y="11232"/>
                  <a:pt x="8438" y="11256"/>
                  <a:pt x="8359" y="11261"/>
                </a:cubicBezTo>
              </a:path>
              <a:path w="4168" h="2779">
                <a:moveTo>
                  <a:pt x="7938" y="11633"/>
                </a:moveTo>
                <a:cubicBezTo>
                  <a:pt x="8206" y="11623"/>
                  <a:pt x="8491" y="11567"/>
                  <a:pt x="8756" y="11633"/>
                </a:cubicBezTo>
                <a:cubicBezTo>
                  <a:pt x="8789" y="11650"/>
                  <a:pt x="8822" y="11666"/>
                  <a:pt x="8855" y="11683"/>
                </a:cubicBezTo>
              </a:path>
              <a:path w="4168" h="2779">
                <a:moveTo>
                  <a:pt x="8062" y="11956"/>
                </a:moveTo>
                <a:cubicBezTo>
                  <a:pt x="8241" y="11916"/>
                  <a:pt x="8399" y="11889"/>
                  <a:pt x="8582" y="11881"/>
                </a:cubicBezTo>
                <a:cubicBezTo>
                  <a:pt x="8611" y="12040"/>
                  <a:pt x="8533" y="12148"/>
                  <a:pt x="8483" y="12303"/>
                </a:cubicBezTo>
                <a:cubicBezTo>
                  <a:pt x="8483" y="12311"/>
                  <a:pt x="8483" y="12320"/>
                  <a:pt x="8483" y="12328"/>
                </a:cubicBezTo>
              </a:path>
              <a:path w="4168" h="2779">
                <a:moveTo>
                  <a:pt x="6127" y="12328"/>
                </a:moveTo>
                <a:cubicBezTo>
                  <a:pt x="6250" y="12328"/>
                  <a:pt x="6354" y="12317"/>
                  <a:pt x="6474" y="12328"/>
                </a:cubicBezTo>
                <a:cubicBezTo>
                  <a:pt x="6499" y="12328"/>
                  <a:pt x="6507" y="12328"/>
                  <a:pt x="6524" y="12328"/>
                </a:cubicBezTo>
                <a:cubicBezTo>
                  <a:pt x="6524" y="12429"/>
                  <a:pt x="6515" y="12400"/>
                  <a:pt x="6449" y="12526"/>
                </a:cubicBezTo>
                <a:cubicBezTo>
                  <a:pt x="6401" y="12618"/>
                  <a:pt x="6364" y="12695"/>
                  <a:pt x="6300" y="12774"/>
                </a:cubicBezTo>
                <a:cubicBezTo>
                  <a:pt x="6300" y="12844"/>
                  <a:pt x="6350" y="12627"/>
                  <a:pt x="6350" y="12626"/>
                </a:cubicBezTo>
                <a:cubicBezTo>
                  <a:pt x="6392" y="12525"/>
                  <a:pt x="6406" y="12412"/>
                  <a:pt x="6474" y="12328"/>
                </a:cubicBezTo>
              </a:path>
              <a:path w="4168" h="2779">
                <a:moveTo>
                  <a:pt x="7640" y="12328"/>
                </a:moveTo>
                <a:cubicBezTo>
                  <a:pt x="7625" y="12466"/>
                  <a:pt x="7615" y="12609"/>
                  <a:pt x="7714" y="12750"/>
                </a:cubicBezTo>
                <a:cubicBezTo>
                  <a:pt x="7916" y="13037"/>
                  <a:pt x="8316" y="13022"/>
                  <a:pt x="8607" y="12898"/>
                </a:cubicBezTo>
                <a:cubicBezTo>
                  <a:pt x="9034" y="12716"/>
                  <a:pt x="9336" y="12371"/>
                  <a:pt x="9525" y="11956"/>
                </a:cubicBezTo>
                <a:cubicBezTo>
                  <a:pt x="9700" y="11572"/>
                  <a:pt x="9706" y="11230"/>
                  <a:pt x="9550" y="10840"/>
                </a:cubicBezTo>
                <a:cubicBezTo>
                  <a:pt x="9390" y="10439"/>
                  <a:pt x="9068" y="10192"/>
                  <a:pt x="8632" y="10195"/>
                </a:cubicBezTo>
                <a:cubicBezTo>
                  <a:pt x="8184" y="10199"/>
                  <a:pt x="7686" y="10370"/>
                  <a:pt x="7516" y="10815"/>
                </a:cubicBezTo>
                <a:cubicBezTo>
                  <a:pt x="7293" y="11399"/>
                  <a:pt x="7505" y="11894"/>
                  <a:pt x="7764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7240" y="4884840"/>
            <a:ext cx="1420920" cy="928440"/>
          </a:xfrm>
          <a:custGeom>
            <a:avLst/>
            <a:gdLst/>
            <a:ahLst/>
            <a:rect l="l" t="t" r="r" b="b"/>
            <a:pathLst>
              <a:path w="3945" h="2581">
                <a:moveTo>
                  <a:pt x="5159" y="14412"/>
                </a:moveTo>
                <a:cubicBezTo>
                  <a:pt x="5286" y="14374"/>
                  <a:pt x="5398" y="14408"/>
                  <a:pt x="5531" y="14412"/>
                </a:cubicBezTo>
                <a:cubicBezTo>
                  <a:pt x="5614" y="14412"/>
                  <a:pt x="5639" y="14404"/>
                  <a:pt x="5606" y="14312"/>
                </a:cubicBezTo>
              </a:path>
              <a:path w="3945" h="2581">
                <a:moveTo>
                  <a:pt x="5383" y="14759"/>
                </a:moveTo>
                <a:cubicBezTo>
                  <a:pt x="5391" y="14759"/>
                  <a:pt x="5399" y="14759"/>
                  <a:pt x="5407" y="14759"/>
                </a:cubicBezTo>
              </a:path>
              <a:path w="3945" h="2581">
                <a:moveTo>
                  <a:pt x="5953" y="14163"/>
                </a:moveTo>
                <a:cubicBezTo>
                  <a:pt x="5978" y="14115"/>
                  <a:pt x="6110" y="14064"/>
                  <a:pt x="6152" y="14139"/>
                </a:cubicBezTo>
                <a:cubicBezTo>
                  <a:pt x="6202" y="14229"/>
                  <a:pt x="6081" y="14258"/>
                  <a:pt x="6028" y="14288"/>
                </a:cubicBezTo>
                <a:cubicBezTo>
                  <a:pt x="6100" y="14297"/>
                  <a:pt x="6160" y="14313"/>
                  <a:pt x="6226" y="14337"/>
                </a:cubicBezTo>
                <a:cubicBezTo>
                  <a:pt x="6159" y="14537"/>
                  <a:pt x="6117" y="14573"/>
                  <a:pt x="5904" y="14560"/>
                </a:cubicBezTo>
              </a:path>
              <a:path w="3945" h="2581">
                <a:moveTo>
                  <a:pt x="5383" y="14114"/>
                </a:moveTo>
                <a:lnTo>
                  <a:pt x="5383" y="14114"/>
                </a:lnTo>
              </a:path>
              <a:path w="3945" h="2581">
                <a:moveTo>
                  <a:pt x="6945" y="14585"/>
                </a:moveTo>
                <a:cubicBezTo>
                  <a:pt x="7032" y="14576"/>
                  <a:pt x="7085" y="14572"/>
                  <a:pt x="7169" y="14585"/>
                </a:cubicBezTo>
              </a:path>
              <a:path w="3945" h="2581">
                <a:moveTo>
                  <a:pt x="7069" y="14759"/>
                </a:moveTo>
                <a:cubicBezTo>
                  <a:pt x="7246" y="14708"/>
                  <a:pt x="7306" y="14691"/>
                  <a:pt x="7417" y="14635"/>
                </a:cubicBezTo>
              </a:path>
              <a:path w="3945" h="2581">
                <a:moveTo>
                  <a:pt x="7417" y="14635"/>
                </a:moveTo>
                <a:lnTo>
                  <a:pt x="7417" y="14635"/>
                </a:lnTo>
              </a:path>
              <a:path w="3945" h="2581">
                <a:moveTo>
                  <a:pt x="7789" y="14238"/>
                </a:moveTo>
                <a:cubicBezTo>
                  <a:pt x="7835" y="14377"/>
                  <a:pt x="7849" y="14417"/>
                  <a:pt x="7863" y="14511"/>
                </a:cubicBezTo>
              </a:path>
              <a:path w="3945" h="2581">
                <a:moveTo>
                  <a:pt x="7615" y="14734"/>
                </a:moveTo>
                <a:cubicBezTo>
                  <a:pt x="7822" y="14702"/>
                  <a:pt x="8026" y="14649"/>
                  <a:pt x="8235" y="14635"/>
                </a:cubicBezTo>
              </a:path>
              <a:path w="3945" h="2581">
                <a:moveTo>
                  <a:pt x="5234" y="15726"/>
                </a:moveTo>
                <a:cubicBezTo>
                  <a:pt x="5315" y="15726"/>
                  <a:pt x="5388" y="15731"/>
                  <a:pt x="5457" y="15701"/>
                </a:cubicBezTo>
              </a:path>
              <a:path w="3945" h="2581">
                <a:moveTo>
                  <a:pt x="5308" y="15429"/>
                </a:moveTo>
                <a:cubicBezTo>
                  <a:pt x="5308" y="15437"/>
                  <a:pt x="5308" y="15445"/>
                  <a:pt x="5308" y="15453"/>
                </a:cubicBezTo>
              </a:path>
              <a:path w="3945" h="2581">
                <a:moveTo>
                  <a:pt x="5308" y="15453"/>
                </a:moveTo>
                <a:lnTo>
                  <a:pt x="5308" y="15453"/>
                </a:lnTo>
              </a:path>
              <a:path w="3945" h="2581">
                <a:moveTo>
                  <a:pt x="5358" y="15900"/>
                </a:moveTo>
                <a:lnTo>
                  <a:pt x="5358" y="15900"/>
                </a:lnTo>
              </a:path>
              <a:path w="3945" h="2581">
                <a:moveTo>
                  <a:pt x="5829" y="15478"/>
                </a:moveTo>
                <a:cubicBezTo>
                  <a:pt x="5943" y="15433"/>
                  <a:pt x="5975" y="15419"/>
                  <a:pt x="6052" y="15404"/>
                </a:cubicBezTo>
                <a:cubicBezTo>
                  <a:pt x="6083" y="15511"/>
                  <a:pt x="6034" y="15546"/>
                  <a:pt x="5953" y="15627"/>
                </a:cubicBezTo>
                <a:cubicBezTo>
                  <a:pt x="6033" y="15627"/>
                  <a:pt x="6127" y="15628"/>
                  <a:pt x="6152" y="15726"/>
                </a:cubicBezTo>
                <a:cubicBezTo>
                  <a:pt x="6177" y="15827"/>
                  <a:pt x="5882" y="15867"/>
                  <a:pt x="5829" y="15875"/>
                </a:cubicBezTo>
              </a:path>
              <a:path w="3945" h="2581">
                <a:moveTo>
                  <a:pt x="7516" y="15429"/>
                </a:moveTo>
                <a:cubicBezTo>
                  <a:pt x="7559" y="15297"/>
                  <a:pt x="7696" y="15431"/>
                  <a:pt x="7739" y="15528"/>
                </a:cubicBezTo>
                <a:cubicBezTo>
                  <a:pt x="7836" y="15750"/>
                  <a:pt x="7643" y="15766"/>
                  <a:pt x="7516" y="15726"/>
                </a:cubicBezTo>
                <a:cubicBezTo>
                  <a:pt x="7508" y="15726"/>
                  <a:pt x="7499" y="15726"/>
                  <a:pt x="7491" y="15726"/>
                </a:cubicBezTo>
                <a:cubicBezTo>
                  <a:pt x="7615" y="15689"/>
                  <a:pt x="7712" y="15741"/>
                  <a:pt x="7838" y="15726"/>
                </a:cubicBezTo>
                <a:cubicBezTo>
                  <a:pt x="7871" y="15718"/>
                  <a:pt x="7905" y="15709"/>
                  <a:pt x="7938" y="15701"/>
                </a:cubicBezTo>
              </a:path>
              <a:path w="3945" h="2581">
                <a:moveTo>
                  <a:pt x="7938" y="15280"/>
                </a:moveTo>
                <a:cubicBezTo>
                  <a:pt x="8048" y="15280"/>
                  <a:pt x="8153" y="15227"/>
                  <a:pt x="8260" y="15230"/>
                </a:cubicBezTo>
                <a:cubicBezTo>
                  <a:pt x="8394" y="15234"/>
                  <a:pt x="8380" y="15460"/>
                  <a:pt x="8384" y="15553"/>
                </a:cubicBezTo>
                <a:cubicBezTo>
                  <a:pt x="8384" y="15602"/>
                  <a:pt x="8384" y="15619"/>
                  <a:pt x="8334" y="15602"/>
                </a:cubicBezTo>
              </a:path>
              <a:path w="3945" h="2581">
                <a:moveTo>
                  <a:pt x="7119" y="16148"/>
                </a:moveTo>
                <a:cubicBezTo>
                  <a:pt x="7386" y="16148"/>
                  <a:pt x="7625" y="16117"/>
                  <a:pt x="7888" y="16073"/>
                </a:cubicBezTo>
                <a:cubicBezTo>
                  <a:pt x="8289" y="16006"/>
                  <a:pt x="8574" y="15884"/>
                  <a:pt x="8830" y="15553"/>
                </a:cubicBezTo>
                <a:cubicBezTo>
                  <a:pt x="9074" y="15237"/>
                  <a:pt x="9197" y="14866"/>
                  <a:pt x="9029" y="14486"/>
                </a:cubicBezTo>
                <a:cubicBezTo>
                  <a:pt x="8874" y="14137"/>
                  <a:pt x="8542" y="13906"/>
                  <a:pt x="8210" y="13742"/>
                </a:cubicBezTo>
                <a:cubicBezTo>
                  <a:pt x="7910" y="13594"/>
                  <a:pt x="7599" y="13481"/>
                  <a:pt x="7293" y="13692"/>
                </a:cubicBezTo>
                <a:cubicBezTo>
                  <a:pt x="6866" y="13986"/>
                  <a:pt x="6841" y="14543"/>
                  <a:pt x="6821" y="15007"/>
                </a:cubicBezTo>
                <a:cubicBezTo>
                  <a:pt x="6805" y="15372"/>
                  <a:pt x="6821" y="15763"/>
                  <a:pt x="7169" y="15974"/>
                </a:cubicBezTo>
                <a:cubicBezTo>
                  <a:pt x="7315" y="16023"/>
                  <a:pt x="7362" y="16040"/>
                  <a:pt x="7466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6259680"/>
            <a:ext cx="19080" cy="27000"/>
          </a:xfrm>
          <a:custGeom>
            <a:avLst/>
            <a:gdLst/>
            <a:ahLst/>
            <a:rect l="l" t="t" r="r" b="b"/>
            <a:pathLst>
              <a:path w="51" h="75">
                <a:moveTo>
                  <a:pt x="3349" y="17462"/>
                </a:moveTo>
                <a:lnTo>
                  <a:pt x="3349" y="17462"/>
                </a:lnTo>
              </a:path>
              <a:path w="51" h="75">
                <a:moveTo>
                  <a:pt x="3324" y="17438"/>
                </a:moveTo>
                <a:cubicBezTo>
                  <a:pt x="3316" y="17421"/>
                  <a:pt x="3307" y="17405"/>
                  <a:pt x="3299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ober 24, 20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2- Unit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62840" y="1177920"/>
            <a:ext cx="1751040" cy="438120"/>
          </a:xfrm>
          <a:custGeom>
            <a:avLst/>
            <a:gdLst/>
            <a:ahLst/>
            <a:rect l="l" t="t" r="r" b="b"/>
            <a:pathLst>
              <a:path w="4862" h="1217">
                <a:moveTo>
                  <a:pt x="19621" y="3349"/>
                </a:moveTo>
                <a:cubicBezTo>
                  <a:pt x="19645" y="3565"/>
                  <a:pt x="19664" y="3777"/>
                  <a:pt x="19670" y="3994"/>
                </a:cubicBezTo>
                <a:cubicBezTo>
                  <a:pt x="19670" y="4002"/>
                  <a:pt x="19670" y="4010"/>
                  <a:pt x="19670" y="4018"/>
                </a:cubicBezTo>
                <a:cubicBezTo>
                  <a:pt x="19638" y="3774"/>
                  <a:pt x="19639" y="3579"/>
                  <a:pt x="19720" y="3349"/>
                </a:cubicBezTo>
                <a:cubicBezTo>
                  <a:pt x="19979" y="3367"/>
                  <a:pt x="20027" y="3621"/>
                  <a:pt x="20067" y="3870"/>
                </a:cubicBezTo>
                <a:cubicBezTo>
                  <a:pt x="20067" y="3961"/>
                  <a:pt x="20067" y="3969"/>
                  <a:pt x="20067" y="4018"/>
                </a:cubicBezTo>
                <a:cubicBezTo>
                  <a:pt x="20052" y="3803"/>
                  <a:pt x="20071" y="3634"/>
                  <a:pt x="20117" y="3423"/>
                </a:cubicBezTo>
                <a:cubicBezTo>
                  <a:pt x="20342" y="3353"/>
                  <a:pt x="20435" y="3584"/>
                  <a:pt x="20513" y="3795"/>
                </a:cubicBezTo>
                <a:cubicBezTo>
                  <a:pt x="20558" y="3976"/>
                  <a:pt x="20575" y="4023"/>
                  <a:pt x="20563" y="4142"/>
                </a:cubicBezTo>
              </a:path>
              <a:path w="4862" h="1217">
                <a:moveTo>
                  <a:pt x="20811" y="3597"/>
                </a:moveTo>
                <a:cubicBezTo>
                  <a:pt x="20811" y="3735"/>
                  <a:pt x="20769" y="3919"/>
                  <a:pt x="20836" y="4043"/>
                </a:cubicBezTo>
                <a:cubicBezTo>
                  <a:pt x="20861" y="4060"/>
                  <a:pt x="20885" y="4076"/>
                  <a:pt x="20910" y="4093"/>
                </a:cubicBezTo>
                <a:cubicBezTo>
                  <a:pt x="21099" y="4035"/>
                  <a:pt x="21172" y="3885"/>
                  <a:pt x="21158" y="3671"/>
                </a:cubicBezTo>
                <a:cubicBezTo>
                  <a:pt x="21150" y="3663"/>
                  <a:pt x="21142" y="3654"/>
                  <a:pt x="21134" y="3646"/>
                </a:cubicBezTo>
                <a:cubicBezTo>
                  <a:pt x="21150" y="3815"/>
                  <a:pt x="21177" y="3967"/>
                  <a:pt x="21258" y="4118"/>
                </a:cubicBezTo>
                <a:cubicBezTo>
                  <a:pt x="21266" y="4126"/>
                  <a:pt x="21274" y="4134"/>
                  <a:pt x="21282" y="4142"/>
                </a:cubicBezTo>
              </a:path>
              <a:path w="4862" h="1217">
                <a:moveTo>
                  <a:pt x="21530" y="3324"/>
                </a:moveTo>
                <a:cubicBezTo>
                  <a:pt x="21560" y="3548"/>
                  <a:pt x="21593" y="3776"/>
                  <a:pt x="21654" y="3994"/>
                </a:cubicBezTo>
                <a:cubicBezTo>
                  <a:pt x="21662" y="4019"/>
                  <a:pt x="21671" y="4043"/>
                  <a:pt x="21679" y="4068"/>
                </a:cubicBezTo>
              </a:path>
              <a:path w="4862" h="1217">
                <a:moveTo>
                  <a:pt x="21853" y="3274"/>
                </a:moveTo>
                <a:cubicBezTo>
                  <a:pt x="21921" y="3546"/>
                  <a:pt x="21967" y="3821"/>
                  <a:pt x="22027" y="4093"/>
                </a:cubicBezTo>
                <a:cubicBezTo>
                  <a:pt x="22027" y="4118"/>
                  <a:pt x="22027" y="4126"/>
                  <a:pt x="22027" y="4093"/>
                </a:cubicBezTo>
              </a:path>
              <a:path w="4862" h="1217">
                <a:moveTo>
                  <a:pt x="21754" y="3696"/>
                </a:moveTo>
                <a:cubicBezTo>
                  <a:pt x="21912" y="3681"/>
                  <a:pt x="22024" y="3620"/>
                  <a:pt x="22175" y="3696"/>
                </a:cubicBezTo>
                <a:cubicBezTo>
                  <a:pt x="22261" y="3739"/>
                  <a:pt x="22276" y="3872"/>
                  <a:pt x="22324" y="3944"/>
                </a:cubicBezTo>
              </a:path>
              <a:path w="4862" h="1217">
                <a:moveTo>
                  <a:pt x="22324" y="3646"/>
                </a:moveTo>
                <a:lnTo>
                  <a:pt x="22324" y="3646"/>
                </a:lnTo>
              </a:path>
              <a:path w="4862" h="1217">
                <a:moveTo>
                  <a:pt x="22324" y="3646"/>
                </a:moveTo>
                <a:lnTo>
                  <a:pt x="22324" y="3646"/>
                </a:lnTo>
              </a:path>
              <a:path w="4862" h="1217">
                <a:moveTo>
                  <a:pt x="22324" y="3547"/>
                </a:moveTo>
                <a:cubicBezTo>
                  <a:pt x="22360" y="3440"/>
                  <a:pt x="22446" y="3715"/>
                  <a:pt x="22448" y="3721"/>
                </a:cubicBezTo>
                <a:cubicBezTo>
                  <a:pt x="22520" y="3918"/>
                  <a:pt x="22537" y="4140"/>
                  <a:pt x="22647" y="4316"/>
                </a:cubicBezTo>
                <a:cubicBezTo>
                  <a:pt x="22583" y="4099"/>
                  <a:pt x="22487" y="3874"/>
                  <a:pt x="22498" y="3646"/>
                </a:cubicBezTo>
                <a:cubicBezTo>
                  <a:pt x="22526" y="3564"/>
                  <a:pt x="22542" y="3538"/>
                  <a:pt x="22622" y="3547"/>
                </a:cubicBezTo>
                <a:cubicBezTo>
                  <a:pt x="22792" y="3717"/>
                  <a:pt x="22801" y="3834"/>
                  <a:pt x="22523" y="3919"/>
                </a:cubicBezTo>
                <a:cubicBezTo>
                  <a:pt x="22422" y="3919"/>
                  <a:pt x="22389" y="3918"/>
                  <a:pt x="22448" y="3820"/>
                </a:cubicBezTo>
              </a:path>
              <a:path w="4862" h="1217">
                <a:moveTo>
                  <a:pt x="22845" y="3324"/>
                </a:moveTo>
                <a:cubicBezTo>
                  <a:pt x="22881" y="3492"/>
                  <a:pt x="22899" y="3838"/>
                  <a:pt x="23019" y="3969"/>
                </a:cubicBezTo>
                <a:cubicBezTo>
                  <a:pt x="23027" y="3961"/>
                  <a:pt x="23036" y="3952"/>
                  <a:pt x="23044" y="3944"/>
                </a:cubicBezTo>
              </a:path>
              <a:path w="4862" h="1217">
                <a:moveTo>
                  <a:pt x="23217" y="3572"/>
                </a:moveTo>
                <a:cubicBezTo>
                  <a:pt x="23181" y="3751"/>
                  <a:pt x="23173" y="3839"/>
                  <a:pt x="23316" y="3944"/>
                </a:cubicBezTo>
                <a:cubicBezTo>
                  <a:pt x="23483" y="3850"/>
                  <a:pt x="23432" y="3762"/>
                  <a:pt x="23515" y="3646"/>
                </a:cubicBezTo>
                <a:cubicBezTo>
                  <a:pt x="23523" y="3646"/>
                  <a:pt x="23532" y="3646"/>
                  <a:pt x="23540" y="3646"/>
                </a:cubicBezTo>
                <a:cubicBezTo>
                  <a:pt x="23591" y="3884"/>
                  <a:pt x="23689" y="4137"/>
                  <a:pt x="23540" y="4366"/>
                </a:cubicBezTo>
                <a:cubicBezTo>
                  <a:pt x="23414" y="4558"/>
                  <a:pt x="23307" y="4475"/>
                  <a:pt x="23192" y="4390"/>
                </a:cubicBezTo>
              </a:path>
              <a:path w="4862" h="1217">
                <a:moveTo>
                  <a:pt x="23639" y="3572"/>
                </a:moveTo>
                <a:cubicBezTo>
                  <a:pt x="23680" y="3701"/>
                  <a:pt x="23704" y="3808"/>
                  <a:pt x="23713" y="3944"/>
                </a:cubicBezTo>
              </a:path>
              <a:path w="4862" h="1217">
                <a:moveTo>
                  <a:pt x="23614" y="3448"/>
                </a:moveTo>
                <a:cubicBezTo>
                  <a:pt x="23631" y="3448"/>
                  <a:pt x="23647" y="3448"/>
                  <a:pt x="23664" y="3448"/>
                </a:cubicBezTo>
              </a:path>
              <a:path w="4862" h="1217">
                <a:moveTo>
                  <a:pt x="23887" y="3820"/>
                </a:moveTo>
                <a:cubicBezTo>
                  <a:pt x="23887" y="3845"/>
                  <a:pt x="23887" y="3869"/>
                  <a:pt x="23887" y="3894"/>
                </a:cubicBezTo>
                <a:cubicBezTo>
                  <a:pt x="23887" y="3783"/>
                  <a:pt x="23878" y="3680"/>
                  <a:pt x="23961" y="3597"/>
                </a:cubicBezTo>
                <a:cubicBezTo>
                  <a:pt x="24123" y="3435"/>
                  <a:pt x="24122" y="3788"/>
                  <a:pt x="24110" y="3845"/>
                </a:cubicBezTo>
                <a:cubicBezTo>
                  <a:pt x="24102" y="3870"/>
                  <a:pt x="24093" y="3894"/>
                  <a:pt x="24085" y="3919"/>
                </a:cubicBezTo>
              </a:path>
              <a:path w="4862" h="1217">
                <a:moveTo>
                  <a:pt x="24185" y="3522"/>
                </a:moveTo>
                <a:cubicBezTo>
                  <a:pt x="24172" y="3555"/>
                  <a:pt x="24065" y="3868"/>
                  <a:pt x="24209" y="3770"/>
                </a:cubicBezTo>
                <a:cubicBezTo>
                  <a:pt x="24306" y="3704"/>
                  <a:pt x="24322" y="3599"/>
                  <a:pt x="24358" y="3497"/>
                </a:cubicBezTo>
                <a:cubicBezTo>
                  <a:pt x="24366" y="3497"/>
                  <a:pt x="24375" y="3497"/>
                  <a:pt x="24383" y="3497"/>
                </a:cubicBezTo>
                <a:cubicBezTo>
                  <a:pt x="24450" y="3706"/>
                  <a:pt x="24584" y="4056"/>
                  <a:pt x="24433" y="4266"/>
                </a:cubicBezTo>
                <a:cubicBezTo>
                  <a:pt x="24284" y="4473"/>
                  <a:pt x="24120" y="4361"/>
                  <a:pt x="23961" y="4291"/>
                </a:cubicBezTo>
              </a:path>
              <a:path w="4862" h="1217">
                <a:moveTo>
                  <a:pt x="22076" y="3423"/>
                </a:moveTo>
                <a:cubicBezTo>
                  <a:pt x="22084" y="3423"/>
                  <a:pt x="22093" y="3423"/>
                  <a:pt x="22101" y="34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99200" y="1517760"/>
            <a:ext cx="741600" cy="206280"/>
          </a:xfrm>
          <a:custGeom>
            <a:avLst/>
            <a:gdLst/>
            <a:ahLst/>
            <a:rect l="l" t="t" r="r" b="b"/>
            <a:pathLst>
              <a:path w="2060" h="571">
                <a:moveTo>
                  <a:pt x="19720" y="4539"/>
                </a:moveTo>
                <a:cubicBezTo>
                  <a:pt x="19720" y="4478"/>
                  <a:pt x="19723" y="4707"/>
                  <a:pt x="19745" y="4738"/>
                </a:cubicBezTo>
                <a:cubicBezTo>
                  <a:pt x="19860" y="4905"/>
                  <a:pt x="19976" y="4637"/>
                  <a:pt x="20017" y="4564"/>
                </a:cubicBezTo>
                <a:cubicBezTo>
                  <a:pt x="20001" y="4631"/>
                  <a:pt x="20016" y="4761"/>
                  <a:pt x="20117" y="4787"/>
                </a:cubicBezTo>
                <a:cubicBezTo>
                  <a:pt x="20339" y="4844"/>
                  <a:pt x="20301" y="4518"/>
                  <a:pt x="20166" y="4440"/>
                </a:cubicBezTo>
                <a:cubicBezTo>
                  <a:pt x="20105" y="4440"/>
                  <a:pt x="20071" y="4449"/>
                  <a:pt x="20117" y="4415"/>
                </a:cubicBezTo>
              </a:path>
              <a:path w="2060" h="571">
                <a:moveTo>
                  <a:pt x="20241" y="4316"/>
                </a:moveTo>
                <a:cubicBezTo>
                  <a:pt x="20357" y="4445"/>
                  <a:pt x="20392" y="4527"/>
                  <a:pt x="20439" y="4688"/>
                </a:cubicBezTo>
                <a:cubicBezTo>
                  <a:pt x="20439" y="4680"/>
                  <a:pt x="20439" y="4671"/>
                  <a:pt x="20439" y="4663"/>
                </a:cubicBezTo>
                <a:cubicBezTo>
                  <a:pt x="20445" y="4583"/>
                  <a:pt x="20448" y="4410"/>
                  <a:pt x="20588" y="4490"/>
                </a:cubicBezTo>
                <a:cubicBezTo>
                  <a:pt x="20691" y="4549"/>
                  <a:pt x="20652" y="4670"/>
                  <a:pt x="20737" y="4713"/>
                </a:cubicBezTo>
              </a:path>
              <a:path w="2060" h="571">
                <a:moveTo>
                  <a:pt x="20886" y="4465"/>
                </a:moveTo>
                <a:cubicBezTo>
                  <a:pt x="20811" y="4569"/>
                  <a:pt x="20829" y="4569"/>
                  <a:pt x="20836" y="4688"/>
                </a:cubicBezTo>
                <a:cubicBezTo>
                  <a:pt x="20914" y="4675"/>
                  <a:pt x="21136" y="4590"/>
                  <a:pt x="21010" y="4465"/>
                </a:cubicBezTo>
                <a:cubicBezTo>
                  <a:pt x="20952" y="4446"/>
                  <a:pt x="20945" y="4437"/>
                  <a:pt x="20910" y="4440"/>
                </a:cubicBezTo>
              </a:path>
              <a:path w="2060" h="571">
                <a:moveTo>
                  <a:pt x="21109" y="4217"/>
                </a:moveTo>
                <a:cubicBezTo>
                  <a:pt x="21166" y="4381"/>
                  <a:pt x="21199" y="4552"/>
                  <a:pt x="21258" y="4713"/>
                </a:cubicBezTo>
              </a:path>
              <a:path w="2060" h="571">
                <a:moveTo>
                  <a:pt x="21382" y="4514"/>
                </a:moveTo>
                <a:cubicBezTo>
                  <a:pt x="21450" y="4514"/>
                  <a:pt x="21521" y="4523"/>
                  <a:pt x="21555" y="4490"/>
                </a:cubicBezTo>
                <a:cubicBezTo>
                  <a:pt x="21542" y="4426"/>
                  <a:pt x="21451" y="4325"/>
                  <a:pt x="21382" y="4415"/>
                </a:cubicBezTo>
                <a:cubicBezTo>
                  <a:pt x="21282" y="4544"/>
                  <a:pt x="21371" y="4733"/>
                  <a:pt x="21530" y="4738"/>
                </a:cubicBezTo>
                <a:cubicBezTo>
                  <a:pt x="21647" y="4709"/>
                  <a:pt x="21698" y="4695"/>
                  <a:pt x="21779" y="46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01000" y="1571760"/>
            <a:ext cx="179280" cy="125280"/>
          </a:xfrm>
          <a:custGeom>
            <a:avLst/>
            <a:gdLst/>
            <a:ahLst/>
            <a:rect l="l" t="t" r="r" b="b"/>
            <a:pathLst>
              <a:path w="497" h="348">
                <a:moveTo>
                  <a:pt x="22250" y="4390"/>
                </a:moveTo>
                <a:cubicBezTo>
                  <a:pt x="22282" y="4503"/>
                  <a:pt x="22317" y="4616"/>
                  <a:pt x="22374" y="4713"/>
                </a:cubicBezTo>
              </a:path>
              <a:path w="497" h="348">
                <a:moveTo>
                  <a:pt x="22498" y="4366"/>
                </a:moveTo>
                <a:cubicBezTo>
                  <a:pt x="22519" y="4443"/>
                  <a:pt x="22531" y="4667"/>
                  <a:pt x="22572" y="4589"/>
                </a:cubicBezTo>
              </a:path>
              <a:path w="497" h="348">
                <a:moveTo>
                  <a:pt x="22572" y="4589"/>
                </a:moveTo>
                <a:lnTo>
                  <a:pt x="22572" y="4589"/>
                </a:lnTo>
              </a:path>
              <a:path w="497" h="348">
                <a:moveTo>
                  <a:pt x="22225" y="4539"/>
                </a:moveTo>
                <a:cubicBezTo>
                  <a:pt x="22359" y="4500"/>
                  <a:pt x="22490" y="4459"/>
                  <a:pt x="22622" y="4415"/>
                </a:cubicBezTo>
              </a:path>
              <a:path w="497" h="348">
                <a:moveTo>
                  <a:pt x="22275" y="4614"/>
                </a:moveTo>
                <a:cubicBezTo>
                  <a:pt x="22426" y="4590"/>
                  <a:pt x="22569" y="4571"/>
                  <a:pt x="22721" y="4564"/>
                </a:cubicBezTo>
              </a:path>
              <a:path w="497" h="348">
                <a:moveTo>
                  <a:pt x="22721" y="4564"/>
                </a:moveTo>
                <a:lnTo>
                  <a:pt x="22721" y="456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1920" y="1571760"/>
            <a:ext cx="1714320" cy="81000"/>
          </a:xfrm>
          <a:custGeom>
            <a:avLst/>
            <a:gdLst/>
            <a:ahLst/>
            <a:rect l="l" t="t" r="r" b="b"/>
            <a:pathLst>
              <a:path w="4764" h="224">
                <a:moveTo>
                  <a:pt x="19670" y="4440"/>
                </a:moveTo>
                <a:cubicBezTo>
                  <a:pt x="19731" y="4413"/>
                  <a:pt x="19789" y="4365"/>
                  <a:pt x="19869" y="4366"/>
                </a:cubicBezTo>
                <a:cubicBezTo>
                  <a:pt x="20004" y="4369"/>
                  <a:pt x="20155" y="4375"/>
                  <a:pt x="20290" y="4390"/>
                </a:cubicBezTo>
                <a:cubicBezTo>
                  <a:pt x="20503" y="4414"/>
                  <a:pt x="20723" y="4409"/>
                  <a:pt x="20935" y="4440"/>
                </a:cubicBezTo>
                <a:cubicBezTo>
                  <a:pt x="21064" y="4459"/>
                  <a:pt x="21202" y="4505"/>
                  <a:pt x="21332" y="4514"/>
                </a:cubicBezTo>
                <a:cubicBezTo>
                  <a:pt x="21481" y="4524"/>
                  <a:pt x="21630" y="4536"/>
                  <a:pt x="21779" y="4539"/>
                </a:cubicBezTo>
                <a:cubicBezTo>
                  <a:pt x="22136" y="4547"/>
                  <a:pt x="22491" y="4534"/>
                  <a:pt x="22845" y="4514"/>
                </a:cubicBezTo>
                <a:cubicBezTo>
                  <a:pt x="23007" y="4505"/>
                  <a:pt x="23159" y="4529"/>
                  <a:pt x="23316" y="4539"/>
                </a:cubicBezTo>
                <a:cubicBezTo>
                  <a:pt x="23525" y="4553"/>
                  <a:pt x="23731" y="4531"/>
                  <a:pt x="23937" y="4539"/>
                </a:cubicBezTo>
                <a:cubicBezTo>
                  <a:pt x="24081" y="4545"/>
                  <a:pt x="24219" y="4524"/>
                  <a:pt x="24358" y="4564"/>
                </a:cubicBezTo>
                <a:cubicBezTo>
                  <a:pt x="24403" y="4564"/>
                  <a:pt x="24416" y="4561"/>
                  <a:pt x="24433" y="4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61120" y="2054160"/>
            <a:ext cx="179640" cy="125640"/>
          </a:xfrm>
          <a:custGeom>
            <a:avLst/>
            <a:gdLst/>
            <a:ahLst/>
            <a:rect l="l" t="t" r="r" b="b"/>
            <a:pathLst>
              <a:path w="497" h="348">
                <a:moveTo>
                  <a:pt x="19893" y="5705"/>
                </a:moveTo>
                <a:cubicBezTo>
                  <a:pt x="19896" y="5716"/>
                  <a:pt x="20011" y="6057"/>
                  <a:pt x="20017" y="6052"/>
                </a:cubicBezTo>
                <a:cubicBezTo>
                  <a:pt x="20017" y="6027"/>
                  <a:pt x="20017" y="6003"/>
                  <a:pt x="20017" y="5978"/>
                </a:cubicBezTo>
              </a:path>
              <a:path w="497" h="348">
                <a:moveTo>
                  <a:pt x="20017" y="5705"/>
                </a:moveTo>
                <a:cubicBezTo>
                  <a:pt x="20062" y="5812"/>
                  <a:pt x="20096" y="5889"/>
                  <a:pt x="20166" y="5978"/>
                </a:cubicBezTo>
              </a:path>
              <a:path w="497" h="348">
                <a:moveTo>
                  <a:pt x="20166" y="5978"/>
                </a:moveTo>
                <a:lnTo>
                  <a:pt x="20166" y="5978"/>
                </a:lnTo>
              </a:path>
              <a:path w="497" h="348">
                <a:moveTo>
                  <a:pt x="19893" y="5879"/>
                </a:moveTo>
                <a:cubicBezTo>
                  <a:pt x="20018" y="5871"/>
                  <a:pt x="20139" y="5854"/>
                  <a:pt x="20265" y="5854"/>
                </a:cubicBezTo>
              </a:path>
              <a:path w="497" h="348">
                <a:moveTo>
                  <a:pt x="19968" y="6028"/>
                </a:moveTo>
                <a:cubicBezTo>
                  <a:pt x="20114" y="5991"/>
                  <a:pt x="20239" y="5962"/>
                  <a:pt x="20389" y="5953"/>
                </a:cubicBezTo>
              </a:path>
              <a:path w="497" h="348">
                <a:moveTo>
                  <a:pt x="20389" y="5953"/>
                </a:moveTo>
                <a:lnTo>
                  <a:pt x="20389" y="595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99280" y="1893960"/>
            <a:ext cx="108000" cy="115920"/>
          </a:xfrm>
          <a:custGeom>
            <a:avLst/>
            <a:gdLst/>
            <a:ahLst/>
            <a:rect l="l" t="t" r="r" b="b"/>
            <a:pathLst>
              <a:path w="299" h="323">
                <a:moveTo>
                  <a:pt x="22597" y="5457"/>
                </a:moveTo>
                <a:cubicBezTo>
                  <a:pt x="22639" y="5388"/>
                  <a:pt x="22615" y="5358"/>
                  <a:pt x="22597" y="5283"/>
                </a:cubicBezTo>
                <a:cubicBezTo>
                  <a:pt x="22597" y="5259"/>
                  <a:pt x="22597" y="5251"/>
                  <a:pt x="22572" y="5259"/>
                </a:cubicBezTo>
                <a:cubicBezTo>
                  <a:pt x="22540" y="5309"/>
                  <a:pt x="22416" y="5520"/>
                  <a:pt x="22547" y="5507"/>
                </a:cubicBezTo>
                <a:cubicBezTo>
                  <a:pt x="22651" y="5497"/>
                  <a:pt x="22644" y="5414"/>
                  <a:pt x="22671" y="5333"/>
                </a:cubicBezTo>
                <a:cubicBezTo>
                  <a:pt x="22663" y="5333"/>
                  <a:pt x="22655" y="5333"/>
                  <a:pt x="22647" y="5333"/>
                </a:cubicBezTo>
                <a:cubicBezTo>
                  <a:pt x="22699" y="5453"/>
                  <a:pt x="22682" y="5510"/>
                  <a:pt x="22796" y="5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23200" y="1776240"/>
            <a:ext cx="561960" cy="216000"/>
          </a:xfrm>
          <a:custGeom>
            <a:avLst/>
            <a:gdLst/>
            <a:ahLst/>
            <a:rect l="l" t="t" r="r" b="b"/>
            <a:pathLst>
              <a:path w="1564" h="596">
                <a:moveTo>
                  <a:pt x="23118" y="5209"/>
                </a:moveTo>
                <a:cubicBezTo>
                  <a:pt x="23126" y="5266"/>
                  <a:pt x="23144" y="5489"/>
                  <a:pt x="23217" y="5507"/>
                </a:cubicBezTo>
                <a:cubicBezTo>
                  <a:pt x="23217" y="5507"/>
                  <a:pt x="23260" y="5367"/>
                  <a:pt x="23267" y="5333"/>
                </a:cubicBezTo>
                <a:cubicBezTo>
                  <a:pt x="23292" y="5432"/>
                  <a:pt x="23332" y="5452"/>
                  <a:pt x="23416" y="5482"/>
                </a:cubicBezTo>
                <a:cubicBezTo>
                  <a:pt x="23492" y="5326"/>
                  <a:pt x="23439" y="5303"/>
                  <a:pt x="23366" y="5184"/>
                </a:cubicBezTo>
                <a:cubicBezTo>
                  <a:pt x="23366" y="5176"/>
                  <a:pt x="23366" y="5167"/>
                  <a:pt x="23366" y="5159"/>
                </a:cubicBezTo>
              </a:path>
              <a:path w="1564" h="596">
                <a:moveTo>
                  <a:pt x="23564" y="5135"/>
                </a:moveTo>
                <a:cubicBezTo>
                  <a:pt x="23601" y="5273"/>
                  <a:pt x="23634" y="5399"/>
                  <a:pt x="23688" y="5531"/>
                </a:cubicBezTo>
                <a:cubicBezTo>
                  <a:pt x="23704" y="5404"/>
                  <a:pt x="23723" y="5311"/>
                  <a:pt x="23788" y="5209"/>
                </a:cubicBezTo>
                <a:cubicBezTo>
                  <a:pt x="23871" y="5293"/>
                  <a:pt x="23915" y="5407"/>
                  <a:pt x="23986" y="5507"/>
                </a:cubicBezTo>
              </a:path>
              <a:path w="1564" h="596">
                <a:moveTo>
                  <a:pt x="24110" y="5209"/>
                </a:moveTo>
                <a:cubicBezTo>
                  <a:pt x="24051" y="5327"/>
                  <a:pt x="24035" y="5345"/>
                  <a:pt x="24085" y="5457"/>
                </a:cubicBezTo>
                <a:cubicBezTo>
                  <a:pt x="24151" y="5413"/>
                  <a:pt x="24109" y="5258"/>
                  <a:pt x="24061" y="5184"/>
                </a:cubicBezTo>
                <a:cubicBezTo>
                  <a:pt x="24053" y="5184"/>
                  <a:pt x="24044" y="5184"/>
                  <a:pt x="24036" y="5184"/>
                </a:cubicBezTo>
              </a:path>
              <a:path w="1564" h="596">
                <a:moveTo>
                  <a:pt x="24036" y="5184"/>
                </a:moveTo>
                <a:lnTo>
                  <a:pt x="24036" y="5184"/>
                </a:lnTo>
              </a:path>
              <a:path w="1564" h="596">
                <a:moveTo>
                  <a:pt x="24160" y="4936"/>
                </a:moveTo>
                <a:cubicBezTo>
                  <a:pt x="24202" y="5110"/>
                  <a:pt x="24218" y="5292"/>
                  <a:pt x="24284" y="5457"/>
                </a:cubicBezTo>
              </a:path>
              <a:path w="1564" h="596">
                <a:moveTo>
                  <a:pt x="24383" y="5259"/>
                </a:moveTo>
                <a:cubicBezTo>
                  <a:pt x="24441" y="5240"/>
                  <a:pt x="24537" y="5204"/>
                  <a:pt x="24557" y="5135"/>
                </a:cubicBezTo>
                <a:cubicBezTo>
                  <a:pt x="24557" y="5093"/>
                  <a:pt x="24565" y="5077"/>
                  <a:pt x="24532" y="5085"/>
                </a:cubicBezTo>
                <a:cubicBezTo>
                  <a:pt x="24423" y="5149"/>
                  <a:pt x="24269" y="5306"/>
                  <a:pt x="24433" y="5432"/>
                </a:cubicBezTo>
                <a:cubicBezTo>
                  <a:pt x="24522" y="5501"/>
                  <a:pt x="24604" y="5421"/>
                  <a:pt x="24681" y="5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69080" y="1803240"/>
            <a:ext cx="1204920" cy="322560"/>
          </a:xfrm>
          <a:custGeom>
            <a:avLst/>
            <a:gdLst/>
            <a:ahLst/>
            <a:rect l="l" t="t" r="r" b="b"/>
            <a:pathLst>
              <a:path w="3350" h="894">
                <a:moveTo>
                  <a:pt x="18802" y="5308"/>
                </a:moveTo>
                <a:cubicBezTo>
                  <a:pt x="18871" y="5296"/>
                  <a:pt x="18928" y="5283"/>
                  <a:pt x="19000" y="5283"/>
                </a:cubicBezTo>
                <a:cubicBezTo>
                  <a:pt x="19052" y="5283"/>
                  <a:pt x="18969" y="5265"/>
                  <a:pt x="18951" y="5259"/>
                </a:cubicBezTo>
                <a:cubicBezTo>
                  <a:pt x="18932" y="5253"/>
                  <a:pt x="18897" y="5259"/>
                  <a:pt x="18876" y="5259"/>
                </a:cubicBezTo>
              </a:path>
              <a:path w="3350" h="894">
                <a:moveTo>
                  <a:pt x="19372" y="5283"/>
                </a:moveTo>
                <a:cubicBezTo>
                  <a:pt x="19423" y="5250"/>
                  <a:pt x="19429" y="5427"/>
                  <a:pt x="19447" y="5507"/>
                </a:cubicBezTo>
                <a:cubicBezTo>
                  <a:pt x="19482" y="5663"/>
                  <a:pt x="19496" y="5754"/>
                  <a:pt x="19496" y="5904"/>
                </a:cubicBezTo>
              </a:path>
              <a:path w="3350" h="894">
                <a:moveTo>
                  <a:pt x="19224" y="5259"/>
                </a:moveTo>
                <a:cubicBezTo>
                  <a:pt x="19449" y="5207"/>
                  <a:pt x="19552" y="5215"/>
                  <a:pt x="19720" y="5383"/>
                </a:cubicBezTo>
                <a:cubicBezTo>
                  <a:pt x="19677" y="5438"/>
                  <a:pt x="19474" y="5632"/>
                  <a:pt x="19372" y="5531"/>
                </a:cubicBezTo>
                <a:cubicBezTo>
                  <a:pt x="19380" y="5515"/>
                  <a:pt x="19389" y="5498"/>
                  <a:pt x="19397" y="5482"/>
                </a:cubicBezTo>
              </a:path>
              <a:path w="3350" h="894">
                <a:moveTo>
                  <a:pt x="19769" y="5308"/>
                </a:moveTo>
                <a:cubicBezTo>
                  <a:pt x="19815" y="5377"/>
                  <a:pt x="19867" y="5442"/>
                  <a:pt x="19918" y="5507"/>
                </a:cubicBezTo>
                <a:cubicBezTo>
                  <a:pt x="19893" y="5398"/>
                  <a:pt x="19849" y="5287"/>
                  <a:pt x="19993" y="5259"/>
                </a:cubicBezTo>
                <a:cubicBezTo>
                  <a:pt x="20018" y="5259"/>
                  <a:pt x="20042" y="5259"/>
                  <a:pt x="20067" y="5259"/>
                </a:cubicBezTo>
              </a:path>
              <a:path w="3350" h="894">
                <a:moveTo>
                  <a:pt x="20315" y="5308"/>
                </a:moveTo>
                <a:cubicBezTo>
                  <a:pt x="20294" y="5277"/>
                  <a:pt x="20212" y="5262"/>
                  <a:pt x="20166" y="5308"/>
                </a:cubicBezTo>
                <a:cubicBezTo>
                  <a:pt x="20090" y="5385"/>
                  <a:pt x="20054" y="5603"/>
                  <a:pt x="20241" y="5556"/>
                </a:cubicBezTo>
                <a:cubicBezTo>
                  <a:pt x="20392" y="5518"/>
                  <a:pt x="20414" y="5443"/>
                  <a:pt x="20414" y="5333"/>
                </a:cubicBezTo>
                <a:cubicBezTo>
                  <a:pt x="20359" y="5314"/>
                  <a:pt x="20326" y="5308"/>
                  <a:pt x="20265" y="5308"/>
                </a:cubicBezTo>
              </a:path>
              <a:path w="3350" h="894">
                <a:moveTo>
                  <a:pt x="20811" y="5358"/>
                </a:moveTo>
                <a:cubicBezTo>
                  <a:pt x="20773" y="5335"/>
                  <a:pt x="20713" y="5229"/>
                  <a:pt x="20638" y="5283"/>
                </a:cubicBezTo>
                <a:cubicBezTo>
                  <a:pt x="20529" y="5361"/>
                  <a:pt x="20528" y="5438"/>
                  <a:pt x="20513" y="5556"/>
                </a:cubicBezTo>
                <a:cubicBezTo>
                  <a:pt x="20724" y="5617"/>
                  <a:pt x="20770" y="5524"/>
                  <a:pt x="20861" y="5333"/>
                </a:cubicBezTo>
              </a:path>
              <a:path w="3350" h="894">
                <a:moveTo>
                  <a:pt x="20737" y="5011"/>
                </a:moveTo>
                <a:cubicBezTo>
                  <a:pt x="20761" y="5152"/>
                  <a:pt x="20800" y="5292"/>
                  <a:pt x="20836" y="5432"/>
                </a:cubicBezTo>
                <a:cubicBezTo>
                  <a:pt x="20855" y="5506"/>
                  <a:pt x="20863" y="5513"/>
                  <a:pt x="20861" y="5556"/>
                </a:cubicBezTo>
              </a:path>
              <a:path w="3350" h="894">
                <a:moveTo>
                  <a:pt x="20861" y="5556"/>
                </a:moveTo>
                <a:lnTo>
                  <a:pt x="20861" y="5556"/>
                </a:lnTo>
              </a:path>
              <a:path w="3350" h="894">
                <a:moveTo>
                  <a:pt x="21034" y="5283"/>
                </a:moveTo>
                <a:cubicBezTo>
                  <a:pt x="21034" y="5359"/>
                  <a:pt x="21015" y="5440"/>
                  <a:pt x="21059" y="5507"/>
                </a:cubicBezTo>
                <a:cubicBezTo>
                  <a:pt x="21076" y="5523"/>
                  <a:pt x="21092" y="5540"/>
                  <a:pt x="21109" y="5556"/>
                </a:cubicBezTo>
                <a:cubicBezTo>
                  <a:pt x="21223" y="5505"/>
                  <a:pt x="21269" y="5431"/>
                  <a:pt x="21258" y="5308"/>
                </a:cubicBezTo>
                <a:cubicBezTo>
                  <a:pt x="21270" y="5392"/>
                  <a:pt x="21293" y="5517"/>
                  <a:pt x="21357" y="5581"/>
                </a:cubicBezTo>
                <a:cubicBezTo>
                  <a:pt x="21365" y="5581"/>
                  <a:pt x="21374" y="5581"/>
                  <a:pt x="21382" y="5581"/>
                </a:cubicBezTo>
              </a:path>
              <a:path w="3350" h="894">
                <a:moveTo>
                  <a:pt x="21605" y="5283"/>
                </a:moveTo>
                <a:cubicBezTo>
                  <a:pt x="21649" y="5294"/>
                  <a:pt x="21638" y="5316"/>
                  <a:pt x="21654" y="5283"/>
                </a:cubicBezTo>
                <a:cubicBezTo>
                  <a:pt x="21605" y="5267"/>
                  <a:pt x="21606" y="5197"/>
                  <a:pt x="21555" y="5283"/>
                </a:cubicBezTo>
                <a:cubicBezTo>
                  <a:pt x="21494" y="5385"/>
                  <a:pt x="21488" y="5660"/>
                  <a:pt x="21679" y="5606"/>
                </a:cubicBezTo>
                <a:cubicBezTo>
                  <a:pt x="21813" y="5525"/>
                  <a:pt x="21860" y="5491"/>
                  <a:pt x="21903" y="5383"/>
                </a:cubicBezTo>
              </a:path>
              <a:path w="3350" h="894">
                <a:moveTo>
                  <a:pt x="21927" y="5011"/>
                </a:moveTo>
                <a:cubicBezTo>
                  <a:pt x="21927" y="5163"/>
                  <a:pt x="21967" y="5287"/>
                  <a:pt x="22002" y="5432"/>
                </a:cubicBezTo>
                <a:cubicBezTo>
                  <a:pt x="22021" y="5526"/>
                  <a:pt x="22008" y="5545"/>
                  <a:pt x="22051" y="5581"/>
                </a:cubicBezTo>
              </a:path>
              <a:path w="3350" h="894">
                <a:moveTo>
                  <a:pt x="22051" y="5581"/>
                </a:moveTo>
                <a:lnTo>
                  <a:pt x="22051" y="5581"/>
                </a:lnTo>
              </a:path>
              <a:path w="3350" h="894">
                <a:moveTo>
                  <a:pt x="21779" y="5259"/>
                </a:moveTo>
                <a:cubicBezTo>
                  <a:pt x="21888" y="5277"/>
                  <a:pt x="21988" y="5283"/>
                  <a:pt x="22101" y="5283"/>
                </a:cubicBezTo>
                <a:cubicBezTo>
                  <a:pt x="22118" y="5283"/>
                  <a:pt x="22134" y="5283"/>
                  <a:pt x="22151" y="52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69080" y="2295360"/>
            <a:ext cx="1295280" cy="249480"/>
          </a:xfrm>
          <a:custGeom>
            <a:avLst/>
            <a:gdLst/>
            <a:ahLst/>
            <a:rect l="l" t="t" r="r" b="b"/>
            <a:pathLst>
              <a:path w="3598" h="695">
                <a:moveTo>
                  <a:pt x="18802" y="6772"/>
                </a:moveTo>
                <a:cubicBezTo>
                  <a:pt x="18876" y="6772"/>
                  <a:pt x="18951" y="6772"/>
                  <a:pt x="19025" y="6772"/>
                </a:cubicBezTo>
              </a:path>
              <a:path w="3598" h="695">
                <a:moveTo>
                  <a:pt x="19323" y="6796"/>
                </a:moveTo>
                <a:cubicBezTo>
                  <a:pt x="19327" y="6806"/>
                  <a:pt x="19372" y="6977"/>
                  <a:pt x="19372" y="6921"/>
                </a:cubicBezTo>
                <a:cubicBezTo>
                  <a:pt x="19355" y="6760"/>
                  <a:pt x="19318" y="6675"/>
                  <a:pt x="19472" y="6598"/>
                </a:cubicBezTo>
                <a:cubicBezTo>
                  <a:pt x="19556" y="6570"/>
                  <a:pt x="19591" y="6566"/>
                  <a:pt x="19645" y="6623"/>
                </a:cubicBezTo>
              </a:path>
              <a:path w="3598" h="695">
                <a:moveTo>
                  <a:pt x="19670" y="6672"/>
                </a:moveTo>
                <a:cubicBezTo>
                  <a:pt x="19776" y="6656"/>
                  <a:pt x="19970" y="6613"/>
                  <a:pt x="19819" y="6548"/>
                </a:cubicBezTo>
                <a:cubicBezTo>
                  <a:pt x="19783" y="6597"/>
                  <a:pt x="19565" y="6914"/>
                  <a:pt x="19769" y="6896"/>
                </a:cubicBezTo>
                <a:cubicBezTo>
                  <a:pt x="19893" y="6885"/>
                  <a:pt x="19983" y="6773"/>
                  <a:pt x="20067" y="6697"/>
                </a:cubicBezTo>
                <a:cubicBezTo>
                  <a:pt x="20084" y="6815"/>
                  <a:pt x="20137" y="6944"/>
                  <a:pt x="20166" y="7069"/>
                </a:cubicBezTo>
                <a:cubicBezTo>
                  <a:pt x="20131" y="6946"/>
                  <a:pt x="20051" y="6768"/>
                  <a:pt x="20166" y="6648"/>
                </a:cubicBezTo>
                <a:cubicBezTo>
                  <a:pt x="20199" y="6640"/>
                  <a:pt x="20232" y="6631"/>
                  <a:pt x="20265" y="6623"/>
                </a:cubicBezTo>
                <a:cubicBezTo>
                  <a:pt x="20375" y="6715"/>
                  <a:pt x="20473" y="6896"/>
                  <a:pt x="20216" y="6921"/>
                </a:cubicBezTo>
                <a:cubicBezTo>
                  <a:pt x="20175" y="6913"/>
                  <a:pt x="20133" y="6904"/>
                  <a:pt x="20092" y="6896"/>
                </a:cubicBezTo>
              </a:path>
              <a:path w="3598" h="695">
                <a:moveTo>
                  <a:pt x="20414" y="6747"/>
                </a:moveTo>
                <a:cubicBezTo>
                  <a:pt x="20476" y="6742"/>
                  <a:pt x="20685" y="6744"/>
                  <a:pt x="20712" y="6672"/>
                </a:cubicBezTo>
                <a:cubicBezTo>
                  <a:pt x="20712" y="6647"/>
                  <a:pt x="20712" y="6623"/>
                  <a:pt x="20712" y="6598"/>
                </a:cubicBezTo>
                <a:cubicBezTo>
                  <a:pt x="20582" y="6608"/>
                  <a:pt x="20396" y="6657"/>
                  <a:pt x="20439" y="6846"/>
                </a:cubicBezTo>
                <a:cubicBezTo>
                  <a:pt x="20481" y="7031"/>
                  <a:pt x="20682" y="6921"/>
                  <a:pt x="20786" y="6896"/>
                </a:cubicBezTo>
              </a:path>
              <a:path w="3598" h="695">
                <a:moveTo>
                  <a:pt x="21084" y="6672"/>
                </a:moveTo>
                <a:cubicBezTo>
                  <a:pt x="20954" y="6630"/>
                  <a:pt x="20879" y="6677"/>
                  <a:pt x="20836" y="6821"/>
                </a:cubicBezTo>
                <a:cubicBezTo>
                  <a:pt x="20836" y="6846"/>
                  <a:pt x="20836" y="6871"/>
                  <a:pt x="20836" y="6896"/>
                </a:cubicBezTo>
                <a:cubicBezTo>
                  <a:pt x="20980" y="6875"/>
                  <a:pt x="21040" y="6874"/>
                  <a:pt x="21084" y="6722"/>
                </a:cubicBezTo>
                <a:cubicBezTo>
                  <a:pt x="21103" y="6817"/>
                  <a:pt x="21168" y="7012"/>
                  <a:pt x="21307" y="6921"/>
                </a:cubicBezTo>
                <a:cubicBezTo>
                  <a:pt x="21432" y="6839"/>
                  <a:pt x="21366" y="6635"/>
                  <a:pt x="21357" y="6524"/>
                </a:cubicBezTo>
                <a:cubicBezTo>
                  <a:pt x="21357" y="6516"/>
                  <a:pt x="21357" y="6507"/>
                  <a:pt x="21357" y="6499"/>
                </a:cubicBezTo>
                <a:cubicBezTo>
                  <a:pt x="21380" y="6636"/>
                  <a:pt x="21427" y="6767"/>
                  <a:pt x="21481" y="6896"/>
                </a:cubicBezTo>
              </a:path>
              <a:path w="3598" h="695">
                <a:moveTo>
                  <a:pt x="21307" y="6648"/>
                </a:moveTo>
                <a:cubicBezTo>
                  <a:pt x="21493" y="6656"/>
                  <a:pt x="21698" y="6635"/>
                  <a:pt x="21878" y="6648"/>
                </a:cubicBezTo>
                <a:cubicBezTo>
                  <a:pt x="21900" y="6670"/>
                  <a:pt x="21905" y="6678"/>
                  <a:pt x="21927" y="6672"/>
                </a:cubicBezTo>
                <a:cubicBezTo>
                  <a:pt x="21911" y="6607"/>
                  <a:pt x="21857" y="6539"/>
                  <a:pt x="21779" y="6598"/>
                </a:cubicBezTo>
                <a:cubicBezTo>
                  <a:pt x="21726" y="6676"/>
                  <a:pt x="21709" y="6705"/>
                  <a:pt x="21704" y="6772"/>
                </a:cubicBezTo>
                <a:cubicBezTo>
                  <a:pt x="21833" y="6841"/>
                  <a:pt x="21890" y="6815"/>
                  <a:pt x="22051" y="6796"/>
                </a:cubicBezTo>
              </a:path>
              <a:path w="3598" h="695">
                <a:moveTo>
                  <a:pt x="22275" y="6598"/>
                </a:moveTo>
                <a:cubicBezTo>
                  <a:pt x="22161" y="6577"/>
                  <a:pt x="22022" y="6629"/>
                  <a:pt x="22051" y="6796"/>
                </a:cubicBezTo>
                <a:cubicBezTo>
                  <a:pt x="22077" y="6943"/>
                  <a:pt x="22292" y="6763"/>
                  <a:pt x="22299" y="6672"/>
                </a:cubicBezTo>
                <a:cubicBezTo>
                  <a:pt x="22291" y="6606"/>
                  <a:pt x="22283" y="6540"/>
                  <a:pt x="22275" y="6474"/>
                </a:cubicBezTo>
                <a:cubicBezTo>
                  <a:pt x="22258" y="6441"/>
                  <a:pt x="22242" y="6408"/>
                  <a:pt x="22225" y="6375"/>
                </a:cubicBezTo>
                <a:cubicBezTo>
                  <a:pt x="22262" y="6538"/>
                  <a:pt x="22322" y="6674"/>
                  <a:pt x="22399" y="68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59840" y="2205000"/>
            <a:ext cx="544320" cy="250920"/>
          </a:xfrm>
          <a:custGeom>
            <a:avLst/>
            <a:gdLst/>
            <a:ahLst/>
            <a:rect l="l" t="t" r="r" b="b"/>
            <a:pathLst>
              <a:path w="1514" h="695">
                <a:moveTo>
                  <a:pt x="23292" y="6623"/>
                </a:moveTo>
                <a:cubicBezTo>
                  <a:pt x="23227" y="6595"/>
                  <a:pt x="23156" y="6542"/>
                  <a:pt x="23093" y="6499"/>
                </a:cubicBezTo>
                <a:cubicBezTo>
                  <a:pt x="22997" y="6574"/>
                  <a:pt x="22805" y="6836"/>
                  <a:pt x="23093" y="6821"/>
                </a:cubicBezTo>
                <a:cubicBezTo>
                  <a:pt x="23258" y="6812"/>
                  <a:pt x="23242" y="6511"/>
                  <a:pt x="23242" y="6598"/>
                </a:cubicBezTo>
                <a:cubicBezTo>
                  <a:pt x="23294" y="6737"/>
                  <a:pt x="23354" y="6855"/>
                  <a:pt x="23515" y="6747"/>
                </a:cubicBezTo>
                <a:cubicBezTo>
                  <a:pt x="23556" y="6706"/>
                  <a:pt x="23598" y="6664"/>
                  <a:pt x="23639" y="6623"/>
                </a:cubicBezTo>
              </a:path>
              <a:path w="1514" h="695">
                <a:moveTo>
                  <a:pt x="23738" y="6548"/>
                </a:moveTo>
                <a:cubicBezTo>
                  <a:pt x="23656" y="6467"/>
                  <a:pt x="23496" y="6537"/>
                  <a:pt x="23465" y="6672"/>
                </a:cubicBezTo>
                <a:cubicBezTo>
                  <a:pt x="23473" y="6705"/>
                  <a:pt x="23482" y="6739"/>
                  <a:pt x="23490" y="6772"/>
                </a:cubicBezTo>
                <a:cubicBezTo>
                  <a:pt x="23691" y="6830"/>
                  <a:pt x="23756" y="6701"/>
                  <a:pt x="23763" y="6499"/>
                </a:cubicBezTo>
                <a:cubicBezTo>
                  <a:pt x="23742" y="6376"/>
                  <a:pt x="23753" y="6346"/>
                  <a:pt x="23688" y="6300"/>
                </a:cubicBezTo>
                <a:cubicBezTo>
                  <a:pt x="23688" y="6428"/>
                  <a:pt x="23725" y="6587"/>
                  <a:pt x="23788" y="6697"/>
                </a:cubicBezTo>
                <a:cubicBezTo>
                  <a:pt x="23813" y="6722"/>
                  <a:pt x="23837" y="6747"/>
                  <a:pt x="23862" y="6772"/>
                </a:cubicBezTo>
              </a:path>
              <a:path w="1514" h="695">
                <a:moveTo>
                  <a:pt x="24061" y="6548"/>
                </a:moveTo>
                <a:cubicBezTo>
                  <a:pt x="24084" y="6500"/>
                  <a:pt x="24092" y="6486"/>
                  <a:pt x="24085" y="6449"/>
                </a:cubicBezTo>
                <a:cubicBezTo>
                  <a:pt x="24011" y="6480"/>
                  <a:pt x="23913" y="6601"/>
                  <a:pt x="23961" y="6697"/>
                </a:cubicBezTo>
                <a:cubicBezTo>
                  <a:pt x="24101" y="6976"/>
                  <a:pt x="24200" y="6556"/>
                  <a:pt x="24209" y="6499"/>
                </a:cubicBezTo>
              </a:path>
              <a:path w="1514" h="695">
                <a:moveTo>
                  <a:pt x="24110" y="6127"/>
                </a:moveTo>
                <a:cubicBezTo>
                  <a:pt x="24181" y="6279"/>
                  <a:pt x="24138" y="6450"/>
                  <a:pt x="24185" y="6623"/>
                </a:cubicBezTo>
                <a:cubicBezTo>
                  <a:pt x="24193" y="6639"/>
                  <a:pt x="24201" y="6656"/>
                  <a:pt x="24209" y="6672"/>
                </a:cubicBezTo>
              </a:path>
              <a:path w="1514" h="695">
                <a:moveTo>
                  <a:pt x="24209" y="6672"/>
                </a:moveTo>
                <a:lnTo>
                  <a:pt x="24209" y="6672"/>
                </a:lnTo>
              </a:path>
              <a:path w="1514" h="695">
                <a:moveTo>
                  <a:pt x="24457" y="6598"/>
                </a:moveTo>
                <a:cubicBezTo>
                  <a:pt x="24457" y="6606"/>
                  <a:pt x="24457" y="6615"/>
                  <a:pt x="24457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6720" y="2724120"/>
            <a:ext cx="53640" cy="7920"/>
          </a:xfrm>
          <a:custGeom>
            <a:avLst/>
            <a:gdLst/>
            <a:ahLst/>
            <a:rect l="l" t="t" r="r" b="b"/>
            <a:pathLst>
              <a:path w="149" h="26">
                <a:moveTo>
                  <a:pt x="18852" y="7590"/>
                </a:moveTo>
                <a:cubicBezTo>
                  <a:pt x="18906" y="7590"/>
                  <a:pt x="18947" y="7572"/>
                  <a:pt x="19000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56280" y="2697120"/>
            <a:ext cx="204840" cy="152280"/>
          </a:xfrm>
          <a:custGeom>
            <a:avLst/>
            <a:gdLst/>
            <a:ahLst/>
            <a:rect l="l" t="t" r="r" b="b"/>
            <a:pathLst>
              <a:path w="571" h="423">
                <a:moveTo>
                  <a:pt x="19472" y="7541"/>
                </a:moveTo>
                <a:cubicBezTo>
                  <a:pt x="19530" y="7669"/>
                  <a:pt x="19551" y="7775"/>
                  <a:pt x="19571" y="7913"/>
                </a:cubicBezTo>
                <a:cubicBezTo>
                  <a:pt x="19571" y="7905"/>
                  <a:pt x="19571" y="7896"/>
                  <a:pt x="19571" y="7888"/>
                </a:cubicBezTo>
              </a:path>
              <a:path w="571" h="423">
                <a:moveTo>
                  <a:pt x="19695" y="7491"/>
                </a:moveTo>
                <a:cubicBezTo>
                  <a:pt x="19702" y="7535"/>
                  <a:pt x="19817" y="7809"/>
                  <a:pt x="19745" y="7838"/>
                </a:cubicBezTo>
                <a:cubicBezTo>
                  <a:pt x="19728" y="7830"/>
                  <a:pt x="19712" y="7821"/>
                  <a:pt x="19695" y="7813"/>
                </a:cubicBezTo>
              </a:path>
              <a:path w="571" h="423">
                <a:moveTo>
                  <a:pt x="19695" y="7813"/>
                </a:moveTo>
                <a:lnTo>
                  <a:pt x="19695" y="7813"/>
                </a:lnTo>
              </a:path>
              <a:path w="571" h="423">
                <a:moveTo>
                  <a:pt x="19397" y="7739"/>
                </a:moveTo>
                <a:cubicBezTo>
                  <a:pt x="19550" y="7713"/>
                  <a:pt x="19690" y="7695"/>
                  <a:pt x="19844" y="7689"/>
                </a:cubicBezTo>
              </a:path>
              <a:path w="571" h="423">
                <a:moveTo>
                  <a:pt x="19323" y="7888"/>
                </a:moveTo>
                <a:cubicBezTo>
                  <a:pt x="19486" y="7841"/>
                  <a:pt x="19630" y="7861"/>
                  <a:pt x="19794" y="7838"/>
                </a:cubicBezTo>
                <a:cubicBezTo>
                  <a:pt x="19852" y="7819"/>
                  <a:pt x="19858" y="7810"/>
                  <a:pt x="19893" y="78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96120" y="2724120"/>
            <a:ext cx="106560" cy="115920"/>
          </a:xfrm>
          <a:custGeom>
            <a:avLst/>
            <a:gdLst/>
            <a:ahLst/>
            <a:rect l="l" t="t" r="r" b="b"/>
            <a:pathLst>
              <a:path w="299" h="324">
                <a:moveTo>
                  <a:pt x="20265" y="7615"/>
                </a:moveTo>
                <a:cubicBezTo>
                  <a:pt x="20321" y="7707"/>
                  <a:pt x="20461" y="7759"/>
                  <a:pt x="20563" y="7813"/>
                </a:cubicBezTo>
              </a:path>
              <a:path w="299" h="324">
                <a:moveTo>
                  <a:pt x="20538" y="7565"/>
                </a:moveTo>
                <a:cubicBezTo>
                  <a:pt x="20458" y="7632"/>
                  <a:pt x="20389" y="7769"/>
                  <a:pt x="20315" y="7863"/>
                </a:cubicBezTo>
                <a:cubicBezTo>
                  <a:pt x="20292" y="7886"/>
                  <a:pt x="20288" y="7894"/>
                  <a:pt x="20265" y="7888"/>
                </a:cubicBezTo>
              </a:path>
              <a:path w="299" h="324">
                <a:moveTo>
                  <a:pt x="20265" y="7888"/>
                </a:moveTo>
                <a:lnTo>
                  <a:pt x="20265" y="788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35880" y="2687760"/>
            <a:ext cx="19080" cy="179280"/>
          </a:xfrm>
          <a:custGeom>
            <a:avLst/>
            <a:gdLst/>
            <a:ahLst/>
            <a:rect l="l" t="t" r="r" b="b"/>
            <a:pathLst>
              <a:path w="51" h="497">
                <a:moveTo>
                  <a:pt x="20935" y="7466"/>
                </a:moveTo>
                <a:cubicBezTo>
                  <a:pt x="20946" y="7591"/>
                  <a:pt x="20927" y="7793"/>
                  <a:pt x="20960" y="7913"/>
                </a:cubicBezTo>
                <a:cubicBezTo>
                  <a:pt x="20982" y="7935"/>
                  <a:pt x="20991" y="7940"/>
                  <a:pt x="20985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70880" y="2625840"/>
            <a:ext cx="679320" cy="214200"/>
          </a:xfrm>
          <a:custGeom>
            <a:avLst/>
            <a:gdLst/>
            <a:ahLst/>
            <a:rect l="l" t="t" r="r" b="b"/>
            <a:pathLst>
              <a:path w="1886" h="596">
                <a:moveTo>
                  <a:pt x="21307" y="7590"/>
                </a:moveTo>
                <a:cubicBezTo>
                  <a:pt x="21422" y="7572"/>
                  <a:pt x="21532" y="7576"/>
                  <a:pt x="21654" y="7565"/>
                </a:cubicBezTo>
              </a:path>
              <a:path w="1886" h="596">
                <a:moveTo>
                  <a:pt x="21406" y="7714"/>
                </a:moveTo>
                <a:cubicBezTo>
                  <a:pt x="21507" y="7714"/>
                  <a:pt x="21541" y="7714"/>
                  <a:pt x="21605" y="7689"/>
                </a:cubicBezTo>
              </a:path>
              <a:path w="1886" h="596">
                <a:moveTo>
                  <a:pt x="21605" y="7689"/>
                </a:moveTo>
                <a:lnTo>
                  <a:pt x="21605" y="7689"/>
                </a:lnTo>
              </a:path>
              <a:path w="1886" h="596">
                <a:moveTo>
                  <a:pt x="22051" y="7565"/>
                </a:moveTo>
                <a:cubicBezTo>
                  <a:pt x="21953" y="7583"/>
                  <a:pt x="21956" y="7578"/>
                  <a:pt x="21903" y="7665"/>
                </a:cubicBezTo>
                <a:cubicBezTo>
                  <a:pt x="21985" y="7716"/>
                  <a:pt x="22068" y="7763"/>
                  <a:pt x="22151" y="7813"/>
                </a:cubicBezTo>
                <a:cubicBezTo>
                  <a:pt x="22090" y="7915"/>
                  <a:pt x="22028" y="7903"/>
                  <a:pt x="21952" y="7838"/>
                </a:cubicBezTo>
              </a:path>
              <a:path w="1886" h="596">
                <a:moveTo>
                  <a:pt x="22324" y="7689"/>
                </a:moveTo>
                <a:cubicBezTo>
                  <a:pt x="22386" y="7655"/>
                  <a:pt x="22462" y="7615"/>
                  <a:pt x="22523" y="7590"/>
                </a:cubicBezTo>
                <a:cubicBezTo>
                  <a:pt x="22451" y="7547"/>
                  <a:pt x="22354" y="7564"/>
                  <a:pt x="22324" y="7665"/>
                </a:cubicBezTo>
                <a:cubicBezTo>
                  <a:pt x="22251" y="7909"/>
                  <a:pt x="22487" y="7759"/>
                  <a:pt x="22572" y="7714"/>
                </a:cubicBezTo>
              </a:path>
              <a:path w="1886" h="596">
                <a:moveTo>
                  <a:pt x="22647" y="7317"/>
                </a:moveTo>
                <a:cubicBezTo>
                  <a:pt x="22684" y="7449"/>
                  <a:pt x="22744" y="7574"/>
                  <a:pt x="22771" y="7714"/>
                </a:cubicBezTo>
                <a:cubicBezTo>
                  <a:pt x="22771" y="7749"/>
                  <a:pt x="22780" y="7753"/>
                  <a:pt x="22820" y="7714"/>
                </a:cubicBezTo>
              </a:path>
              <a:path w="1886" h="596">
                <a:moveTo>
                  <a:pt x="22820" y="7714"/>
                </a:moveTo>
                <a:lnTo>
                  <a:pt x="22820" y="7714"/>
                </a:lnTo>
              </a:path>
              <a:path w="1886" h="596">
                <a:moveTo>
                  <a:pt x="23192" y="7317"/>
                </a:moveTo>
                <a:cubicBezTo>
                  <a:pt x="23138" y="7238"/>
                  <a:pt x="23036" y="7368"/>
                  <a:pt x="23019" y="7441"/>
                </a:cubicBezTo>
                <a:cubicBezTo>
                  <a:pt x="22990" y="7569"/>
                  <a:pt x="23073" y="7670"/>
                  <a:pt x="23093" y="7789"/>
                </a:cubicBezTo>
              </a:path>
              <a:path w="1886" h="596">
                <a:moveTo>
                  <a:pt x="22969" y="7590"/>
                </a:moveTo>
                <a:cubicBezTo>
                  <a:pt x="23044" y="7569"/>
                  <a:pt x="23114" y="7551"/>
                  <a:pt x="23192" y="7541"/>
                </a:cubicBezTo>
              </a:path>
              <a:path w="1886" h="596">
                <a:moveTo>
                  <a:pt x="23192" y="7541"/>
                </a:moveTo>
                <a:lnTo>
                  <a:pt x="23192" y="754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66000" y="2963880"/>
            <a:ext cx="222120" cy="117360"/>
          </a:xfrm>
          <a:custGeom>
            <a:avLst/>
            <a:gdLst/>
            <a:ahLst/>
            <a:rect l="l" t="t" r="r" b="b"/>
            <a:pathLst>
              <a:path w="621" h="324">
                <a:moveTo>
                  <a:pt x="19372" y="8334"/>
                </a:moveTo>
                <a:cubicBezTo>
                  <a:pt x="19383" y="8366"/>
                  <a:pt x="19422" y="8409"/>
                  <a:pt x="19447" y="8458"/>
                </a:cubicBezTo>
                <a:cubicBezTo>
                  <a:pt x="19489" y="8542"/>
                  <a:pt x="19445" y="8577"/>
                  <a:pt x="19546" y="8533"/>
                </a:cubicBezTo>
              </a:path>
              <a:path w="621" h="324">
                <a:moveTo>
                  <a:pt x="19645" y="8235"/>
                </a:moveTo>
                <a:cubicBezTo>
                  <a:pt x="19689" y="8331"/>
                  <a:pt x="19756" y="8404"/>
                  <a:pt x="19769" y="8508"/>
                </a:cubicBezTo>
              </a:path>
              <a:path w="621" h="324">
                <a:moveTo>
                  <a:pt x="19769" y="8508"/>
                </a:moveTo>
                <a:lnTo>
                  <a:pt x="19769" y="8508"/>
                </a:lnTo>
              </a:path>
              <a:path w="621" h="324">
                <a:moveTo>
                  <a:pt x="19348" y="8483"/>
                </a:moveTo>
                <a:cubicBezTo>
                  <a:pt x="19488" y="8438"/>
                  <a:pt x="19627" y="8397"/>
                  <a:pt x="19769" y="8359"/>
                </a:cubicBezTo>
              </a:path>
              <a:path w="621" h="324">
                <a:moveTo>
                  <a:pt x="19596" y="8508"/>
                </a:moveTo>
                <a:cubicBezTo>
                  <a:pt x="19775" y="8456"/>
                  <a:pt x="19839" y="8440"/>
                  <a:pt x="19968" y="8458"/>
                </a:cubicBezTo>
              </a:path>
              <a:path w="621" h="324">
                <a:moveTo>
                  <a:pt x="19968" y="8458"/>
                </a:moveTo>
                <a:lnTo>
                  <a:pt x="19968" y="845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02680" y="2955960"/>
            <a:ext cx="223560" cy="115920"/>
          </a:xfrm>
          <a:custGeom>
            <a:avLst/>
            <a:gdLst/>
            <a:ahLst/>
            <a:rect l="l" t="t" r="r" b="b"/>
            <a:pathLst>
              <a:path w="621" h="324">
                <a:moveTo>
                  <a:pt x="20563" y="8310"/>
                </a:moveTo>
                <a:cubicBezTo>
                  <a:pt x="20592" y="8380"/>
                  <a:pt x="20666" y="8440"/>
                  <a:pt x="20712" y="8508"/>
                </a:cubicBezTo>
              </a:path>
              <a:path w="621" h="324">
                <a:moveTo>
                  <a:pt x="20762" y="8260"/>
                </a:moveTo>
                <a:cubicBezTo>
                  <a:pt x="20714" y="8324"/>
                  <a:pt x="20686" y="8413"/>
                  <a:pt x="20638" y="8483"/>
                </a:cubicBezTo>
                <a:cubicBezTo>
                  <a:pt x="20630" y="8491"/>
                  <a:pt x="20621" y="8500"/>
                  <a:pt x="20613" y="8508"/>
                </a:cubicBezTo>
              </a:path>
              <a:path w="621" h="324">
                <a:moveTo>
                  <a:pt x="20613" y="8508"/>
                </a:moveTo>
                <a:lnTo>
                  <a:pt x="20613" y="8508"/>
                </a:lnTo>
              </a:path>
              <a:path w="621" h="324">
                <a:moveTo>
                  <a:pt x="21010" y="8210"/>
                </a:moveTo>
                <a:cubicBezTo>
                  <a:pt x="20964" y="8311"/>
                  <a:pt x="20937" y="8401"/>
                  <a:pt x="20910" y="8508"/>
                </a:cubicBezTo>
                <a:cubicBezTo>
                  <a:pt x="21005" y="8549"/>
                  <a:pt x="21142" y="8537"/>
                  <a:pt x="21183" y="8409"/>
                </a:cubicBezTo>
                <a:cubicBezTo>
                  <a:pt x="21221" y="8292"/>
                  <a:pt x="21163" y="8292"/>
                  <a:pt x="21084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96160" y="2982960"/>
            <a:ext cx="115920" cy="44280"/>
          </a:xfrm>
          <a:custGeom>
            <a:avLst/>
            <a:gdLst/>
            <a:ahLst/>
            <a:rect l="l" t="t" r="r" b="b"/>
            <a:pathLst>
              <a:path w="324" h="125">
                <a:moveTo>
                  <a:pt x="21654" y="8310"/>
                </a:moveTo>
                <a:cubicBezTo>
                  <a:pt x="21744" y="8310"/>
                  <a:pt x="21816" y="8307"/>
                  <a:pt x="21903" y="8285"/>
                </a:cubicBezTo>
              </a:path>
              <a:path w="324" h="125">
                <a:moveTo>
                  <a:pt x="21729" y="8409"/>
                </a:moveTo>
                <a:cubicBezTo>
                  <a:pt x="21830" y="8409"/>
                  <a:pt x="21897" y="8396"/>
                  <a:pt x="21977" y="8359"/>
                </a:cubicBezTo>
              </a:path>
              <a:path w="324" h="125">
                <a:moveTo>
                  <a:pt x="21977" y="8359"/>
                </a:moveTo>
                <a:lnTo>
                  <a:pt x="21977" y="835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53280" y="2894040"/>
            <a:ext cx="133560" cy="1602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22895" y="8037"/>
                </a:moveTo>
                <a:cubicBezTo>
                  <a:pt x="22765" y="8080"/>
                  <a:pt x="22663" y="8188"/>
                  <a:pt x="22647" y="8334"/>
                </a:cubicBezTo>
                <a:cubicBezTo>
                  <a:pt x="22655" y="8375"/>
                  <a:pt x="22663" y="8417"/>
                  <a:pt x="22671" y="8458"/>
                </a:cubicBezTo>
                <a:cubicBezTo>
                  <a:pt x="22864" y="8470"/>
                  <a:pt x="23041" y="8413"/>
                  <a:pt x="23019" y="8161"/>
                </a:cubicBezTo>
                <a:cubicBezTo>
                  <a:pt x="22962" y="8104"/>
                  <a:pt x="22935" y="8084"/>
                  <a:pt x="22870" y="8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96080" y="3197160"/>
            <a:ext cx="1081080" cy="285840"/>
          </a:xfrm>
          <a:custGeom>
            <a:avLst/>
            <a:gdLst/>
            <a:ahLst/>
            <a:rect l="l" t="t" r="r" b="b"/>
            <a:pathLst>
              <a:path w="3003" h="795">
                <a:moveTo>
                  <a:pt x="18876" y="9103"/>
                </a:moveTo>
                <a:cubicBezTo>
                  <a:pt x="18917" y="9165"/>
                  <a:pt x="18954" y="9085"/>
                  <a:pt x="19025" y="9103"/>
                </a:cubicBezTo>
                <a:cubicBezTo>
                  <a:pt x="19042" y="9111"/>
                  <a:pt x="19058" y="9120"/>
                  <a:pt x="19075" y="9128"/>
                </a:cubicBezTo>
              </a:path>
              <a:path w="3003" h="795">
                <a:moveTo>
                  <a:pt x="19348" y="9302"/>
                </a:moveTo>
                <a:cubicBezTo>
                  <a:pt x="19375" y="9413"/>
                  <a:pt x="19427" y="9518"/>
                  <a:pt x="19472" y="9624"/>
                </a:cubicBezTo>
                <a:cubicBezTo>
                  <a:pt x="19413" y="9712"/>
                  <a:pt x="19303" y="9317"/>
                  <a:pt x="19323" y="9203"/>
                </a:cubicBezTo>
                <a:cubicBezTo>
                  <a:pt x="19348" y="9170"/>
                  <a:pt x="19372" y="9136"/>
                  <a:pt x="19397" y="9103"/>
                </a:cubicBezTo>
                <a:cubicBezTo>
                  <a:pt x="19513" y="9161"/>
                  <a:pt x="19626" y="9227"/>
                  <a:pt x="19472" y="9327"/>
                </a:cubicBezTo>
                <a:cubicBezTo>
                  <a:pt x="19342" y="9411"/>
                  <a:pt x="19310" y="9410"/>
                  <a:pt x="19298" y="9302"/>
                </a:cubicBezTo>
              </a:path>
              <a:path w="3003" h="795">
                <a:moveTo>
                  <a:pt x="19670" y="9203"/>
                </a:moveTo>
                <a:cubicBezTo>
                  <a:pt x="19727" y="9278"/>
                  <a:pt x="19731" y="9290"/>
                  <a:pt x="19769" y="9327"/>
                </a:cubicBezTo>
                <a:cubicBezTo>
                  <a:pt x="19769" y="9241"/>
                  <a:pt x="19791" y="9149"/>
                  <a:pt x="19844" y="9079"/>
                </a:cubicBezTo>
                <a:cubicBezTo>
                  <a:pt x="19879" y="9079"/>
                  <a:pt x="19896" y="9074"/>
                  <a:pt x="19918" y="9054"/>
                </a:cubicBezTo>
                <a:cubicBezTo>
                  <a:pt x="19946" y="9152"/>
                  <a:pt x="19969" y="9251"/>
                  <a:pt x="19993" y="9351"/>
                </a:cubicBezTo>
                <a:cubicBezTo>
                  <a:pt x="20061" y="9334"/>
                  <a:pt x="20355" y="9180"/>
                  <a:pt x="20216" y="9054"/>
                </a:cubicBezTo>
                <a:cubicBezTo>
                  <a:pt x="20107" y="9054"/>
                  <a:pt x="20080" y="9059"/>
                  <a:pt x="20017" y="9029"/>
                </a:cubicBezTo>
              </a:path>
              <a:path w="3003" h="795">
                <a:moveTo>
                  <a:pt x="20439" y="9079"/>
                </a:moveTo>
                <a:cubicBezTo>
                  <a:pt x="20401" y="8984"/>
                  <a:pt x="20300" y="8961"/>
                  <a:pt x="20241" y="9079"/>
                </a:cubicBezTo>
                <a:cubicBezTo>
                  <a:pt x="20216" y="9203"/>
                  <a:pt x="20208" y="9244"/>
                  <a:pt x="20241" y="9327"/>
                </a:cubicBezTo>
                <a:cubicBezTo>
                  <a:pt x="20416" y="9300"/>
                  <a:pt x="20515" y="9180"/>
                  <a:pt x="20489" y="8979"/>
                </a:cubicBezTo>
                <a:cubicBezTo>
                  <a:pt x="20451" y="8923"/>
                  <a:pt x="20456" y="8898"/>
                  <a:pt x="20414" y="8905"/>
                </a:cubicBezTo>
                <a:cubicBezTo>
                  <a:pt x="20414" y="8883"/>
                  <a:pt x="20473" y="9083"/>
                  <a:pt x="20489" y="9128"/>
                </a:cubicBezTo>
                <a:cubicBezTo>
                  <a:pt x="20529" y="9250"/>
                  <a:pt x="20525" y="9279"/>
                  <a:pt x="20588" y="9327"/>
                </a:cubicBezTo>
              </a:path>
              <a:path w="3003" h="795">
                <a:moveTo>
                  <a:pt x="20712" y="9128"/>
                </a:moveTo>
                <a:cubicBezTo>
                  <a:pt x="20712" y="9220"/>
                  <a:pt x="20718" y="9271"/>
                  <a:pt x="20786" y="9327"/>
                </a:cubicBezTo>
                <a:cubicBezTo>
                  <a:pt x="20867" y="9257"/>
                  <a:pt x="20877" y="9210"/>
                  <a:pt x="20910" y="9103"/>
                </a:cubicBezTo>
                <a:cubicBezTo>
                  <a:pt x="20930" y="9222"/>
                  <a:pt x="20949" y="9217"/>
                  <a:pt x="21059" y="9227"/>
                </a:cubicBezTo>
              </a:path>
              <a:path w="3003" h="795">
                <a:moveTo>
                  <a:pt x="21233" y="9004"/>
                </a:moveTo>
                <a:cubicBezTo>
                  <a:pt x="21174" y="9027"/>
                  <a:pt x="21088" y="9153"/>
                  <a:pt x="21183" y="9203"/>
                </a:cubicBezTo>
                <a:cubicBezTo>
                  <a:pt x="21307" y="9227"/>
                  <a:pt x="21348" y="9235"/>
                  <a:pt x="21431" y="9203"/>
                </a:cubicBezTo>
              </a:path>
              <a:path w="3003" h="795">
                <a:moveTo>
                  <a:pt x="21555" y="8880"/>
                </a:moveTo>
                <a:cubicBezTo>
                  <a:pt x="21612" y="9003"/>
                  <a:pt x="21649" y="9096"/>
                  <a:pt x="21729" y="9203"/>
                </a:cubicBezTo>
              </a:path>
              <a:path w="3003" h="795">
                <a:moveTo>
                  <a:pt x="21729" y="9203"/>
                </a:moveTo>
                <a:lnTo>
                  <a:pt x="21729" y="9203"/>
                </a:lnTo>
              </a:path>
              <a:path w="3003" h="795">
                <a:moveTo>
                  <a:pt x="21431" y="9054"/>
                </a:moveTo>
                <a:cubicBezTo>
                  <a:pt x="21580" y="9054"/>
                  <a:pt x="21729" y="9054"/>
                  <a:pt x="21878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10360" y="3170160"/>
            <a:ext cx="222480" cy="135000"/>
          </a:xfrm>
          <a:custGeom>
            <a:avLst/>
            <a:gdLst/>
            <a:ahLst/>
            <a:rect l="l" t="t" r="r" b="b"/>
            <a:pathLst>
              <a:path w="621" h="373">
                <a:moveTo>
                  <a:pt x="22250" y="9004"/>
                </a:moveTo>
                <a:cubicBezTo>
                  <a:pt x="22270" y="9078"/>
                  <a:pt x="22275" y="9141"/>
                  <a:pt x="22324" y="9178"/>
                </a:cubicBezTo>
              </a:path>
              <a:path w="621" h="373">
                <a:moveTo>
                  <a:pt x="22250" y="8855"/>
                </a:moveTo>
                <a:cubicBezTo>
                  <a:pt x="22327" y="8855"/>
                  <a:pt x="22385" y="8841"/>
                  <a:pt x="22448" y="8806"/>
                </a:cubicBezTo>
              </a:path>
              <a:path w="621" h="373">
                <a:moveTo>
                  <a:pt x="22746" y="8806"/>
                </a:moveTo>
                <a:cubicBezTo>
                  <a:pt x="22706" y="8853"/>
                  <a:pt x="22677" y="8900"/>
                  <a:pt x="22647" y="8954"/>
                </a:cubicBezTo>
                <a:cubicBezTo>
                  <a:pt x="22763" y="8977"/>
                  <a:pt x="22796" y="8984"/>
                  <a:pt x="22870" y="9004"/>
                </a:cubicBezTo>
                <a:cubicBezTo>
                  <a:pt x="22815" y="9167"/>
                  <a:pt x="22674" y="9122"/>
                  <a:pt x="22523" y="9128"/>
                </a:cubicBezTo>
              </a:path>
              <a:path w="621" h="373">
                <a:moveTo>
                  <a:pt x="22523" y="9128"/>
                </a:moveTo>
                <a:lnTo>
                  <a:pt x="22523" y="912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62840" y="3473280"/>
            <a:ext cx="689040" cy="268560"/>
          </a:xfrm>
          <a:custGeom>
            <a:avLst/>
            <a:gdLst/>
            <a:ahLst/>
            <a:rect l="l" t="t" r="r" b="b"/>
            <a:pathLst>
              <a:path w="1910" h="745">
                <a:moveTo>
                  <a:pt x="19621" y="9674"/>
                </a:moveTo>
                <a:cubicBezTo>
                  <a:pt x="19660" y="9819"/>
                  <a:pt x="19688" y="10043"/>
                  <a:pt x="19769" y="10170"/>
                </a:cubicBezTo>
                <a:cubicBezTo>
                  <a:pt x="19777" y="10170"/>
                  <a:pt x="19786" y="10170"/>
                  <a:pt x="19794" y="10170"/>
                </a:cubicBezTo>
              </a:path>
              <a:path w="1910" h="745">
                <a:moveTo>
                  <a:pt x="20067" y="9897"/>
                </a:moveTo>
                <a:cubicBezTo>
                  <a:pt x="20067" y="9880"/>
                  <a:pt x="20067" y="9864"/>
                  <a:pt x="20067" y="9847"/>
                </a:cubicBezTo>
                <a:cubicBezTo>
                  <a:pt x="19944" y="9915"/>
                  <a:pt x="19964" y="9955"/>
                  <a:pt x="19943" y="10096"/>
                </a:cubicBezTo>
                <a:cubicBezTo>
                  <a:pt x="20098" y="10126"/>
                  <a:pt x="20124" y="10075"/>
                  <a:pt x="20166" y="9922"/>
                </a:cubicBezTo>
                <a:cubicBezTo>
                  <a:pt x="20186" y="10001"/>
                  <a:pt x="20209" y="10010"/>
                  <a:pt x="20290" y="10021"/>
                </a:cubicBezTo>
                <a:cubicBezTo>
                  <a:pt x="20344" y="10021"/>
                  <a:pt x="20365" y="9995"/>
                  <a:pt x="20365" y="9922"/>
                </a:cubicBezTo>
              </a:path>
              <a:path w="1910" h="745">
                <a:moveTo>
                  <a:pt x="20389" y="10021"/>
                </a:moveTo>
                <a:cubicBezTo>
                  <a:pt x="20438" y="10005"/>
                  <a:pt x="20415" y="9904"/>
                  <a:pt x="20439" y="9847"/>
                </a:cubicBezTo>
                <a:cubicBezTo>
                  <a:pt x="20491" y="9769"/>
                  <a:pt x="20512" y="9746"/>
                  <a:pt x="20588" y="9798"/>
                </a:cubicBezTo>
              </a:path>
              <a:path w="1910" h="745">
                <a:moveTo>
                  <a:pt x="20737" y="9823"/>
                </a:moveTo>
                <a:cubicBezTo>
                  <a:pt x="20661" y="9873"/>
                  <a:pt x="20548" y="10034"/>
                  <a:pt x="20638" y="10046"/>
                </a:cubicBezTo>
                <a:cubicBezTo>
                  <a:pt x="20775" y="10064"/>
                  <a:pt x="20754" y="9892"/>
                  <a:pt x="20762" y="9823"/>
                </a:cubicBezTo>
                <a:cubicBezTo>
                  <a:pt x="20834" y="9932"/>
                  <a:pt x="20901" y="10136"/>
                  <a:pt x="20886" y="10269"/>
                </a:cubicBezTo>
                <a:cubicBezTo>
                  <a:pt x="20864" y="10468"/>
                  <a:pt x="20724" y="10362"/>
                  <a:pt x="20638" y="10319"/>
                </a:cubicBezTo>
              </a:path>
              <a:path w="1910" h="745">
                <a:moveTo>
                  <a:pt x="21010" y="9872"/>
                </a:moveTo>
                <a:cubicBezTo>
                  <a:pt x="21095" y="9855"/>
                  <a:pt x="21115" y="9825"/>
                  <a:pt x="21134" y="9748"/>
                </a:cubicBezTo>
                <a:cubicBezTo>
                  <a:pt x="21060" y="9776"/>
                  <a:pt x="20934" y="9943"/>
                  <a:pt x="21084" y="9996"/>
                </a:cubicBezTo>
                <a:cubicBezTo>
                  <a:pt x="21264" y="10059"/>
                  <a:pt x="21271" y="9791"/>
                  <a:pt x="21357" y="9823"/>
                </a:cubicBezTo>
                <a:cubicBezTo>
                  <a:pt x="21357" y="9858"/>
                  <a:pt x="21362" y="9875"/>
                  <a:pt x="21382" y="9897"/>
                </a:cubicBezTo>
                <a:cubicBezTo>
                  <a:pt x="21364" y="9825"/>
                  <a:pt x="21351" y="9695"/>
                  <a:pt x="21456" y="9649"/>
                </a:cubicBezTo>
                <a:cubicBezTo>
                  <a:pt x="21481" y="9657"/>
                  <a:pt x="21505" y="9666"/>
                  <a:pt x="21530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9720" y="3348000"/>
            <a:ext cx="1054080" cy="339840"/>
          </a:xfrm>
          <a:custGeom>
            <a:avLst/>
            <a:gdLst/>
            <a:ahLst/>
            <a:rect l="l" t="t" r="r" b="b"/>
            <a:pathLst>
              <a:path w="2928" h="943">
                <a:moveTo>
                  <a:pt x="22051" y="9426"/>
                </a:moveTo>
                <a:cubicBezTo>
                  <a:pt x="22084" y="9542"/>
                  <a:pt x="22173" y="9871"/>
                  <a:pt x="22200" y="9897"/>
                </a:cubicBezTo>
              </a:path>
              <a:path w="2928" h="943">
                <a:moveTo>
                  <a:pt x="22027" y="9798"/>
                </a:moveTo>
                <a:cubicBezTo>
                  <a:pt x="22295" y="9763"/>
                  <a:pt x="22330" y="9712"/>
                  <a:pt x="22399" y="9451"/>
                </a:cubicBezTo>
                <a:cubicBezTo>
                  <a:pt x="22366" y="9564"/>
                  <a:pt x="22424" y="9741"/>
                  <a:pt x="22448" y="9872"/>
                </a:cubicBezTo>
                <a:cubicBezTo>
                  <a:pt x="22448" y="9801"/>
                  <a:pt x="22444" y="9553"/>
                  <a:pt x="22572" y="9599"/>
                </a:cubicBezTo>
                <a:cubicBezTo>
                  <a:pt x="22704" y="9646"/>
                  <a:pt x="22673" y="9824"/>
                  <a:pt x="22771" y="9872"/>
                </a:cubicBezTo>
              </a:path>
              <a:path w="2928" h="943">
                <a:moveTo>
                  <a:pt x="22969" y="9550"/>
                </a:moveTo>
                <a:cubicBezTo>
                  <a:pt x="22925" y="9578"/>
                  <a:pt x="22721" y="9770"/>
                  <a:pt x="22820" y="9847"/>
                </a:cubicBezTo>
                <a:cubicBezTo>
                  <a:pt x="22940" y="9940"/>
                  <a:pt x="22982" y="9685"/>
                  <a:pt x="22994" y="9649"/>
                </a:cubicBezTo>
                <a:cubicBezTo>
                  <a:pt x="23037" y="9719"/>
                  <a:pt x="23045" y="9841"/>
                  <a:pt x="23168" y="9773"/>
                </a:cubicBezTo>
                <a:cubicBezTo>
                  <a:pt x="23265" y="9719"/>
                  <a:pt x="23298" y="9565"/>
                  <a:pt x="23316" y="9748"/>
                </a:cubicBezTo>
                <a:cubicBezTo>
                  <a:pt x="23316" y="9779"/>
                  <a:pt x="23325" y="9616"/>
                  <a:pt x="23366" y="9575"/>
                </a:cubicBezTo>
                <a:cubicBezTo>
                  <a:pt x="23460" y="9481"/>
                  <a:pt x="23544" y="9716"/>
                  <a:pt x="23589" y="9773"/>
                </a:cubicBezTo>
              </a:path>
              <a:path w="2928" h="943">
                <a:moveTo>
                  <a:pt x="23961" y="9525"/>
                </a:moveTo>
                <a:cubicBezTo>
                  <a:pt x="23971" y="9587"/>
                  <a:pt x="24129" y="9862"/>
                  <a:pt x="24135" y="9649"/>
                </a:cubicBezTo>
                <a:cubicBezTo>
                  <a:pt x="24112" y="9533"/>
                  <a:pt x="24105" y="9500"/>
                  <a:pt x="24085" y="9426"/>
                </a:cubicBezTo>
                <a:cubicBezTo>
                  <a:pt x="24042" y="9606"/>
                  <a:pt x="24191" y="9825"/>
                  <a:pt x="24160" y="10021"/>
                </a:cubicBezTo>
                <a:cubicBezTo>
                  <a:pt x="24130" y="10210"/>
                  <a:pt x="24043" y="10219"/>
                  <a:pt x="23912" y="10220"/>
                </a:cubicBezTo>
                <a:cubicBezTo>
                  <a:pt x="23871" y="9964"/>
                  <a:pt x="23996" y="9902"/>
                  <a:pt x="24185" y="9723"/>
                </a:cubicBezTo>
              </a:path>
              <a:path w="2928" h="943">
                <a:moveTo>
                  <a:pt x="24284" y="9451"/>
                </a:moveTo>
                <a:cubicBezTo>
                  <a:pt x="24169" y="9523"/>
                  <a:pt x="24132" y="9583"/>
                  <a:pt x="24160" y="9723"/>
                </a:cubicBezTo>
                <a:cubicBezTo>
                  <a:pt x="24318" y="9737"/>
                  <a:pt x="24388" y="9640"/>
                  <a:pt x="24284" y="9475"/>
                </a:cubicBezTo>
                <a:cubicBezTo>
                  <a:pt x="24267" y="9467"/>
                  <a:pt x="24251" y="9459"/>
                  <a:pt x="24234" y="9451"/>
                </a:cubicBezTo>
              </a:path>
              <a:path w="2928" h="943">
                <a:moveTo>
                  <a:pt x="24333" y="9451"/>
                </a:moveTo>
                <a:cubicBezTo>
                  <a:pt x="24366" y="9529"/>
                  <a:pt x="24392" y="9676"/>
                  <a:pt x="24482" y="9699"/>
                </a:cubicBezTo>
                <a:cubicBezTo>
                  <a:pt x="24539" y="9599"/>
                  <a:pt x="24573" y="9511"/>
                  <a:pt x="24606" y="9401"/>
                </a:cubicBezTo>
                <a:cubicBezTo>
                  <a:pt x="24617" y="9464"/>
                  <a:pt x="24652" y="9624"/>
                  <a:pt x="24755" y="9599"/>
                </a:cubicBezTo>
                <a:cubicBezTo>
                  <a:pt x="24785" y="9540"/>
                  <a:pt x="24800" y="9514"/>
                  <a:pt x="24829" y="9475"/>
                </a:cubicBezTo>
              </a:path>
              <a:path w="2928" h="943">
                <a:moveTo>
                  <a:pt x="24829" y="9500"/>
                </a:moveTo>
                <a:cubicBezTo>
                  <a:pt x="24821" y="9517"/>
                  <a:pt x="24813" y="9533"/>
                  <a:pt x="24805" y="9550"/>
                </a:cubicBezTo>
                <a:cubicBezTo>
                  <a:pt x="24805" y="9449"/>
                  <a:pt x="24826" y="9397"/>
                  <a:pt x="24904" y="9327"/>
                </a:cubicBezTo>
                <a:cubicBezTo>
                  <a:pt x="24952" y="9303"/>
                  <a:pt x="24969" y="9292"/>
                  <a:pt x="24954" y="9351"/>
                </a:cubicBezTo>
              </a:path>
              <a:path w="2928" h="943">
                <a:moveTo>
                  <a:pt x="24954" y="9351"/>
                </a:moveTo>
                <a:lnTo>
                  <a:pt x="24954" y="935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1920" y="3724200"/>
            <a:ext cx="938160" cy="196920"/>
          </a:xfrm>
          <a:custGeom>
            <a:avLst/>
            <a:gdLst/>
            <a:ahLst/>
            <a:rect l="l" t="t" r="r" b="b"/>
            <a:pathLst>
              <a:path w="2606" h="546">
                <a:moveTo>
                  <a:pt x="20141" y="10517"/>
                </a:moveTo>
                <a:cubicBezTo>
                  <a:pt x="20121" y="10390"/>
                  <a:pt x="20065" y="10360"/>
                  <a:pt x="19943" y="10344"/>
                </a:cubicBezTo>
                <a:cubicBezTo>
                  <a:pt x="19926" y="10344"/>
                  <a:pt x="19910" y="10344"/>
                  <a:pt x="19893" y="10344"/>
                </a:cubicBezTo>
                <a:cubicBezTo>
                  <a:pt x="19836" y="10519"/>
                  <a:pt x="19902" y="10685"/>
                  <a:pt x="19943" y="10864"/>
                </a:cubicBezTo>
                <a:cubicBezTo>
                  <a:pt x="19943" y="10872"/>
                  <a:pt x="19943" y="10881"/>
                  <a:pt x="19943" y="10889"/>
                </a:cubicBezTo>
              </a:path>
              <a:path w="2606" h="546">
                <a:moveTo>
                  <a:pt x="19670" y="10716"/>
                </a:moveTo>
                <a:cubicBezTo>
                  <a:pt x="19862" y="10716"/>
                  <a:pt x="19938" y="10712"/>
                  <a:pt x="20067" y="10666"/>
                </a:cubicBezTo>
              </a:path>
              <a:path w="2606" h="546">
                <a:moveTo>
                  <a:pt x="20067" y="10666"/>
                </a:moveTo>
                <a:lnTo>
                  <a:pt x="20067" y="10666"/>
                </a:lnTo>
              </a:path>
              <a:path w="2606" h="546">
                <a:moveTo>
                  <a:pt x="20315" y="10641"/>
                </a:moveTo>
                <a:cubicBezTo>
                  <a:pt x="20191" y="10610"/>
                  <a:pt x="20171" y="10655"/>
                  <a:pt x="20141" y="10790"/>
                </a:cubicBezTo>
                <a:cubicBezTo>
                  <a:pt x="20141" y="10815"/>
                  <a:pt x="20141" y="10839"/>
                  <a:pt x="20141" y="10864"/>
                </a:cubicBezTo>
                <a:cubicBezTo>
                  <a:pt x="20296" y="10829"/>
                  <a:pt x="20346" y="10776"/>
                  <a:pt x="20389" y="10616"/>
                </a:cubicBezTo>
                <a:cubicBezTo>
                  <a:pt x="20482" y="10781"/>
                  <a:pt x="20438" y="10773"/>
                  <a:pt x="20613" y="10716"/>
                </a:cubicBezTo>
              </a:path>
              <a:path w="2606" h="546">
                <a:moveTo>
                  <a:pt x="20737" y="10567"/>
                </a:moveTo>
                <a:cubicBezTo>
                  <a:pt x="20782" y="10567"/>
                  <a:pt x="20701" y="10509"/>
                  <a:pt x="20662" y="10592"/>
                </a:cubicBezTo>
                <a:cubicBezTo>
                  <a:pt x="20559" y="10815"/>
                  <a:pt x="20798" y="10809"/>
                  <a:pt x="20910" y="10691"/>
                </a:cubicBezTo>
                <a:cubicBezTo>
                  <a:pt x="20951" y="10633"/>
                  <a:pt x="20993" y="10575"/>
                  <a:pt x="21034" y="10517"/>
                </a:cubicBezTo>
              </a:path>
              <a:path w="2606" h="546">
                <a:moveTo>
                  <a:pt x="21034" y="10344"/>
                </a:moveTo>
                <a:cubicBezTo>
                  <a:pt x="21061" y="10486"/>
                  <a:pt x="21027" y="10863"/>
                  <a:pt x="21134" y="10765"/>
                </a:cubicBezTo>
                <a:cubicBezTo>
                  <a:pt x="21134" y="10749"/>
                  <a:pt x="21134" y="10732"/>
                  <a:pt x="21134" y="10716"/>
                </a:cubicBezTo>
              </a:path>
              <a:path w="2606" h="546">
                <a:moveTo>
                  <a:pt x="21134" y="10716"/>
                </a:moveTo>
                <a:lnTo>
                  <a:pt x="21134" y="10716"/>
                </a:lnTo>
              </a:path>
              <a:path w="2606" h="546">
                <a:moveTo>
                  <a:pt x="20960" y="10492"/>
                </a:moveTo>
                <a:cubicBezTo>
                  <a:pt x="21094" y="10470"/>
                  <a:pt x="21225" y="10448"/>
                  <a:pt x="21357" y="10418"/>
                </a:cubicBezTo>
                <a:cubicBezTo>
                  <a:pt x="21357" y="10524"/>
                  <a:pt x="21266" y="10614"/>
                  <a:pt x="21332" y="10716"/>
                </a:cubicBezTo>
                <a:cubicBezTo>
                  <a:pt x="21378" y="10787"/>
                  <a:pt x="21613" y="10634"/>
                  <a:pt x="21506" y="10492"/>
                </a:cubicBezTo>
                <a:cubicBezTo>
                  <a:pt x="21410" y="10445"/>
                  <a:pt x="21380" y="10428"/>
                  <a:pt x="21307" y="10443"/>
                </a:cubicBezTo>
              </a:path>
              <a:path w="2606" h="546">
                <a:moveTo>
                  <a:pt x="21654" y="10592"/>
                </a:moveTo>
                <a:cubicBezTo>
                  <a:pt x="21662" y="10625"/>
                  <a:pt x="21671" y="10658"/>
                  <a:pt x="21679" y="10691"/>
                </a:cubicBezTo>
                <a:cubicBezTo>
                  <a:pt x="21679" y="10590"/>
                  <a:pt x="21671" y="10466"/>
                  <a:pt x="21754" y="10393"/>
                </a:cubicBezTo>
                <a:cubicBezTo>
                  <a:pt x="21770" y="10393"/>
                  <a:pt x="21787" y="10393"/>
                  <a:pt x="21803" y="10393"/>
                </a:cubicBezTo>
              </a:path>
              <a:path w="2606" h="546">
                <a:moveTo>
                  <a:pt x="22076" y="10393"/>
                </a:moveTo>
                <a:cubicBezTo>
                  <a:pt x="22032" y="10438"/>
                  <a:pt x="22016" y="10448"/>
                  <a:pt x="22027" y="10492"/>
                </a:cubicBezTo>
                <a:cubicBezTo>
                  <a:pt x="22126" y="10514"/>
                  <a:pt x="22189" y="10546"/>
                  <a:pt x="22275" y="10592"/>
                </a:cubicBezTo>
                <a:cubicBezTo>
                  <a:pt x="22226" y="10738"/>
                  <a:pt x="22223" y="10691"/>
                  <a:pt x="22076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04000" y="4010040"/>
            <a:ext cx="696960" cy="222120"/>
          </a:xfrm>
          <a:custGeom>
            <a:avLst/>
            <a:gdLst/>
            <a:ahLst/>
            <a:rect l="l" t="t" r="r" b="b"/>
            <a:pathLst>
              <a:path w="1936" h="621">
                <a:moveTo>
                  <a:pt x="18901" y="11509"/>
                </a:moveTo>
                <a:cubicBezTo>
                  <a:pt x="18920" y="11565"/>
                  <a:pt x="19023" y="11526"/>
                  <a:pt x="19075" y="11509"/>
                </a:cubicBezTo>
                <a:cubicBezTo>
                  <a:pt x="19115" y="11489"/>
                  <a:pt x="19122" y="11481"/>
                  <a:pt x="19149" y="11485"/>
                </a:cubicBezTo>
              </a:path>
              <a:path w="1936" h="621">
                <a:moveTo>
                  <a:pt x="19323" y="11435"/>
                </a:moveTo>
                <a:cubicBezTo>
                  <a:pt x="19350" y="11544"/>
                  <a:pt x="19386" y="11642"/>
                  <a:pt x="19397" y="11757"/>
                </a:cubicBezTo>
                <a:cubicBezTo>
                  <a:pt x="19372" y="11659"/>
                  <a:pt x="19243" y="11481"/>
                  <a:pt x="19422" y="11435"/>
                </a:cubicBezTo>
                <a:cubicBezTo>
                  <a:pt x="19606" y="11387"/>
                  <a:pt x="19679" y="11551"/>
                  <a:pt x="19745" y="11683"/>
                </a:cubicBezTo>
              </a:path>
              <a:path w="1936" h="621">
                <a:moveTo>
                  <a:pt x="19769" y="11534"/>
                </a:moveTo>
                <a:cubicBezTo>
                  <a:pt x="19859" y="11534"/>
                  <a:pt x="19941" y="11530"/>
                  <a:pt x="20017" y="11509"/>
                </a:cubicBezTo>
                <a:cubicBezTo>
                  <a:pt x="20025" y="11509"/>
                  <a:pt x="20034" y="11509"/>
                  <a:pt x="20042" y="11509"/>
                </a:cubicBezTo>
                <a:cubicBezTo>
                  <a:pt x="19996" y="11464"/>
                  <a:pt x="19935" y="11380"/>
                  <a:pt x="19893" y="11435"/>
                </a:cubicBezTo>
                <a:cubicBezTo>
                  <a:pt x="19822" y="11528"/>
                  <a:pt x="19803" y="11727"/>
                  <a:pt x="19968" y="11733"/>
                </a:cubicBezTo>
                <a:cubicBezTo>
                  <a:pt x="19993" y="11725"/>
                  <a:pt x="20017" y="11716"/>
                  <a:pt x="20042" y="11708"/>
                </a:cubicBezTo>
              </a:path>
              <a:path w="1936" h="621">
                <a:moveTo>
                  <a:pt x="20191" y="11559"/>
                </a:moveTo>
                <a:cubicBezTo>
                  <a:pt x="20234" y="11544"/>
                  <a:pt x="20367" y="11530"/>
                  <a:pt x="20389" y="11485"/>
                </a:cubicBezTo>
                <a:cubicBezTo>
                  <a:pt x="20389" y="11457"/>
                  <a:pt x="20387" y="11446"/>
                  <a:pt x="20365" y="11435"/>
                </a:cubicBezTo>
                <a:cubicBezTo>
                  <a:pt x="20221" y="11451"/>
                  <a:pt x="20197" y="11499"/>
                  <a:pt x="20166" y="11633"/>
                </a:cubicBezTo>
                <a:cubicBezTo>
                  <a:pt x="20317" y="11720"/>
                  <a:pt x="20442" y="11638"/>
                  <a:pt x="20588" y="11559"/>
                </a:cubicBezTo>
                <a:cubicBezTo>
                  <a:pt x="20676" y="11511"/>
                  <a:pt x="20662" y="11514"/>
                  <a:pt x="20662" y="11435"/>
                </a:cubicBezTo>
                <a:cubicBezTo>
                  <a:pt x="20537" y="11407"/>
                  <a:pt x="20439" y="11506"/>
                  <a:pt x="20464" y="11658"/>
                </a:cubicBezTo>
                <a:cubicBezTo>
                  <a:pt x="20480" y="11675"/>
                  <a:pt x="20497" y="11691"/>
                  <a:pt x="20513" y="11708"/>
                </a:cubicBezTo>
                <a:cubicBezTo>
                  <a:pt x="20762" y="11708"/>
                  <a:pt x="20736" y="11505"/>
                  <a:pt x="20712" y="11286"/>
                </a:cubicBezTo>
                <a:cubicBezTo>
                  <a:pt x="20704" y="11245"/>
                  <a:pt x="20695" y="11203"/>
                  <a:pt x="20687" y="11162"/>
                </a:cubicBezTo>
                <a:cubicBezTo>
                  <a:pt x="20600" y="11104"/>
                  <a:pt x="20689" y="11307"/>
                  <a:pt x="20712" y="11410"/>
                </a:cubicBezTo>
                <a:cubicBezTo>
                  <a:pt x="20735" y="11526"/>
                  <a:pt x="20736" y="11565"/>
                  <a:pt x="20836" y="115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61160" y="3963960"/>
            <a:ext cx="250920" cy="179280"/>
          </a:xfrm>
          <a:custGeom>
            <a:avLst/>
            <a:gdLst/>
            <a:ahLst/>
            <a:rect l="l" t="t" r="r" b="b"/>
            <a:pathLst>
              <a:path w="696" h="497">
                <a:moveTo>
                  <a:pt x="21382" y="11013"/>
                </a:moveTo>
                <a:cubicBezTo>
                  <a:pt x="21404" y="11190"/>
                  <a:pt x="21451" y="11350"/>
                  <a:pt x="21530" y="11509"/>
                </a:cubicBezTo>
              </a:path>
              <a:path w="696" h="497">
                <a:moveTo>
                  <a:pt x="21282" y="11286"/>
                </a:moveTo>
                <a:cubicBezTo>
                  <a:pt x="21426" y="11286"/>
                  <a:pt x="21562" y="11268"/>
                  <a:pt x="21704" y="11261"/>
                </a:cubicBezTo>
                <a:cubicBezTo>
                  <a:pt x="21712" y="11261"/>
                  <a:pt x="21721" y="11261"/>
                  <a:pt x="21729" y="11261"/>
                </a:cubicBezTo>
                <a:cubicBezTo>
                  <a:pt x="21729" y="11363"/>
                  <a:pt x="21717" y="11544"/>
                  <a:pt x="21878" y="11509"/>
                </a:cubicBezTo>
                <a:cubicBezTo>
                  <a:pt x="22057" y="11470"/>
                  <a:pt x="21959" y="11310"/>
                  <a:pt x="21878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45280" y="3911760"/>
            <a:ext cx="777960" cy="339480"/>
          </a:xfrm>
          <a:custGeom>
            <a:avLst/>
            <a:gdLst/>
            <a:ahLst/>
            <a:rect l="l" t="t" r="r" b="b"/>
            <a:pathLst>
              <a:path w="2159" h="944">
                <a:moveTo>
                  <a:pt x="22349" y="11286"/>
                </a:moveTo>
                <a:cubicBezTo>
                  <a:pt x="22367" y="11359"/>
                  <a:pt x="22424" y="11424"/>
                  <a:pt x="22473" y="11485"/>
                </a:cubicBezTo>
                <a:cubicBezTo>
                  <a:pt x="22443" y="11411"/>
                  <a:pt x="22329" y="11357"/>
                  <a:pt x="22399" y="11261"/>
                </a:cubicBezTo>
                <a:cubicBezTo>
                  <a:pt x="22455" y="11184"/>
                  <a:pt x="22567" y="11193"/>
                  <a:pt x="22647" y="11187"/>
                </a:cubicBezTo>
              </a:path>
              <a:path w="2159" h="944">
                <a:moveTo>
                  <a:pt x="22820" y="11286"/>
                </a:moveTo>
                <a:cubicBezTo>
                  <a:pt x="22904" y="11215"/>
                  <a:pt x="22937" y="11211"/>
                  <a:pt x="22969" y="11112"/>
                </a:cubicBezTo>
                <a:cubicBezTo>
                  <a:pt x="22800" y="11155"/>
                  <a:pt x="22800" y="11217"/>
                  <a:pt x="22820" y="11385"/>
                </a:cubicBezTo>
                <a:cubicBezTo>
                  <a:pt x="23025" y="11410"/>
                  <a:pt x="22997" y="11378"/>
                  <a:pt x="23118" y="11187"/>
                </a:cubicBezTo>
              </a:path>
              <a:path w="2159" h="944">
                <a:moveTo>
                  <a:pt x="23118" y="11112"/>
                </a:moveTo>
                <a:cubicBezTo>
                  <a:pt x="23172" y="11274"/>
                  <a:pt x="23228" y="11447"/>
                  <a:pt x="23292" y="11609"/>
                </a:cubicBezTo>
                <a:cubicBezTo>
                  <a:pt x="23316" y="11658"/>
                  <a:pt x="23324" y="11674"/>
                  <a:pt x="23267" y="11633"/>
                </a:cubicBezTo>
                <a:cubicBezTo>
                  <a:pt x="23204" y="11401"/>
                  <a:pt x="23125" y="11261"/>
                  <a:pt x="23341" y="11137"/>
                </a:cubicBezTo>
                <a:cubicBezTo>
                  <a:pt x="23400" y="11255"/>
                  <a:pt x="23420" y="11380"/>
                  <a:pt x="23217" y="11336"/>
                </a:cubicBezTo>
                <a:cubicBezTo>
                  <a:pt x="23184" y="11319"/>
                  <a:pt x="23151" y="11303"/>
                  <a:pt x="23118" y="11286"/>
                </a:cubicBezTo>
              </a:path>
              <a:path w="2159" h="944">
                <a:moveTo>
                  <a:pt x="23118" y="11286"/>
                </a:moveTo>
                <a:lnTo>
                  <a:pt x="23118" y="11286"/>
                </a:lnTo>
              </a:path>
              <a:path w="2159" h="944">
                <a:moveTo>
                  <a:pt x="23391" y="11063"/>
                </a:moveTo>
                <a:cubicBezTo>
                  <a:pt x="23418" y="11151"/>
                  <a:pt x="23437" y="11211"/>
                  <a:pt x="23490" y="11286"/>
                </a:cubicBezTo>
                <a:cubicBezTo>
                  <a:pt x="23478" y="11189"/>
                  <a:pt x="23417" y="11089"/>
                  <a:pt x="23515" y="11013"/>
                </a:cubicBezTo>
                <a:cubicBezTo>
                  <a:pt x="23562" y="10977"/>
                  <a:pt x="23638" y="10973"/>
                  <a:pt x="23688" y="10939"/>
                </a:cubicBezTo>
                <a:cubicBezTo>
                  <a:pt x="23712" y="11009"/>
                  <a:pt x="23638" y="11188"/>
                  <a:pt x="23688" y="11261"/>
                </a:cubicBezTo>
                <a:cubicBezTo>
                  <a:pt x="23713" y="11269"/>
                  <a:pt x="23738" y="11278"/>
                  <a:pt x="23763" y="11286"/>
                </a:cubicBezTo>
                <a:cubicBezTo>
                  <a:pt x="23872" y="11190"/>
                  <a:pt x="23917" y="11090"/>
                  <a:pt x="23788" y="10988"/>
                </a:cubicBezTo>
                <a:cubicBezTo>
                  <a:pt x="23780" y="10988"/>
                  <a:pt x="23771" y="10988"/>
                  <a:pt x="23763" y="10988"/>
                </a:cubicBezTo>
              </a:path>
              <a:path w="2159" h="944">
                <a:moveTo>
                  <a:pt x="23912" y="10939"/>
                </a:moveTo>
                <a:cubicBezTo>
                  <a:pt x="23933" y="11026"/>
                  <a:pt x="23963" y="11203"/>
                  <a:pt x="24061" y="11237"/>
                </a:cubicBezTo>
                <a:cubicBezTo>
                  <a:pt x="24217" y="11291"/>
                  <a:pt x="24141" y="11070"/>
                  <a:pt x="24135" y="11013"/>
                </a:cubicBezTo>
                <a:cubicBezTo>
                  <a:pt x="24135" y="10966"/>
                  <a:pt x="24171" y="11137"/>
                  <a:pt x="24209" y="11187"/>
                </a:cubicBezTo>
                <a:cubicBezTo>
                  <a:pt x="24273" y="11273"/>
                  <a:pt x="24282" y="10992"/>
                  <a:pt x="24284" y="10964"/>
                </a:cubicBezTo>
                <a:cubicBezTo>
                  <a:pt x="24284" y="11102"/>
                  <a:pt x="24318" y="11226"/>
                  <a:pt x="24333" y="11361"/>
                </a:cubicBezTo>
                <a:cubicBezTo>
                  <a:pt x="24333" y="11386"/>
                  <a:pt x="24333" y="11410"/>
                  <a:pt x="24333" y="11435"/>
                </a:cubicBezTo>
                <a:cubicBezTo>
                  <a:pt x="24309" y="11311"/>
                  <a:pt x="24234" y="11197"/>
                  <a:pt x="24234" y="11063"/>
                </a:cubicBezTo>
                <a:cubicBezTo>
                  <a:pt x="24234" y="10894"/>
                  <a:pt x="24284" y="10891"/>
                  <a:pt x="24408" y="10864"/>
                </a:cubicBezTo>
                <a:cubicBezTo>
                  <a:pt x="24483" y="10947"/>
                  <a:pt x="24585" y="11098"/>
                  <a:pt x="24408" y="11162"/>
                </a:cubicBezTo>
                <a:cubicBezTo>
                  <a:pt x="24353" y="11182"/>
                  <a:pt x="24302" y="11164"/>
                  <a:pt x="24284" y="11137"/>
                </a:cubicBezTo>
              </a:path>
              <a:path w="2159" h="944">
                <a:moveTo>
                  <a:pt x="23118" y="11385"/>
                </a:moveTo>
                <a:cubicBezTo>
                  <a:pt x="23178" y="11338"/>
                  <a:pt x="23211" y="11356"/>
                  <a:pt x="23217" y="11286"/>
                </a:cubicBezTo>
                <a:cubicBezTo>
                  <a:pt x="23217" y="11258"/>
                  <a:pt x="23215" y="11247"/>
                  <a:pt x="23192" y="11237"/>
                </a:cubicBezTo>
                <a:cubicBezTo>
                  <a:pt x="23086" y="11197"/>
                  <a:pt x="23039" y="11204"/>
                  <a:pt x="23019" y="11336"/>
                </a:cubicBezTo>
                <a:cubicBezTo>
                  <a:pt x="22990" y="11524"/>
                  <a:pt x="23121" y="11462"/>
                  <a:pt x="23217" y="11385"/>
                </a:cubicBezTo>
                <a:cubicBezTo>
                  <a:pt x="23290" y="11312"/>
                  <a:pt x="23315" y="11290"/>
                  <a:pt x="23292" y="11212"/>
                </a:cubicBezTo>
                <a:cubicBezTo>
                  <a:pt x="23269" y="11189"/>
                  <a:pt x="23261" y="11178"/>
                  <a:pt x="23267" y="11212"/>
                </a:cubicBezTo>
                <a:cubicBezTo>
                  <a:pt x="23333" y="11365"/>
                  <a:pt x="23467" y="11595"/>
                  <a:pt x="23341" y="11757"/>
                </a:cubicBezTo>
                <a:cubicBezTo>
                  <a:pt x="23252" y="11802"/>
                  <a:pt x="23229" y="11822"/>
                  <a:pt x="23168" y="11782"/>
                </a:cubicBezTo>
                <a:cubicBezTo>
                  <a:pt x="23154" y="11570"/>
                  <a:pt x="23223" y="11565"/>
                  <a:pt x="23416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69120" y="4249800"/>
            <a:ext cx="714240" cy="162000"/>
          </a:xfrm>
          <a:custGeom>
            <a:avLst/>
            <a:gdLst/>
            <a:ahLst/>
            <a:rect l="l" t="t" r="r" b="b"/>
            <a:pathLst>
              <a:path w="1985" h="448">
                <a:moveTo>
                  <a:pt x="20241" y="12030"/>
                </a:moveTo>
                <a:cubicBezTo>
                  <a:pt x="20256" y="12090"/>
                  <a:pt x="20300" y="12296"/>
                  <a:pt x="20414" y="12254"/>
                </a:cubicBezTo>
                <a:cubicBezTo>
                  <a:pt x="20484" y="12228"/>
                  <a:pt x="20481" y="12137"/>
                  <a:pt x="20489" y="12080"/>
                </a:cubicBezTo>
                <a:cubicBezTo>
                  <a:pt x="20507" y="12127"/>
                  <a:pt x="20528" y="12162"/>
                  <a:pt x="20538" y="12204"/>
                </a:cubicBezTo>
                <a:cubicBezTo>
                  <a:pt x="20482" y="12119"/>
                  <a:pt x="20451" y="11995"/>
                  <a:pt x="20613" y="12030"/>
                </a:cubicBezTo>
                <a:cubicBezTo>
                  <a:pt x="20667" y="12042"/>
                  <a:pt x="20877" y="12155"/>
                  <a:pt x="20737" y="12179"/>
                </a:cubicBezTo>
              </a:path>
              <a:path w="1985" h="448">
                <a:moveTo>
                  <a:pt x="20191" y="11906"/>
                </a:moveTo>
                <a:cubicBezTo>
                  <a:pt x="20199" y="11914"/>
                  <a:pt x="20208" y="11923"/>
                  <a:pt x="20216" y="11931"/>
                </a:cubicBezTo>
              </a:path>
              <a:path w="1985" h="448">
                <a:moveTo>
                  <a:pt x="21233" y="11832"/>
                </a:moveTo>
                <a:cubicBezTo>
                  <a:pt x="21296" y="11959"/>
                  <a:pt x="21359" y="12083"/>
                  <a:pt x="21431" y="12204"/>
                </a:cubicBezTo>
              </a:path>
              <a:path w="1985" h="448">
                <a:moveTo>
                  <a:pt x="21183" y="12030"/>
                </a:moveTo>
                <a:cubicBezTo>
                  <a:pt x="21327" y="12044"/>
                  <a:pt x="21566" y="12091"/>
                  <a:pt x="21580" y="11881"/>
                </a:cubicBezTo>
                <a:cubicBezTo>
                  <a:pt x="21561" y="11824"/>
                  <a:pt x="21552" y="11781"/>
                  <a:pt x="21555" y="11832"/>
                </a:cubicBezTo>
                <a:cubicBezTo>
                  <a:pt x="21605" y="11931"/>
                  <a:pt x="21644" y="12025"/>
                  <a:pt x="21679" y="12129"/>
                </a:cubicBezTo>
                <a:cubicBezTo>
                  <a:pt x="21679" y="12060"/>
                  <a:pt x="21646" y="11896"/>
                  <a:pt x="21754" y="11956"/>
                </a:cubicBezTo>
                <a:cubicBezTo>
                  <a:pt x="21803" y="11983"/>
                  <a:pt x="21927" y="12119"/>
                  <a:pt x="21927" y="12080"/>
                </a:cubicBezTo>
              </a:path>
              <a:path w="1985" h="448">
                <a:moveTo>
                  <a:pt x="21977" y="11956"/>
                </a:moveTo>
                <a:cubicBezTo>
                  <a:pt x="22040" y="11956"/>
                  <a:pt x="22093" y="11939"/>
                  <a:pt x="22126" y="11906"/>
                </a:cubicBezTo>
                <a:cubicBezTo>
                  <a:pt x="22134" y="11898"/>
                  <a:pt x="22143" y="11889"/>
                  <a:pt x="22151" y="11881"/>
                </a:cubicBezTo>
                <a:cubicBezTo>
                  <a:pt x="22090" y="11881"/>
                  <a:pt x="22009" y="11935"/>
                  <a:pt x="22002" y="12005"/>
                </a:cubicBezTo>
                <a:cubicBezTo>
                  <a:pt x="21988" y="12155"/>
                  <a:pt x="22087" y="12137"/>
                  <a:pt x="22175" y="12129"/>
                </a:cubicBezTo>
              </a:path>
              <a:path w="1985" h="448">
                <a:moveTo>
                  <a:pt x="22175" y="12129"/>
                </a:moveTo>
                <a:lnTo>
                  <a:pt x="22175" y="1212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61200" y="4160880"/>
            <a:ext cx="858960" cy="322200"/>
          </a:xfrm>
          <a:custGeom>
            <a:avLst/>
            <a:gdLst/>
            <a:ahLst/>
            <a:rect l="l" t="t" r="r" b="b"/>
            <a:pathLst>
              <a:path w="2383" h="894">
                <a:moveTo>
                  <a:pt x="22820" y="11956"/>
                </a:moveTo>
                <a:cubicBezTo>
                  <a:pt x="22832" y="11992"/>
                  <a:pt x="22833" y="11992"/>
                  <a:pt x="22845" y="11956"/>
                </a:cubicBezTo>
                <a:cubicBezTo>
                  <a:pt x="22777" y="11887"/>
                  <a:pt x="22685" y="11902"/>
                  <a:pt x="22671" y="12030"/>
                </a:cubicBezTo>
                <a:cubicBezTo>
                  <a:pt x="22644" y="12281"/>
                  <a:pt x="22793" y="12142"/>
                  <a:pt x="22820" y="12005"/>
                </a:cubicBezTo>
                <a:cubicBezTo>
                  <a:pt x="22820" y="11997"/>
                  <a:pt x="22820" y="11989"/>
                  <a:pt x="22820" y="11981"/>
                </a:cubicBezTo>
                <a:cubicBezTo>
                  <a:pt x="22849" y="12065"/>
                  <a:pt x="22876" y="12074"/>
                  <a:pt x="22944" y="12129"/>
                </a:cubicBezTo>
                <a:cubicBezTo>
                  <a:pt x="23084" y="12014"/>
                  <a:pt x="23064" y="11914"/>
                  <a:pt x="22969" y="11733"/>
                </a:cubicBezTo>
                <a:cubicBezTo>
                  <a:pt x="22944" y="11708"/>
                  <a:pt x="22936" y="11700"/>
                  <a:pt x="22969" y="11733"/>
                </a:cubicBezTo>
                <a:cubicBezTo>
                  <a:pt x="23014" y="11839"/>
                  <a:pt x="23058" y="11959"/>
                  <a:pt x="23118" y="12055"/>
                </a:cubicBezTo>
              </a:path>
              <a:path w="2383" h="894">
                <a:moveTo>
                  <a:pt x="23416" y="11931"/>
                </a:moveTo>
                <a:cubicBezTo>
                  <a:pt x="23353" y="11855"/>
                  <a:pt x="23226" y="11870"/>
                  <a:pt x="23192" y="12005"/>
                </a:cubicBezTo>
                <a:cubicBezTo>
                  <a:pt x="23200" y="12030"/>
                  <a:pt x="23209" y="12055"/>
                  <a:pt x="23217" y="12080"/>
                </a:cubicBezTo>
                <a:cubicBezTo>
                  <a:pt x="23266" y="12072"/>
                  <a:pt x="23486" y="12022"/>
                  <a:pt x="23391" y="11931"/>
                </a:cubicBezTo>
                <a:cubicBezTo>
                  <a:pt x="23391" y="11939"/>
                  <a:pt x="23391" y="11948"/>
                  <a:pt x="23391" y="11956"/>
                </a:cubicBezTo>
                <a:cubicBezTo>
                  <a:pt x="23516" y="12155"/>
                  <a:pt x="23550" y="12180"/>
                  <a:pt x="23540" y="12402"/>
                </a:cubicBezTo>
                <a:cubicBezTo>
                  <a:pt x="23291" y="12462"/>
                  <a:pt x="23175" y="12460"/>
                  <a:pt x="23242" y="12204"/>
                </a:cubicBezTo>
              </a:path>
              <a:path w="2383" h="894">
                <a:moveTo>
                  <a:pt x="23589" y="11881"/>
                </a:moveTo>
                <a:cubicBezTo>
                  <a:pt x="23509" y="11978"/>
                  <a:pt x="23500" y="11983"/>
                  <a:pt x="23490" y="12105"/>
                </a:cubicBezTo>
                <a:cubicBezTo>
                  <a:pt x="23602" y="12080"/>
                  <a:pt x="23664" y="12010"/>
                  <a:pt x="23614" y="11881"/>
                </a:cubicBezTo>
                <a:cubicBezTo>
                  <a:pt x="23606" y="11881"/>
                  <a:pt x="23597" y="11881"/>
                  <a:pt x="23589" y="11881"/>
                </a:cubicBezTo>
                <a:cubicBezTo>
                  <a:pt x="23648" y="11896"/>
                  <a:pt x="23747" y="11983"/>
                  <a:pt x="23788" y="12030"/>
                </a:cubicBezTo>
                <a:cubicBezTo>
                  <a:pt x="23788" y="12038"/>
                  <a:pt x="23788" y="12047"/>
                  <a:pt x="23788" y="12055"/>
                </a:cubicBezTo>
                <a:cubicBezTo>
                  <a:pt x="23820" y="11977"/>
                  <a:pt x="23816" y="11888"/>
                  <a:pt x="23862" y="11807"/>
                </a:cubicBezTo>
              </a:path>
              <a:path w="2383" h="894">
                <a:moveTo>
                  <a:pt x="23986" y="11782"/>
                </a:moveTo>
                <a:cubicBezTo>
                  <a:pt x="23996" y="11818"/>
                  <a:pt x="24034" y="11976"/>
                  <a:pt x="24061" y="12005"/>
                </a:cubicBezTo>
                <a:cubicBezTo>
                  <a:pt x="24061" y="11997"/>
                  <a:pt x="24061" y="11989"/>
                  <a:pt x="24061" y="11981"/>
                </a:cubicBezTo>
              </a:path>
              <a:path w="2383" h="894">
                <a:moveTo>
                  <a:pt x="24061" y="11981"/>
                </a:moveTo>
                <a:lnTo>
                  <a:pt x="24061" y="11981"/>
                </a:lnTo>
              </a:path>
              <a:path w="2383" h="894">
                <a:moveTo>
                  <a:pt x="23961" y="11658"/>
                </a:moveTo>
                <a:lnTo>
                  <a:pt x="23961" y="11658"/>
                </a:lnTo>
              </a:path>
              <a:path w="2383" h="894">
                <a:moveTo>
                  <a:pt x="24160" y="11559"/>
                </a:moveTo>
                <a:cubicBezTo>
                  <a:pt x="24177" y="11710"/>
                  <a:pt x="24185" y="11853"/>
                  <a:pt x="24185" y="12005"/>
                </a:cubicBezTo>
                <a:cubicBezTo>
                  <a:pt x="24185" y="12038"/>
                  <a:pt x="24185" y="12038"/>
                  <a:pt x="24185" y="11981"/>
                </a:cubicBezTo>
              </a:path>
              <a:path w="2383" h="894">
                <a:moveTo>
                  <a:pt x="24036" y="11832"/>
                </a:moveTo>
                <a:cubicBezTo>
                  <a:pt x="24097" y="11893"/>
                  <a:pt x="24104" y="11918"/>
                  <a:pt x="24160" y="11906"/>
                </a:cubicBezTo>
                <a:cubicBezTo>
                  <a:pt x="24277" y="11789"/>
                  <a:pt x="24259" y="11743"/>
                  <a:pt x="24209" y="11584"/>
                </a:cubicBezTo>
                <a:cubicBezTo>
                  <a:pt x="24209" y="11713"/>
                  <a:pt x="24254" y="11830"/>
                  <a:pt x="24284" y="11956"/>
                </a:cubicBezTo>
                <a:cubicBezTo>
                  <a:pt x="24345" y="11773"/>
                  <a:pt x="24307" y="11770"/>
                  <a:pt x="24457" y="11881"/>
                </a:cubicBezTo>
                <a:cubicBezTo>
                  <a:pt x="24584" y="11975"/>
                  <a:pt x="24590" y="11869"/>
                  <a:pt x="24606" y="11757"/>
                </a:cubicBezTo>
                <a:cubicBezTo>
                  <a:pt x="24598" y="11749"/>
                  <a:pt x="24589" y="11741"/>
                  <a:pt x="24581" y="11733"/>
                </a:cubicBezTo>
                <a:cubicBezTo>
                  <a:pt x="24581" y="11862"/>
                  <a:pt x="24530" y="11963"/>
                  <a:pt x="24631" y="11807"/>
                </a:cubicBezTo>
                <a:cubicBezTo>
                  <a:pt x="24706" y="11691"/>
                  <a:pt x="24698" y="11750"/>
                  <a:pt x="24780" y="11857"/>
                </a:cubicBezTo>
                <a:cubicBezTo>
                  <a:pt x="24818" y="11794"/>
                  <a:pt x="24791" y="11761"/>
                  <a:pt x="24879" y="11757"/>
                </a:cubicBezTo>
                <a:cubicBezTo>
                  <a:pt x="24942" y="11754"/>
                  <a:pt x="25031" y="11768"/>
                  <a:pt x="25053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60680" y="4510080"/>
            <a:ext cx="6081480" cy="1428840"/>
          </a:xfrm>
          <a:custGeom>
            <a:avLst/>
            <a:gdLst/>
            <a:ahLst/>
            <a:rect l="l" t="t" r="r" b="b"/>
            <a:pathLst>
              <a:path w="16893" h="3970">
                <a:moveTo>
                  <a:pt x="6573" y="12725"/>
                </a:moveTo>
                <a:cubicBezTo>
                  <a:pt x="6471" y="12719"/>
                  <a:pt x="6452" y="12649"/>
                  <a:pt x="6350" y="12650"/>
                </a:cubicBezTo>
                <a:cubicBezTo>
                  <a:pt x="5982" y="12653"/>
                  <a:pt x="5461" y="12692"/>
                  <a:pt x="5259" y="13047"/>
                </a:cubicBezTo>
                <a:cubicBezTo>
                  <a:pt x="5089" y="13345"/>
                  <a:pt x="5256" y="13437"/>
                  <a:pt x="5358" y="13618"/>
                </a:cubicBezTo>
                <a:cubicBezTo>
                  <a:pt x="5415" y="13599"/>
                  <a:pt x="5440" y="13608"/>
                  <a:pt x="5432" y="13568"/>
                </a:cubicBezTo>
                <a:cubicBezTo>
                  <a:pt x="5223" y="13724"/>
                  <a:pt x="4958" y="13737"/>
                  <a:pt x="4787" y="14064"/>
                </a:cubicBezTo>
                <a:cubicBezTo>
                  <a:pt x="4609" y="14406"/>
                  <a:pt x="4427" y="15227"/>
                  <a:pt x="4787" y="15528"/>
                </a:cubicBezTo>
                <a:cubicBezTo>
                  <a:pt x="4909" y="15630"/>
                  <a:pt x="4957" y="15336"/>
                  <a:pt x="5085" y="15429"/>
                </a:cubicBezTo>
                <a:cubicBezTo>
                  <a:pt x="5068" y="15454"/>
                  <a:pt x="5052" y="15478"/>
                  <a:pt x="5035" y="15503"/>
                </a:cubicBezTo>
                <a:cubicBezTo>
                  <a:pt x="5195" y="16085"/>
                  <a:pt x="5274" y="16365"/>
                  <a:pt x="5978" y="16421"/>
                </a:cubicBezTo>
                <a:cubicBezTo>
                  <a:pt x="6163" y="16436"/>
                  <a:pt x="6395" y="16178"/>
                  <a:pt x="6548" y="16197"/>
                </a:cubicBezTo>
                <a:cubicBezTo>
                  <a:pt x="6645" y="16209"/>
                  <a:pt x="6868" y="16453"/>
                  <a:pt x="7045" y="16470"/>
                </a:cubicBezTo>
                <a:cubicBezTo>
                  <a:pt x="7714" y="16534"/>
                  <a:pt x="8098" y="16076"/>
                  <a:pt x="8632" y="16024"/>
                </a:cubicBezTo>
                <a:cubicBezTo>
                  <a:pt x="8812" y="16006"/>
                  <a:pt x="9097" y="16185"/>
                  <a:pt x="9302" y="16197"/>
                </a:cubicBezTo>
                <a:cubicBezTo>
                  <a:pt x="9891" y="16231"/>
                  <a:pt x="10403" y="15792"/>
                  <a:pt x="10889" y="15776"/>
                </a:cubicBezTo>
                <a:cubicBezTo>
                  <a:pt x="11026" y="15771"/>
                  <a:pt x="11026" y="15879"/>
                  <a:pt x="11187" y="15900"/>
                </a:cubicBezTo>
                <a:cubicBezTo>
                  <a:pt x="11749" y="15973"/>
                  <a:pt x="12342" y="15843"/>
                  <a:pt x="12874" y="15900"/>
                </a:cubicBezTo>
                <a:cubicBezTo>
                  <a:pt x="13173" y="15932"/>
                  <a:pt x="13443" y="16108"/>
                  <a:pt x="13767" y="16123"/>
                </a:cubicBezTo>
                <a:cubicBezTo>
                  <a:pt x="14030" y="16135"/>
                  <a:pt x="14485" y="15929"/>
                  <a:pt x="14660" y="15949"/>
                </a:cubicBezTo>
                <a:cubicBezTo>
                  <a:pt x="14868" y="15972"/>
                  <a:pt x="15097" y="16090"/>
                  <a:pt x="15354" y="16098"/>
                </a:cubicBezTo>
                <a:cubicBezTo>
                  <a:pt x="15788" y="16112"/>
                  <a:pt x="16319" y="15928"/>
                  <a:pt x="16694" y="15949"/>
                </a:cubicBezTo>
                <a:cubicBezTo>
                  <a:pt x="17108" y="15972"/>
                  <a:pt x="17528" y="16087"/>
                  <a:pt x="17983" y="16024"/>
                </a:cubicBezTo>
                <a:cubicBezTo>
                  <a:pt x="18210" y="15993"/>
                  <a:pt x="18473" y="15889"/>
                  <a:pt x="18703" y="15900"/>
                </a:cubicBezTo>
                <a:cubicBezTo>
                  <a:pt x="18969" y="15913"/>
                  <a:pt x="19225" y="16014"/>
                  <a:pt x="19521" y="15999"/>
                </a:cubicBezTo>
                <a:cubicBezTo>
                  <a:pt x="19989" y="15975"/>
                  <a:pt x="20201" y="15783"/>
                  <a:pt x="20563" y="15602"/>
                </a:cubicBezTo>
                <a:cubicBezTo>
                  <a:pt x="20633" y="15567"/>
                  <a:pt x="20609" y="15552"/>
                  <a:pt x="20712" y="15503"/>
                </a:cubicBezTo>
                <a:cubicBezTo>
                  <a:pt x="20945" y="15392"/>
                  <a:pt x="21267" y="15424"/>
                  <a:pt x="21282" y="15081"/>
                </a:cubicBezTo>
                <a:cubicBezTo>
                  <a:pt x="21292" y="14854"/>
                  <a:pt x="21051" y="14645"/>
                  <a:pt x="20960" y="14461"/>
                </a:cubicBezTo>
                <a:cubicBezTo>
                  <a:pt x="21094" y="14334"/>
                  <a:pt x="21296" y="14272"/>
                  <a:pt x="21382" y="14089"/>
                </a:cubicBezTo>
                <a:cubicBezTo>
                  <a:pt x="21621" y="13577"/>
                  <a:pt x="21444" y="13222"/>
                  <a:pt x="21109" y="12849"/>
                </a:cubicBezTo>
                <a:cubicBezTo>
                  <a:pt x="20965" y="12688"/>
                  <a:pt x="20855" y="12621"/>
                  <a:pt x="20613" y="12551"/>
                </a:cubicBezTo>
                <a:cubicBezTo>
                  <a:pt x="20079" y="12396"/>
                  <a:pt x="19652" y="12778"/>
                  <a:pt x="19224" y="12774"/>
                </a:cubicBezTo>
                <a:cubicBezTo>
                  <a:pt x="19181" y="12774"/>
                  <a:pt x="18798" y="12632"/>
                  <a:pt x="18728" y="12626"/>
                </a:cubicBezTo>
                <a:cubicBezTo>
                  <a:pt x="18102" y="12572"/>
                  <a:pt x="17628" y="12819"/>
                  <a:pt x="17066" y="12874"/>
                </a:cubicBezTo>
                <a:cubicBezTo>
                  <a:pt x="16842" y="12896"/>
                  <a:pt x="16605" y="12809"/>
                  <a:pt x="16371" y="12774"/>
                </a:cubicBezTo>
                <a:cubicBezTo>
                  <a:pt x="15823" y="12692"/>
                  <a:pt x="15227" y="12979"/>
                  <a:pt x="14759" y="12923"/>
                </a:cubicBezTo>
                <a:cubicBezTo>
                  <a:pt x="14691" y="12915"/>
                  <a:pt x="14415" y="12740"/>
                  <a:pt x="14288" y="12725"/>
                </a:cubicBezTo>
                <a:cubicBezTo>
                  <a:pt x="13715" y="12659"/>
                  <a:pt x="13218" y="12919"/>
                  <a:pt x="12675" y="12898"/>
                </a:cubicBezTo>
                <a:cubicBezTo>
                  <a:pt x="12468" y="12890"/>
                  <a:pt x="12281" y="12786"/>
                  <a:pt x="12055" y="12774"/>
                </a:cubicBezTo>
                <a:cubicBezTo>
                  <a:pt x="11475" y="12744"/>
                  <a:pt x="10908" y="12936"/>
                  <a:pt x="10344" y="12923"/>
                </a:cubicBezTo>
                <a:cubicBezTo>
                  <a:pt x="9894" y="12912"/>
                  <a:pt x="9174" y="13052"/>
                  <a:pt x="8781" y="12998"/>
                </a:cubicBezTo>
                <a:cubicBezTo>
                  <a:pt x="8745" y="12993"/>
                  <a:pt x="8672" y="12887"/>
                  <a:pt x="8582" y="12874"/>
                </a:cubicBezTo>
                <a:cubicBezTo>
                  <a:pt x="8013" y="12792"/>
                  <a:pt x="7495" y="12689"/>
                  <a:pt x="6921" y="12824"/>
                </a:cubicBezTo>
                <a:cubicBezTo>
                  <a:pt x="6884" y="12833"/>
                  <a:pt x="6782" y="12896"/>
                  <a:pt x="6772" y="12898"/>
                </a:cubicBezTo>
                <a:cubicBezTo>
                  <a:pt x="6728" y="12908"/>
                  <a:pt x="6686" y="12912"/>
                  <a:pt x="6648" y="12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review what we already know about fraction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581120" y="2610000"/>
                <a:ext cx="609480" cy="11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32520" y="4543560"/>
            <a:ext cx="564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it mean to simplify a fraction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he fraction above be simplified?  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73200" y="2830680"/>
            <a:ext cx="108000" cy="206280"/>
          </a:xfrm>
          <a:custGeom>
            <a:avLst/>
            <a:gdLst/>
            <a:ahLst/>
            <a:rect l="l" t="t" r="r" b="b"/>
            <a:pathLst>
              <a:path w="299" h="572">
                <a:moveTo>
                  <a:pt x="6871" y="8235"/>
                </a:moveTo>
                <a:cubicBezTo>
                  <a:pt x="6971" y="8218"/>
                  <a:pt x="7066" y="8193"/>
                  <a:pt x="7169" y="8186"/>
                </a:cubicBezTo>
              </a:path>
              <a:path w="299" h="572">
                <a:moveTo>
                  <a:pt x="7094" y="7863"/>
                </a:moveTo>
                <a:cubicBezTo>
                  <a:pt x="7094" y="7871"/>
                  <a:pt x="7094" y="7880"/>
                  <a:pt x="7094" y="7888"/>
                </a:cubicBezTo>
              </a:path>
              <a:path w="299" h="572">
                <a:moveTo>
                  <a:pt x="7094" y="7888"/>
                </a:moveTo>
                <a:lnTo>
                  <a:pt x="7094" y="7888"/>
                </a:lnTo>
              </a:path>
              <a:path w="299" h="572">
                <a:moveTo>
                  <a:pt x="7094" y="8434"/>
                </a:moveTo>
                <a:cubicBezTo>
                  <a:pt x="7102" y="8434"/>
                  <a:pt x="7111" y="8434"/>
                  <a:pt x="7119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97120" y="2830680"/>
            <a:ext cx="98640" cy="223560"/>
          </a:xfrm>
          <a:custGeom>
            <a:avLst/>
            <a:gdLst/>
            <a:ahLst/>
            <a:rect l="l" t="t" r="r" b="b"/>
            <a:pathLst>
              <a:path w="274" h="621">
                <a:moveTo>
                  <a:pt x="7491" y="8037"/>
                </a:moveTo>
                <a:cubicBezTo>
                  <a:pt x="7491" y="8087"/>
                  <a:pt x="7491" y="8136"/>
                  <a:pt x="7491" y="8186"/>
                </a:cubicBezTo>
                <a:cubicBezTo>
                  <a:pt x="7599" y="8186"/>
                  <a:pt x="7638" y="8174"/>
                  <a:pt x="7739" y="8136"/>
                </a:cubicBezTo>
              </a:path>
              <a:path w="274" h="621">
                <a:moveTo>
                  <a:pt x="7764" y="7863"/>
                </a:moveTo>
                <a:cubicBezTo>
                  <a:pt x="7740" y="8071"/>
                  <a:pt x="7739" y="8273"/>
                  <a:pt x="7739" y="8483"/>
                </a:cubicBezTo>
              </a:path>
              <a:path w="274" h="621">
                <a:moveTo>
                  <a:pt x="7739" y="8483"/>
                </a:moveTo>
                <a:lnTo>
                  <a:pt x="7739" y="848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73200" y="3295800"/>
            <a:ext cx="322560" cy="222120"/>
          </a:xfrm>
          <a:custGeom>
            <a:avLst/>
            <a:gdLst/>
            <a:ahLst/>
            <a:rect l="l" t="t" r="r" b="b"/>
            <a:pathLst>
              <a:path w="894" h="621">
                <a:moveTo>
                  <a:pt x="6871" y="9451"/>
                </a:moveTo>
                <a:cubicBezTo>
                  <a:pt x="6985" y="9451"/>
                  <a:pt x="7082" y="9442"/>
                  <a:pt x="7193" y="9426"/>
                </a:cubicBezTo>
                <a:cubicBezTo>
                  <a:pt x="7201" y="9426"/>
                  <a:pt x="7210" y="9426"/>
                  <a:pt x="7218" y="9426"/>
                </a:cubicBezTo>
              </a:path>
              <a:path w="894" h="621">
                <a:moveTo>
                  <a:pt x="7045" y="9203"/>
                </a:moveTo>
                <a:lnTo>
                  <a:pt x="7045" y="9203"/>
                </a:lnTo>
                <a:lnTo>
                  <a:pt x="7045" y="9203"/>
                </a:lnTo>
              </a:path>
              <a:path w="894" h="621">
                <a:moveTo>
                  <a:pt x="7045" y="9203"/>
                </a:moveTo>
                <a:lnTo>
                  <a:pt x="7045" y="9203"/>
                </a:lnTo>
              </a:path>
              <a:path w="894" h="621">
                <a:moveTo>
                  <a:pt x="7045" y="9649"/>
                </a:moveTo>
                <a:lnTo>
                  <a:pt x="7045" y="9649"/>
                </a:lnTo>
              </a:path>
              <a:path w="894" h="621">
                <a:moveTo>
                  <a:pt x="7441" y="9327"/>
                </a:moveTo>
                <a:cubicBezTo>
                  <a:pt x="7466" y="9370"/>
                  <a:pt x="7489" y="9441"/>
                  <a:pt x="7516" y="9451"/>
                </a:cubicBezTo>
                <a:cubicBezTo>
                  <a:pt x="7642" y="9499"/>
                  <a:pt x="7670" y="9448"/>
                  <a:pt x="7764" y="9376"/>
                </a:cubicBezTo>
              </a:path>
              <a:path w="894" h="621">
                <a:moveTo>
                  <a:pt x="7689" y="9153"/>
                </a:moveTo>
                <a:cubicBezTo>
                  <a:pt x="7697" y="9357"/>
                  <a:pt x="7730" y="9547"/>
                  <a:pt x="7764" y="9748"/>
                </a:cubicBezTo>
                <a:cubicBezTo>
                  <a:pt x="7764" y="9756"/>
                  <a:pt x="7764" y="9765"/>
                  <a:pt x="7764" y="9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39920" y="2133720"/>
            <a:ext cx="911160" cy="304560"/>
          </a:xfrm>
          <a:custGeom>
            <a:avLst/>
            <a:gdLst/>
            <a:ahLst/>
            <a:rect l="l" t="t" r="r" b="b"/>
            <a:pathLst>
              <a:path w="2531" h="845">
                <a:moveTo>
                  <a:pt x="3770" y="6251"/>
                </a:moveTo>
                <a:cubicBezTo>
                  <a:pt x="3793" y="6409"/>
                  <a:pt x="3847" y="6563"/>
                  <a:pt x="3870" y="6722"/>
                </a:cubicBezTo>
                <a:cubicBezTo>
                  <a:pt x="3870" y="6772"/>
                  <a:pt x="3870" y="6789"/>
                  <a:pt x="3870" y="6722"/>
                </a:cubicBezTo>
                <a:cubicBezTo>
                  <a:pt x="3785" y="6537"/>
                  <a:pt x="3629" y="6210"/>
                  <a:pt x="3746" y="6003"/>
                </a:cubicBezTo>
                <a:cubicBezTo>
                  <a:pt x="3771" y="5995"/>
                  <a:pt x="3795" y="5986"/>
                  <a:pt x="3820" y="5978"/>
                </a:cubicBezTo>
                <a:cubicBezTo>
                  <a:pt x="3969" y="6102"/>
                  <a:pt x="4131" y="6276"/>
                  <a:pt x="3870" y="6424"/>
                </a:cubicBezTo>
                <a:cubicBezTo>
                  <a:pt x="3779" y="6442"/>
                  <a:pt x="3772" y="6451"/>
                  <a:pt x="3721" y="6449"/>
                </a:cubicBezTo>
              </a:path>
              <a:path w="2531" h="845">
                <a:moveTo>
                  <a:pt x="4192" y="6201"/>
                </a:moveTo>
                <a:cubicBezTo>
                  <a:pt x="4243" y="6275"/>
                  <a:pt x="4295" y="6348"/>
                  <a:pt x="4341" y="6424"/>
                </a:cubicBezTo>
                <a:cubicBezTo>
                  <a:pt x="4330" y="6348"/>
                  <a:pt x="4241" y="6198"/>
                  <a:pt x="4291" y="6127"/>
                </a:cubicBezTo>
                <a:cubicBezTo>
                  <a:pt x="4311" y="6099"/>
                  <a:pt x="4559" y="6062"/>
                  <a:pt x="4589" y="6052"/>
                </a:cubicBezTo>
              </a:path>
              <a:path w="2531" h="845">
                <a:moveTo>
                  <a:pt x="4713" y="6052"/>
                </a:moveTo>
                <a:cubicBezTo>
                  <a:pt x="4630" y="6151"/>
                  <a:pt x="4582" y="6328"/>
                  <a:pt x="4663" y="6449"/>
                </a:cubicBezTo>
                <a:cubicBezTo>
                  <a:pt x="4688" y="6457"/>
                  <a:pt x="4713" y="6466"/>
                  <a:pt x="4738" y="6474"/>
                </a:cubicBezTo>
                <a:cubicBezTo>
                  <a:pt x="4794" y="6410"/>
                  <a:pt x="5050" y="6020"/>
                  <a:pt x="4787" y="6052"/>
                </a:cubicBezTo>
                <a:cubicBezTo>
                  <a:pt x="4762" y="6069"/>
                  <a:pt x="4738" y="6085"/>
                  <a:pt x="4713" y="6102"/>
                </a:cubicBezTo>
              </a:path>
              <a:path w="2531" h="845">
                <a:moveTo>
                  <a:pt x="4713" y="6102"/>
                </a:moveTo>
                <a:lnTo>
                  <a:pt x="4713" y="6102"/>
                </a:lnTo>
              </a:path>
              <a:path w="2531" h="845">
                <a:moveTo>
                  <a:pt x="5184" y="6152"/>
                </a:moveTo>
                <a:cubicBezTo>
                  <a:pt x="5184" y="6144"/>
                  <a:pt x="5184" y="6135"/>
                  <a:pt x="5184" y="6127"/>
                </a:cubicBezTo>
              </a:path>
              <a:path w="2531" h="845">
                <a:moveTo>
                  <a:pt x="5159" y="6127"/>
                </a:moveTo>
                <a:lnTo>
                  <a:pt x="5159" y="6127"/>
                </a:lnTo>
              </a:path>
              <a:path w="2531" h="845">
                <a:moveTo>
                  <a:pt x="5159" y="6127"/>
                </a:moveTo>
                <a:lnTo>
                  <a:pt x="5159" y="6127"/>
                </a:lnTo>
              </a:path>
              <a:path w="2531" h="845">
                <a:moveTo>
                  <a:pt x="5159" y="6152"/>
                </a:moveTo>
                <a:cubicBezTo>
                  <a:pt x="5205" y="6256"/>
                  <a:pt x="5382" y="6542"/>
                  <a:pt x="5333" y="6672"/>
                </a:cubicBezTo>
                <a:cubicBezTo>
                  <a:pt x="5325" y="6664"/>
                  <a:pt x="5316" y="6656"/>
                  <a:pt x="5308" y="6648"/>
                </a:cubicBezTo>
                <a:cubicBezTo>
                  <a:pt x="5177" y="6404"/>
                  <a:pt x="5114" y="6278"/>
                  <a:pt x="5234" y="6028"/>
                </a:cubicBezTo>
                <a:cubicBezTo>
                  <a:pt x="5364" y="6069"/>
                  <a:pt x="5625" y="6172"/>
                  <a:pt x="5407" y="6350"/>
                </a:cubicBezTo>
                <a:cubicBezTo>
                  <a:pt x="5226" y="6497"/>
                  <a:pt x="5212" y="6415"/>
                  <a:pt x="5259" y="6276"/>
                </a:cubicBezTo>
              </a:path>
              <a:path w="2531" h="845">
                <a:moveTo>
                  <a:pt x="5507" y="6152"/>
                </a:moveTo>
                <a:cubicBezTo>
                  <a:pt x="5573" y="6157"/>
                  <a:pt x="5698" y="6209"/>
                  <a:pt x="5755" y="6152"/>
                </a:cubicBezTo>
                <a:cubicBezTo>
                  <a:pt x="5794" y="6112"/>
                  <a:pt x="5779" y="6052"/>
                  <a:pt x="5779" y="6003"/>
                </a:cubicBezTo>
                <a:cubicBezTo>
                  <a:pt x="5594" y="5989"/>
                  <a:pt x="5477" y="6152"/>
                  <a:pt x="5581" y="6350"/>
                </a:cubicBezTo>
                <a:cubicBezTo>
                  <a:pt x="5674" y="6527"/>
                  <a:pt x="5791" y="6410"/>
                  <a:pt x="5879" y="6350"/>
                </a:cubicBezTo>
              </a:path>
              <a:path w="2531" h="845">
                <a:moveTo>
                  <a:pt x="6052" y="6251"/>
                </a:moveTo>
                <a:cubicBezTo>
                  <a:pt x="6091" y="6289"/>
                  <a:pt x="6108" y="6291"/>
                  <a:pt x="6102" y="6325"/>
                </a:cubicBezTo>
                <a:cubicBezTo>
                  <a:pt x="6046" y="6227"/>
                  <a:pt x="6008" y="6076"/>
                  <a:pt x="6102" y="5978"/>
                </a:cubicBezTo>
                <a:cubicBezTo>
                  <a:pt x="6176" y="5953"/>
                  <a:pt x="6201" y="5944"/>
                  <a:pt x="6251" y="5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3240" y="2509920"/>
            <a:ext cx="1189080" cy="507960"/>
          </a:xfrm>
          <a:custGeom>
            <a:avLst/>
            <a:gdLst/>
            <a:ahLst/>
            <a:rect l="l" t="t" r="r" b="b"/>
            <a:pathLst>
              <a:path w="3300" h="1415">
                <a:moveTo>
                  <a:pt x="4217" y="8136"/>
                </a:moveTo>
                <a:cubicBezTo>
                  <a:pt x="4345" y="8176"/>
                  <a:pt x="4482" y="8238"/>
                  <a:pt x="4614" y="8260"/>
                </a:cubicBezTo>
              </a:path>
              <a:path w="3300" h="1415">
                <a:moveTo>
                  <a:pt x="1761" y="8037"/>
                </a:moveTo>
                <a:cubicBezTo>
                  <a:pt x="1808" y="8155"/>
                  <a:pt x="1850" y="8263"/>
                  <a:pt x="1885" y="8384"/>
                </a:cubicBezTo>
                <a:cubicBezTo>
                  <a:pt x="1940" y="8366"/>
                  <a:pt x="1820" y="8189"/>
                  <a:pt x="1811" y="8136"/>
                </a:cubicBezTo>
                <a:cubicBezTo>
                  <a:pt x="1811" y="8030"/>
                  <a:pt x="1798" y="8002"/>
                  <a:pt x="1860" y="7962"/>
                </a:cubicBezTo>
                <a:cubicBezTo>
                  <a:pt x="2050" y="8045"/>
                  <a:pt x="2155" y="8119"/>
                  <a:pt x="2282" y="8285"/>
                </a:cubicBezTo>
              </a:path>
              <a:path w="3300" h="1415">
                <a:moveTo>
                  <a:pt x="2183" y="7987"/>
                </a:moveTo>
                <a:cubicBezTo>
                  <a:pt x="2203" y="8034"/>
                  <a:pt x="2310" y="8310"/>
                  <a:pt x="2406" y="8260"/>
                </a:cubicBezTo>
                <a:cubicBezTo>
                  <a:pt x="2516" y="8203"/>
                  <a:pt x="2476" y="7985"/>
                  <a:pt x="2480" y="7888"/>
                </a:cubicBezTo>
                <a:cubicBezTo>
                  <a:pt x="2472" y="7880"/>
                  <a:pt x="2464" y="7871"/>
                  <a:pt x="2456" y="7863"/>
                </a:cubicBezTo>
                <a:cubicBezTo>
                  <a:pt x="2463" y="7872"/>
                  <a:pt x="2666" y="8183"/>
                  <a:pt x="2704" y="8136"/>
                </a:cubicBezTo>
                <a:cubicBezTo>
                  <a:pt x="2752" y="8015"/>
                  <a:pt x="2768" y="7977"/>
                  <a:pt x="2753" y="7888"/>
                </a:cubicBezTo>
                <a:cubicBezTo>
                  <a:pt x="2745" y="7871"/>
                  <a:pt x="2737" y="7855"/>
                  <a:pt x="2729" y="7838"/>
                </a:cubicBezTo>
                <a:cubicBezTo>
                  <a:pt x="2738" y="7874"/>
                  <a:pt x="2811" y="8061"/>
                  <a:pt x="2803" y="8012"/>
                </a:cubicBezTo>
                <a:cubicBezTo>
                  <a:pt x="2780" y="7896"/>
                  <a:pt x="2773" y="7863"/>
                  <a:pt x="2753" y="7789"/>
                </a:cubicBezTo>
                <a:cubicBezTo>
                  <a:pt x="2869" y="7823"/>
                  <a:pt x="2957" y="7903"/>
                  <a:pt x="3051" y="7987"/>
                </a:cubicBezTo>
                <a:cubicBezTo>
                  <a:pt x="3039" y="7929"/>
                  <a:pt x="2919" y="7755"/>
                  <a:pt x="3001" y="7739"/>
                </a:cubicBezTo>
                <a:cubicBezTo>
                  <a:pt x="3150" y="7711"/>
                  <a:pt x="3263" y="7885"/>
                  <a:pt x="3324" y="7987"/>
                </a:cubicBezTo>
              </a:path>
              <a:path w="3300" h="1415">
                <a:moveTo>
                  <a:pt x="3448" y="7714"/>
                </a:moveTo>
                <a:cubicBezTo>
                  <a:pt x="3490" y="7698"/>
                  <a:pt x="3635" y="7659"/>
                  <a:pt x="3597" y="7565"/>
                </a:cubicBezTo>
                <a:cubicBezTo>
                  <a:pt x="3589" y="7557"/>
                  <a:pt x="3580" y="7549"/>
                  <a:pt x="3572" y="7541"/>
                </a:cubicBezTo>
                <a:cubicBezTo>
                  <a:pt x="3401" y="7571"/>
                  <a:pt x="3381" y="7730"/>
                  <a:pt x="3473" y="7888"/>
                </a:cubicBezTo>
                <a:cubicBezTo>
                  <a:pt x="3609" y="8121"/>
                  <a:pt x="3713" y="7674"/>
                  <a:pt x="3721" y="7640"/>
                </a:cubicBezTo>
              </a:path>
              <a:path w="3300" h="1415">
                <a:moveTo>
                  <a:pt x="3795" y="7689"/>
                </a:moveTo>
                <a:cubicBezTo>
                  <a:pt x="3856" y="7770"/>
                  <a:pt x="3871" y="7782"/>
                  <a:pt x="3894" y="7838"/>
                </a:cubicBezTo>
                <a:cubicBezTo>
                  <a:pt x="3894" y="7734"/>
                  <a:pt x="3855" y="7644"/>
                  <a:pt x="3845" y="7541"/>
                </a:cubicBezTo>
                <a:cubicBezTo>
                  <a:pt x="3845" y="7490"/>
                  <a:pt x="3870" y="7476"/>
                  <a:pt x="3944" y="7491"/>
                </a:cubicBezTo>
              </a:path>
              <a:path w="3300" h="1415">
                <a:moveTo>
                  <a:pt x="4217" y="7466"/>
                </a:moveTo>
                <a:cubicBezTo>
                  <a:pt x="4145" y="7419"/>
                  <a:pt x="4124" y="7404"/>
                  <a:pt x="4068" y="7392"/>
                </a:cubicBezTo>
                <a:cubicBezTo>
                  <a:pt x="4023" y="7553"/>
                  <a:pt x="4012" y="7563"/>
                  <a:pt x="4118" y="7689"/>
                </a:cubicBezTo>
                <a:cubicBezTo>
                  <a:pt x="4242" y="7582"/>
                  <a:pt x="4125" y="7476"/>
                  <a:pt x="4266" y="7565"/>
                </a:cubicBezTo>
                <a:cubicBezTo>
                  <a:pt x="4411" y="7656"/>
                  <a:pt x="4410" y="7609"/>
                  <a:pt x="4465" y="7491"/>
                </a:cubicBezTo>
              </a:path>
              <a:path w="3300" h="1415">
                <a:moveTo>
                  <a:pt x="4341" y="7119"/>
                </a:moveTo>
                <a:cubicBezTo>
                  <a:pt x="4379" y="7167"/>
                  <a:pt x="4613" y="7517"/>
                  <a:pt x="4663" y="7516"/>
                </a:cubicBezTo>
                <a:cubicBezTo>
                  <a:pt x="4655" y="7499"/>
                  <a:pt x="4646" y="7483"/>
                  <a:pt x="4638" y="7466"/>
                </a:cubicBezTo>
              </a:path>
              <a:path w="3300" h="1415">
                <a:moveTo>
                  <a:pt x="4638" y="7466"/>
                </a:moveTo>
                <a:lnTo>
                  <a:pt x="4638" y="7466"/>
                </a:lnTo>
              </a:path>
              <a:path w="3300" h="1415">
                <a:moveTo>
                  <a:pt x="4341" y="7317"/>
                </a:moveTo>
                <a:cubicBezTo>
                  <a:pt x="4467" y="7280"/>
                  <a:pt x="4580" y="7245"/>
                  <a:pt x="4688" y="7169"/>
                </a:cubicBezTo>
                <a:cubicBezTo>
                  <a:pt x="4688" y="7265"/>
                  <a:pt x="4711" y="7349"/>
                  <a:pt x="4738" y="7441"/>
                </a:cubicBezTo>
                <a:cubicBezTo>
                  <a:pt x="4848" y="7400"/>
                  <a:pt x="4883" y="7298"/>
                  <a:pt x="4787" y="7193"/>
                </a:cubicBezTo>
                <a:cubicBezTo>
                  <a:pt x="4731" y="7156"/>
                  <a:pt x="4727" y="7139"/>
                  <a:pt x="4688" y="7144"/>
                </a:cubicBezTo>
              </a:path>
              <a:path w="3300" h="1415">
                <a:moveTo>
                  <a:pt x="5011" y="7243"/>
                </a:moveTo>
                <a:cubicBezTo>
                  <a:pt x="5019" y="7260"/>
                  <a:pt x="5027" y="7276"/>
                  <a:pt x="5035" y="7293"/>
                </a:cubicBezTo>
                <a:cubicBezTo>
                  <a:pt x="5025" y="7193"/>
                  <a:pt x="4969" y="7061"/>
                  <a:pt x="5035" y="6970"/>
                </a:cubicBezTo>
                <a:cubicBezTo>
                  <a:pt x="5043" y="6970"/>
                  <a:pt x="5052" y="6970"/>
                  <a:pt x="5060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7760" y="3116160"/>
            <a:ext cx="474480" cy="285840"/>
          </a:xfrm>
          <a:custGeom>
            <a:avLst/>
            <a:gdLst/>
            <a:ahLst/>
            <a:rect l="l" t="t" r="r" b="b"/>
            <a:pathLst>
              <a:path w="1316" h="795">
                <a:moveTo>
                  <a:pt x="967" y="8954"/>
                </a:moveTo>
                <a:cubicBezTo>
                  <a:pt x="1031" y="9201"/>
                  <a:pt x="1015" y="9453"/>
                  <a:pt x="1290" y="9401"/>
                </a:cubicBezTo>
              </a:path>
              <a:path w="1316" h="795">
                <a:moveTo>
                  <a:pt x="1240" y="8930"/>
                </a:moveTo>
                <a:cubicBezTo>
                  <a:pt x="1260" y="8959"/>
                  <a:pt x="1269" y="9056"/>
                  <a:pt x="1315" y="9153"/>
                </a:cubicBezTo>
                <a:cubicBezTo>
                  <a:pt x="1376" y="9276"/>
                  <a:pt x="1391" y="9297"/>
                  <a:pt x="1414" y="9376"/>
                </a:cubicBezTo>
              </a:path>
              <a:path w="1316" h="795">
                <a:moveTo>
                  <a:pt x="1191" y="8954"/>
                </a:moveTo>
                <a:cubicBezTo>
                  <a:pt x="1366" y="8939"/>
                  <a:pt x="1588" y="8955"/>
                  <a:pt x="1389" y="9178"/>
                </a:cubicBezTo>
                <a:cubicBezTo>
                  <a:pt x="1279" y="9266"/>
                  <a:pt x="1250" y="9311"/>
                  <a:pt x="1191" y="9203"/>
                </a:cubicBezTo>
              </a:path>
              <a:path w="1316" h="795">
                <a:moveTo>
                  <a:pt x="1191" y="9203"/>
                </a:moveTo>
                <a:lnTo>
                  <a:pt x="1191" y="9203"/>
                </a:lnTo>
              </a:path>
              <a:path w="1316" h="795">
                <a:moveTo>
                  <a:pt x="1463" y="8657"/>
                </a:moveTo>
                <a:cubicBezTo>
                  <a:pt x="1567" y="8772"/>
                  <a:pt x="1660" y="8887"/>
                  <a:pt x="1761" y="9004"/>
                </a:cubicBezTo>
              </a:path>
              <a:path w="1316" h="795">
                <a:moveTo>
                  <a:pt x="1513" y="8930"/>
                </a:moveTo>
                <a:cubicBezTo>
                  <a:pt x="1640" y="8840"/>
                  <a:pt x="1712" y="8800"/>
                  <a:pt x="1860" y="8756"/>
                </a:cubicBezTo>
              </a:path>
              <a:path w="1316" h="795">
                <a:moveTo>
                  <a:pt x="1860" y="8756"/>
                </a:moveTo>
                <a:lnTo>
                  <a:pt x="1860" y="8756"/>
                </a:lnTo>
              </a:path>
              <a:path w="1316" h="795">
                <a:moveTo>
                  <a:pt x="1960" y="8682"/>
                </a:moveTo>
                <a:cubicBezTo>
                  <a:pt x="1886" y="8748"/>
                  <a:pt x="1877" y="8730"/>
                  <a:pt x="1860" y="8830"/>
                </a:cubicBezTo>
                <a:cubicBezTo>
                  <a:pt x="1959" y="8820"/>
                  <a:pt x="2096" y="8754"/>
                  <a:pt x="2084" y="8905"/>
                </a:cubicBezTo>
                <a:cubicBezTo>
                  <a:pt x="2076" y="9009"/>
                  <a:pt x="2036" y="8979"/>
                  <a:pt x="1960" y="8979"/>
                </a:cubicBezTo>
              </a:path>
              <a:path w="1316" h="795">
                <a:moveTo>
                  <a:pt x="2257" y="8806"/>
                </a:moveTo>
                <a:cubicBezTo>
                  <a:pt x="2265" y="8806"/>
                  <a:pt x="2274" y="8806"/>
                  <a:pt x="2282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9080" y="2911320"/>
            <a:ext cx="223920" cy="241560"/>
          </a:xfrm>
          <a:custGeom>
            <a:avLst/>
            <a:gdLst/>
            <a:ahLst/>
            <a:rect l="l" t="t" r="r" b="b"/>
            <a:pathLst>
              <a:path w="621" h="671">
                <a:moveTo>
                  <a:pt x="2629" y="8434"/>
                </a:moveTo>
                <a:cubicBezTo>
                  <a:pt x="2560" y="8543"/>
                  <a:pt x="2565" y="8577"/>
                  <a:pt x="2580" y="8706"/>
                </a:cubicBezTo>
                <a:cubicBezTo>
                  <a:pt x="2657" y="8716"/>
                  <a:pt x="2970" y="8625"/>
                  <a:pt x="2803" y="8458"/>
                </a:cubicBezTo>
                <a:cubicBezTo>
                  <a:pt x="2738" y="8393"/>
                  <a:pt x="2634" y="8452"/>
                  <a:pt x="2580" y="8483"/>
                </a:cubicBezTo>
              </a:path>
              <a:path w="621" h="671">
                <a:moveTo>
                  <a:pt x="3001" y="8086"/>
                </a:moveTo>
                <a:cubicBezTo>
                  <a:pt x="2917" y="8229"/>
                  <a:pt x="2966" y="8308"/>
                  <a:pt x="3076" y="8434"/>
                </a:cubicBezTo>
                <a:cubicBezTo>
                  <a:pt x="3115" y="8473"/>
                  <a:pt x="3131" y="8474"/>
                  <a:pt x="3125" y="8508"/>
                </a:cubicBezTo>
              </a:path>
              <a:path w="621" h="671">
                <a:moveTo>
                  <a:pt x="2902" y="8409"/>
                </a:moveTo>
                <a:cubicBezTo>
                  <a:pt x="3036" y="8328"/>
                  <a:pt x="3086" y="8297"/>
                  <a:pt x="3175" y="8235"/>
                </a:cubicBezTo>
              </a:path>
              <a:path w="621" h="671">
                <a:moveTo>
                  <a:pt x="3175" y="8235"/>
                </a:moveTo>
                <a:lnTo>
                  <a:pt x="3175" y="823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880" y="3009960"/>
            <a:ext cx="689040" cy="411120"/>
          </a:xfrm>
          <a:custGeom>
            <a:avLst/>
            <a:gdLst/>
            <a:ahLst/>
            <a:rect l="l" t="t" r="r" b="b"/>
            <a:pathLst>
              <a:path w="1911" h="1142">
                <a:moveTo>
                  <a:pt x="2034" y="9302"/>
                </a:moveTo>
                <a:cubicBezTo>
                  <a:pt x="2089" y="9384"/>
                  <a:pt x="2178" y="9570"/>
                  <a:pt x="2282" y="9451"/>
                </a:cubicBezTo>
                <a:cubicBezTo>
                  <a:pt x="2328" y="9399"/>
                  <a:pt x="2324" y="9316"/>
                  <a:pt x="2332" y="9252"/>
                </a:cubicBezTo>
                <a:cubicBezTo>
                  <a:pt x="2359" y="9307"/>
                  <a:pt x="2403" y="9321"/>
                  <a:pt x="2456" y="9277"/>
                </a:cubicBezTo>
                <a:cubicBezTo>
                  <a:pt x="2530" y="9216"/>
                  <a:pt x="2464" y="9165"/>
                  <a:pt x="2406" y="9153"/>
                </a:cubicBezTo>
                <a:cubicBezTo>
                  <a:pt x="2365" y="9153"/>
                  <a:pt x="2357" y="9153"/>
                  <a:pt x="2332" y="9153"/>
                </a:cubicBezTo>
              </a:path>
              <a:path w="1911" h="1142">
                <a:moveTo>
                  <a:pt x="2480" y="8954"/>
                </a:moveTo>
                <a:cubicBezTo>
                  <a:pt x="2569" y="9028"/>
                  <a:pt x="2658" y="9089"/>
                  <a:pt x="2729" y="9178"/>
                </a:cubicBezTo>
                <a:cubicBezTo>
                  <a:pt x="2729" y="9115"/>
                  <a:pt x="2686" y="8959"/>
                  <a:pt x="2803" y="8979"/>
                </a:cubicBezTo>
                <a:cubicBezTo>
                  <a:pt x="2836" y="8985"/>
                  <a:pt x="2972" y="9117"/>
                  <a:pt x="3001" y="9103"/>
                </a:cubicBezTo>
                <a:cubicBezTo>
                  <a:pt x="3018" y="9087"/>
                  <a:pt x="3034" y="9070"/>
                  <a:pt x="3051" y="9054"/>
                </a:cubicBezTo>
              </a:path>
              <a:path w="1911" h="1142">
                <a:moveTo>
                  <a:pt x="3026" y="8954"/>
                </a:moveTo>
                <a:cubicBezTo>
                  <a:pt x="3026" y="8987"/>
                  <a:pt x="3026" y="9021"/>
                  <a:pt x="3026" y="9054"/>
                </a:cubicBezTo>
                <a:cubicBezTo>
                  <a:pt x="3106" y="9054"/>
                  <a:pt x="3245" y="9036"/>
                  <a:pt x="3175" y="8905"/>
                </a:cubicBezTo>
                <a:cubicBezTo>
                  <a:pt x="3118" y="8877"/>
                  <a:pt x="3095" y="8866"/>
                  <a:pt x="3051" y="8855"/>
                </a:cubicBezTo>
              </a:path>
              <a:path w="1911" h="1142">
                <a:moveTo>
                  <a:pt x="3051" y="8855"/>
                </a:moveTo>
                <a:lnTo>
                  <a:pt x="3051" y="8855"/>
                </a:lnTo>
              </a:path>
              <a:path w="1911" h="1142">
                <a:moveTo>
                  <a:pt x="3150" y="8558"/>
                </a:moveTo>
                <a:cubicBezTo>
                  <a:pt x="3181" y="8597"/>
                  <a:pt x="3441" y="8931"/>
                  <a:pt x="3473" y="8905"/>
                </a:cubicBezTo>
                <a:cubicBezTo>
                  <a:pt x="3481" y="8872"/>
                  <a:pt x="3489" y="8839"/>
                  <a:pt x="3497" y="8806"/>
                </a:cubicBezTo>
              </a:path>
              <a:path w="1911" h="1142">
                <a:moveTo>
                  <a:pt x="3522" y="8756"/>
                </a:moveTo>
                <a:cubicBezTo>
                  <a:pt x="3540" y="8683"/>
                  <a:pt x="3586" y="8657"/>
                  <a:pt x="3597" y="8582"/>
                </a:cubicBezTo>
                <a:cubicBezTo>
                  <a:pt x="3538" y="8641"/>
                  <a:pt x="3536" y="8723"/>
                  <a:pt x="3572" y="8806"/>
                </a:cubicBezTo>
                <a:cubicBezTo>
                  <a:pt x="3659" y="8806"/>
                  <a:pt x="3695" y="8800"/>
                  <a:pt x="3746" y="8756"/>
                </a:cubicBezTo>
              </a:path>
              <a:path w="1911" h="1142">
                <a:moveTo>
                  <a:pt x="3746" y="8756"/>
                </a:moveTo>
                <a:lnTo>
                  <a:pt x="3746" y="8756"/>
                </a:lnTo>
              </a:path>
              <a:path w="1911" h="1142">
                <a:moveTo>
                  <a:pt x="3597" y="8359"/>
                </a:moveTo>
                <a:cubicBezTo>
                  <a:pt x="3730" y="8411"/>
                  <a:pt x="4003" y="8505"/>
                  <a:pt x="3944" y="8706"/>
                </a:cubicBezTo>
                <a:cubicBezTo>
                  <a:pt x="3919" y="8739"/>
                  <a:pt x="3895" y="8773"/>
                  <a:pt x="3870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0120" y="3598920"/>
            <a:ext cx="1420920" cy="633240"/>
          </a:xfrm>
          <a:custGeom>
            <a:avLst/>
            <a:gdLst/>
            <a:ahLst/>
            <a:rect l="l" t="t" r="r" b="b"/>
            <a:pathLst>
              <a:path w="3945" h="1762">
                <a:moveTo>
                  <a:pt x="3621" y="10319"/>
                </a:moveTo>
                <a:cubicBezTo>
                  <a:pt x="3782" y="10265"/>
                  <a:pt x="3940" y="10131"/>
                  <a:pt x="4093" y="10046"/>
                </a:cubicBezTo>
                <a:cubicBezTo>
                  <a:pt x="4166" y="10009"/>
                  <a:pt x="4171" y="9992"/>
                  <a:pt x="4217" y="9996"/>
                </a:cubicBezTo>
              </a:path>
              <a:path w="3945" h="1762">
                <a:moveTo>
                  <a:pt x="1191" y="11286"/>
                </a:moveTo>
                <a:cubicBezTo>
                  <a:pt x="1191" y="11162"/>
                  <a:pt x="1145" y="11157"/>
                  <a:pt x="1042" y="11088"/>
                </a:cubicBezTo>
                <a:cubicBezTo>
                  <a:pt x="927" y="11234"/>
                  <a:pt x="817" y="11544"/>
                  <a:pt x="967" y="11733"/>
                </a:cubicBezTo>
                <a:cubicBezTo>
                  <a:pt x="1070" y="11862"/>
                  <a:pt x="1127" y="11549"/>
                  <a:pt x="1141" y="11385"/>
                </a:cubicBezTo>
              </a:path>
              <a:path w="3945" h="1762">
                <a:moveTo>
                  <a:pt x="1017" y="10840"/>
                </a:moveTo>
                <a:cubicBezTo>
                  <a:pt x="1144" y="11118"/>
                  <a:pt x="1202" y="11404"/>
                  <a:pt x="1315" y="11683"/>
                </a:cubicBezTo>
                <a:cubicBezTo>
                  <a:pt x="1315" y="11675"/>
                  <a:pt x="1315" y="11666"/>
                  <a:pt x="1315" y="11658"/>
                </a:cubicBezTo>
              </a:path>
              <a:path w="3945" h="1762">
                <a:moveTo>
                  <a:pt x="1315" y="11658"/>
                </a:moveTo>
                <a:lnTo>
                  <a:pt x="1315" y="11658"/>
                </a:lnTo>
              </a:path>
              <a:path w="3945" h="1762">
                <a:moveTo>
                  <a:pt x="1339" y="11336"/>
                </a:moveTo>
                <a:cubicBezTo>
                  <a:pt x="1429" y="11336"/>
                  <a:pt x="1504" y="11328"/>
                  <a:pt x="1588" y="11311"/>
                </a:cubicBezTo>
                <a:cubicBezTo>
                  <a:pt x="1578" y="11222"/>
                  <a:pt x="1520" y="11053"/>
                  <a:pt x="1389" y="11162"/>
                </a:cubicBezTo>
                <a:cubicBezTo>
                  <a:pt x="1191" y="11327"/>
                  <a:pt x="1413" y="11523"/>
                  <a:pt x="1538" y="11609"/>
                </a:cubicBezTo>
                <a:cubicBezTo>
                  <a:pt x="1690" y="11478"/>
                  <a:pt x="1671" y="11450"/>
                  <a:pt x="1687" y="11237"/>
                </a:cubicBezTo>
              </a:path>
              <a:path w="3945" h="1762">
                <a:moveTo>
                  <a:pt x="1687" y="11187"/>
                </a:moveTo>
                <a:cubicBezTo>
                  <a:pt x="1727" y="11288"/>
                  <a:pt x="1767" y="11381"/>
                  <a:pt x="1786" y="11485"/>
                </a:cubicBezTo>
                <a:cubicBezTo>
                  <a:pt x="1786" y="11370"/>
                  <a:pt x="1755" y="11277"/>
                  <a:pt x="1761" y="11162"/>
                </a:cubicBezTo>
                <a:cubicBezTo>
                  <a:pt x="1868" y="11221"/>
                  <a:pt x="1910" y="11369"/>
                  <a:pt x="2009" y="11460"/>
                </a:cubicBezTo>
                <a:cubicBezTo>
                  <a:pt x="2017" y="11460"/>
                  <a:pt x="2026" y="11460"/>
                  <a:pt x="2034" y="11460"/>
                </a:cubicBezTo>
              </a:path>
              <a:path w="3945" h="1762">
                <a:moveTo>
                  <a:pt x="2034" y="11162"/>
                </a:moveTo>
                <a:cubicBezTo>
                  <a:pt x="2044" y="11371"/>
                  <a:pt x="2023" y="11493"/>
                  <a:pt x="2208" y="11559"/>
                </a:cubicBezTo>
                <a:cubicBezTo>
                  <a:pt x="2254" y="11439"/>
                  <a:pt x="2360" y="11222"/>
                  <a:pt x="2133" y="11212"/>
                </a:cubicBezTo>
                <a:cubicBezTo>
                  <a:pt x="2093" y="11232"/>
                  <a:pt x="2067" y="11241"/>
                  <a:pt x="2108" y="11237"/>
                </a:cubicBezTo>
              </a:path>
              <a:path w="3945" h="1762">
                <a:moveTo>
                  <a:pt x="2108" y="11237"/>
                </a:moveTo>
                <a:lnTo>
                  <a:pt x="2108" y="11237"/>
                </a:lnTo>
              </a:path>
              <a:path w="3945" h="1762">
                <a:moveTo>
                  <a:pt x="2381" y="11311"/>
                </a:moveTo>
                <a:cubicBezTo>
                  <a:pt x="2419" y="11405"/>
                  <a:pt x="2412" y="11423"/>
                  <a:pt x="2456" y="11460"/>
                </a:cubicBezTo>
                <a:cubicBezTo>
                  <a:pt x="2430" y="11357"/>
                  <a:pt x="2399" y="11304"/>
                  <a:pt x="2406" y="11187"/>
                </a:cubicBezTo>
                <a:cubicBezTo>
                  <a:pt x="2527" y="11222"/>
                  <a:pt x="2582" y="11283"/>
                  <a:pt x="2654" y="11385"/>
                </a:cubicBezTo>
                <a:cubicBezTo>
                  <a:pt x="2638" y="11324"/>
                  <a:pt x="2598" y="11231"/>
                  <a:pt x="2629" y="11162"/>
                </a:cubicBezTo>
                <a:cubicBezTo>
                  <a:pt x="2681" y="11049"/>
                  <a:pt x="2780" y="11335"/>
                  <a:pt x="2853" y="11435"/>
                </a:cubicBezTo>
                <a:cubicBezTo>
                  <a:pt x="2861" y="11435"/>
                  <a:pt x="2869" y="11435"/>
                  <a:pt x="2877" y="11435"/>
                </a:cubicBezTo>
              </a:path>
              <a:path w="3945" h="1762">
                <a:moveTo>
                  <a:pt x="2952" y="11212"/>
                </a:moveTo>
                <a:cubicBezTo>
                  <a:pt x="2993" y="11316"/>
                  <a:pt x="2995" y="11343"/>
                  <a:pt x="3051" y="11385"/>
                </a:cubicBezTo>
              </a:path>
              <a:path w="3945" h="1762">
                <a:moveTo>
                  <a:pt x="3051" y="11385"/>
                </a:moveTo>
                <a:lnTo>
                  <a:pt x="3051" y="11385"/>
                </a:lnTo>
              </a:path>
              <a:path w="3945" h="1762">
                <a:moveTo>
                  <a:pt x="2902" y="11063"/>
                </a:moveTo>
                <a:lnTo>
                  <a:pt x="2902" y="11063"/>
                </a:lnTo>
              </a:path>
              <a:path w="3945" h="1762">
                <a:moveTo>
                  <a:pt x="3299" y="11361"/>
                </a:moveTo>
                <a:cubicBezTo>
                  <a:pt x="3342" y="11431"/>
                  <a:pt x="3349" y="11494"/>
                  <a:pt x="3349" y="11410"/>
                </a:cubicBezTo>
                <a:cubicBezTo>
                  <a:pt x="3278" y="11314"/>
                  <a:pt x="3254" y="11294"/>
                  <a:pt x="3225" y="11162"/>
                </a:cubicBezTo>
                <a:cubicBezTo>
                  <a:pt x="3395" y="11149"/>
                  <a:pt x="3449" y="11214"/>
                  <a:pt x="3497" y="11385"/>
                </a:cubicBezTo>
                <a:cubicBezTo>
                  <a:pt x="3497" y="11393"/>
                  <a:pt x="3497" y="11402"/>
                  <a:pt x="3497" y="11410"/>
                </a:cubicBezTo>
              </a:path>
              <a:path w="3945" h="1762">
                <a:moveTo>
                  <a:pt x="3671" y="11088"/>
                </a:moveTo>
                <a:cubicBezTo>
                  <a:pt x="3567" y="11139"/>
                  <a:pt x="3547" y="11352"/>
                  <a:pt x="3597" y="11460"/>
                </a:cubicBezTo>
                <a:cubicBezTo>
                  <a:pt x="3622" y="11476"/>
                  <a:pt x="3646" y="11493"/>
                  <a:pt x="3671" y="11509"/>
                </a:cubicBezTo>
                <a:cubicBezTo>
                  <a:pt x="3725" y="11387"/>
                  <a:pt x="3782" y="11238"/>
                  <a:pt x="3721" y="11137"/>
                </a:cubicBezTo>
                <a:cubicBezTo>
                  <a:pt x="3756" y="11179"/>
                  <a:pt x="3944" y="11422"/>
                  <a:pt x="3944" y="11237"/>
                </a:cubicBezTo>
                <a:cubicBezTo>
                  <a:pt x="3936" y="11179"/>
                  <a:pt x="3927" y="11121"/>
                  <a:pt x="3919" y="11063"/>
                </a:cubicBezTo>
              </a:path>
              <a:path w="3945" h="1762">
                <a:moveTo>
                  <a:pt x="3894" y="10964"/>
                </a:moveTo>
                <a:cubicBezTo>
                  <a:pt x="3936" y="11010"/>
                  <a:pt x="4172" y="11351"/>
                  <a:pt x="4142" y="11237"/>
                </a:cubicBezTo>
              </a:path>
              <a:path w="3945" h="1762">
                <a:moveTo>
                  <a:pt x="4142" y="11237"/>
                </a:moveTo>
                <a:lnTo>
                  <a:pt x="4142" y="11237"/>
                </a:lnTo>
              </a:path>
              <a:path w="3945" h="1762">
                <a:moveTo>
                  <a:pt x="3770" y="11063"/>
                </a:moveTo>
                <a:cubicBezTo>
                  <a:pt x="3930" y="11030"/>
                  <a:pt x="4079" y="11000"/>
                  <a:pt x="4217" y="10914"/>
                </a:cubicBezTo>
                <a:cubicBezTo>
                  <a:pt x="4291" y="11012"/>
                  <a:pt x="4191" y="11157"/>
                  <a:pt x="4291" y="11261"/>
                </a:cubicBezTo>
                <a:cubicBezTo>
                  <a:pt x="4462" y="11440"/>
                  <a:pt x="4467" y="11072"/>
                  <a:pt x="4415" y="10988"/>
                </a:cubicBezTo>
                <a:cubicBezTo>
                  <a:pt x="4399" y="10972"/>
                  <a:pt x="4382" y="10955"/>
                  <a:pt x="4366" y="10939"/>
                </a:cubicBezTo>
              </a:path>
              <a:path w="3945" h="1762">
                <a:moveTo>
                  <a:pt x="4663" y="11162"/>
                </a:moveTo>
                <a:cubicBezTo>
                  <a:pt x="4704" y="11148"/>
                  <a:pt x="4623" y="10989"/>
                  <a:pt x="4638" y="10914"/>
                </a:cubicBezTo>
                <a:cubicBezTo>
                  <a:pt x="4662" y="10790"/>
                  <a:pt x="4767" y="10809"/>
                  <a:pt x="4862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4160880"/>
            <a:ext cx="822240" cy="241200"/>
          </a:xfrm>
          <a:custGeom>
            <a:avLst/>
            <a:gdLst/>
            <a:ahLst/>
            <a:rect l="l" t="t" r="r" b="b"/>
            <a:pathLst>
              <a:path w="2283" h="671">
                <a:moveTo>
                  <a:pt x="2803" y="11559"/>
                </a:moveTo>
                <a:cubicBezTo>
                  <a:pt x="2782" y="11728"/>
                  <a:pt x="2700" y="11910"/>
                  <a:pt x="2803" y="12080"/>
                </a:cubicBezTo>
                <a:cubicBezTo>
                  <a:pt x="2943" y="12196"/>
                  <a:pt x="2981" y="12241"/>
                  <a:pt x="3101" y="12154"/>
                </a:cubicBezTo>
              </a:path>
              <a:path w="2283" h="671">
                <a:moveTo>
                  <a:pt x="3051" y="11881"/>
                </a:moveTo>
                <a:cubicBezTo>
                  <a:pt x="3001" y="11898"/>
                  <a:pt x="3071" y="12057"/>
                  <a:pt x="3076" y="12105"/>
                </a:cubicBezTo>
                <a:cubicBezTo>
                  <a:pt x="3076" y="12138"/>
                  <a:pt x="3076" y="12171"/>
                  <a:pt x="3076" y="12204"/>
                </a:cubicBezTo>
                <a:cubicBezTo>
                  <a:pt x="3076" y="12283"/>
                  <a:pt x="3023" y="11952"/>
                  <a:pt x="3026" y="11931"/>
                </a:cubicBezTo>
                <a:cubicBezTo>
                  <a:pt x="3047" y="11792"/>
                  <a:pt x="3207" y="11705"/>
                  <a:pt x="3299" y="11832"/>
                </a:cubicBezTo>
                <a:cubicBezTo>
                  <a:pt x="3373" y="11933"/>
                  <a:pt x="3419" y="12097"/>
                  <a:pt x="3373" y="12204"/>
                </a:cubicBezTo>
              </a:path>
              <a:path w="2283" h="671">
                <a:moveTo>
                  <a:pt x="3721" y="12005"/>
                </a:moveTo>
                <a:cubicBezTo>
                  <a:pt x="3699" y="11963"/>
                  <a:pt x="3602" y="11834"/>
                  <a:pt x="3522" y="11857"/>
                </a:cubicBezTo>
                <a:cubicBezTo>
                  <a:pt x="3392" y="11894"/>
                  <a:pt x="3409" y="12112"/>
                  <a:pt x="3497" y="12179"/>
                </a:cubicBezTo>
                <a:cubicBezTo>
                  <a:pt x="3599" y="12257"/>
                  <a:pt x="3618" y="11967"/>
                  <a:pt x="3621" y="11931"/>
                </a:cubicBezTo>
                <a:cubicBezTo>
                  <a:pt x="3621" y="11985"/>
                  <a:pt x="3623" y="12230"/>
                  <a:pt x="3696" y="12204"/>
                </a:cubicBezTo>
                <a:cubicBezTo>
                  <a:pt x="3721" y="12171"/>
                  <a:pt x="3745" y="12138"/>
                  <a:pt x="3770" y="12105"/>
                </a:cubicBezTo>
              </a:path>
              <a:path w="2283" h="671">
                <a:moveTo>
                  <a:pt x="3795" y="11931"/>
                </a:moveTo>
                <a:cubicBezTo>
                  <a:pt x="3799" y="11943"/>
                  <a:pt x="3845" y="12211"/>
                  <a:pt x="3845" y="12080"/>
                </a:cubicBezTo>
                <a:cubicBezTo>
                  <a:pt x="3853" y="11955"/>
                  <a:pt x="3830" y="11768"/>
                  <a:pt x="3994" y="11931"/>
                </a:cubicBezTo>
                <a:cubicBezTo>
                  <a:pt x="4069" y="12006"/>
                  <a:pt x="4079" y="12056"/>
                  <a:pt x="4093" y="12154"/>
                </a:cubicBezTo>
                <a:cubicBezTo>
                  <a:pt x="4078" y="12005"/>
                  <a:pt x="4076" y="11965"/>
                  <a:pt x="4142" y="11832"/>
                </a:cubicBezTo>
                <a:cubicBezTo>
                  <a:pt x="4247" y="11923"/>
                  <a:pt x="4247" y="12022"/>
                  <a:pt x="4291" y="12154"/>
                </a:cubicBezTo>
              </a:path>
              <a:path w="2283" h="671">
                <a:moveTo>
                  <a:pt x="4415" y="11906"/>
                </a:moveTo>
                <a:cubicBezTo>
                  <a:pt x="4492" y="11906"/>
                  <a:pt x="4579" y="11927"/>
                  <a:pt x="4638" y="11881"/>
                </a:cubicBezTo>
                <a:cubicBezTo>
                  <a:pt x="4569" y="11798"/>
                  <a:pt x="4491" y="11726"/>
                  <a:pt x="4415" y="11881"/>
                </a:cubicBezTo>
                <a:cubicBezTo>
                  <a:pt x="4318" y="12079"/>
                  <a:pt x="4434" y="12125"/>
                  <a:pt x="4589" y="12105"/>
                </a:cubicBezTo>
              </a:path>
              <a:path w="2283" h="671">
                <a:moveTo>
                  <a:pt x="4862" y="11733"/>
                </a:moveTo>
                <a:cubicBezTo>
                  <a:pt x="4840" y="11776"/>
                  <a:pt x="4836" y="11788"/>
                  <a:pt x="4812" y="11807"/>
                </a:cubicBezTo>
                <a:cubicBezTo>
                  <a:pt x="4884" y="11858"/>
                  <a:pt x="4961" y="11905"/>
                  <a:pt x="5035" y="11956"/>
                </a:cubicBezTo>
                <a:cubicBezTo>
                  <a:pt x="4979" y="12125"/>
                  <a:pt x="4902" y="12099"/>
                  <a:pt x="4787" y="12005"/>
                </a:cubicBezTo>
              </a:path>
              <a:path w="2283" h="671">
                <a:moveTo>
                  <a:pt x="4787" y="12005"/>
                </a:moveTo>
                <a:lnTo>
                  <a:pt x="4787" y="1200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11240" y="3875040"/>
            <a:ext cx="1197000" cy="411120"/>
          </a:xfrm>
          <a:custGeom>
            <a:avLst/>
            <a:gdLst/>
            <a:ahLst/>
            <a:rect l="l" t="t" r="r" b="b"/>
            <a:pathLst>
              <a:path w="3325" h="1142">
                <a:moveTo>
                  <a:pt x="5457" y="11261"/>
                </a:moveTo>
                <a:cubicBezTo>
                  <a:pt x="5531" y="11450"/>
                  <a:pt x="5656" y="11671"/>
                  <a:pt x="5631" y="11881"/>
                </a:cubicBezTo>
                <a:cubicBezTo>
                  <a:pt x="5623" y="11889"/>
                  <a:pt x="5614" y="11898"/>
                  <a:pt x="5606" y="11906"/>
                </a:cubicBezTo>
              </a:path>
              <a:path w="3325" h="1142">
                <a:moveTo>
                  <a:pt x="5308" y="11708"/>
                </a:moveTo>
                <a:cubicBezTo>
                  <a:pt x="5471" y="11734"/>
                  <a:pt x="5754" y="11795"/>
                  <a:pt x="5804" y="11559"/>
                </a:cubicBezTo>
                <a:cubicBezTo>
                  <a:pt x="5796" y="11509"/>
                  <a:pt x="5787" y="11460"/>
                  <a:pt x="5779" y="11410"/>
                </a:cubicBezTo>
              </a:path>
              <a:path w="3325" h="1142">
                <a:moveTo>
                  <a:pt x="5755" y="11336"/>
                </a:moveTo>
                <a:cubicBezTo>
                  <a:pt x="5778" y="11501"/>
                  <a:pt x="5808" y="11667"/>
                  <a:pt x="5829" y="11832"/>
                </a:cubicBezTo>
                <a:cubicBezTo>
                  <a:pt x="5829" y="11665"/>
                  <a:pt x="5842" y="11639"/>
                  <a:pt x="5978" y="11559"/>
                </a:cubicBezTo>
                <a:cubicBezTo>
                  <a:pt x="6031" y="11654"/>
                  <a:pt x="6040" y="11696"/>
                  <a:pt x="6077" y="11782"/>
                </a:cubicBezTo>
              </a:path>
              <a:path w="3325" h="1142">
                <a:moveTo>
                  <a:pt x="6176" y="11658"/>
                </a:moveTo>
                <a:cubicBezTo>
                  <a:pt x="6275" y="11595"/>
                  <a:pt x="6294" y="11586"/>
                  <a:pt x="6350" y="11485"/>
                </a:cubicBezTo>
                <a:cubicBezTo>
                  <a:pt x="6313" y="11514"/>
                  <a:pt x="6041" y="11852"/>
                  <a:pt x="6276" y="11832"/>
                </a:cubicBezTo>
                <a:cubicBezTo>
                  <a:pt x="6342" y="11807"/>
                  <a:pt x="6408" y="11782"/>
                  <a:pt x="6474" y="11757"/>
                </a:cubicBezTo>
              </a:path>
              <a:path w="3325" h="1142">
                <a:moveTo>
                  <a:pt x="6697" y="11361"/>
                </a:moveTo>
                <a:cubicBezTo>
                  <a:pt x="6692" y="11419"/>
                  <a:pt x="6642" y="11845"/>
                  <a:pt x="6846" y="11733"/>
                </a:cubicBezTo>
                <a:cubicBezTo>
                  <a:pt x="6907" y="11641"/>
                  <a:pt x="6927" y="11596"/>
                  <a:pt x="6921" y="11509"/>
                </a:cubicBezTo>
                <a:cubicBezTo>
                  <a:pt x="6921" y="11501"/>
                  <a:pt x="6921" y="11493"/>
                  <a:pt x="6921" y="11485"/>
                </a:cubicBezTo>
                <a:cubicBezTo>
                  <a:pt x="6928" y="11557"/>
                  <a:pt x="6967" y="11776"/>
                  <a:pt x="7094" y="11658"/>
                </a:cubicBezTo>
                <a:cubicBezTo>
                  <a:pt x="7221" y="11539"/>
                  <a:pt x="7077" y="11361"/>
                  <a:pt x="6995" y="11286"/>
                </a:cubicBezTo>
              </a:path>
              <a:path w="3325" h="1142">
                <a:moveTo>
                  <a:pt x="7193" y="11088"/>
                </a:moveTo>
                <a:cubicBezTo>
                  <a:pt x="7232" y="11261"/>
                  <a:pt x="7260" y="11408"/>
                  <a:pt x="7268" y="11584"/>
                </a:cubicBezTo>
                <a:cubicBezTo>
                  <a:pt x="7268" y="11620"/>
                  <a:pt x="7276" y="11365"/>
                  <a:pt x="7293" y="11311"/>
                </a:cubicBezTo>
                <a:cubicBezTo>
                  <a:pt x="7301" y="11303"/>
                  <a:pt x="7309" y="11294"/>
                  <a:pt x="7317" y="11286"/>
                </a:cubicBezTo>
                <a:cubicBezTo>
                  <a:pt x="7467" y="11404"/>
                  <a:pt x="7466" y="11463"/>
                  <a:pt x="7466" y="11658"/>
                </a:cubicBezTo>
              </a:path>
              <a:path w="3325" h="1142">
                <a:moveTo>
                  <a:pt x="7516" y="11410"/>
                </a:moveTo>
                <a:cubicBezTo>
                  <a:pt x="7516" y="11480"/>
                  <a:pt x="7589" y="11876"/>
                  <a:pt x="7739" y="11584"/>
                </a:cubicBezTo>
                <a:cubicBezTo>
                  <a:pt x="7818" y="11430"/>
                  <a:pt x="7732" y="11354"/>
                  <a:pt x="7640" y="11261"/>
                </a:cubicBezTo>
              </a:path>
              <a:path w="3325" h="1142">
                <a:moveTo>
                  <a:pt x="7764" y="10939"/>
                </a:moveTo>
                <a:cubicBezTo>
                  <a:pt x="7826" y="11160"/>
                  <a:pt x="7866" y="11395"/>
                  <a:pt x="7938" y="11609"/>
                </a:cubicBezTo>
              </a:path>
              <a:path w="3325" h="1142">
                <a:moveTo>
                  <a:pt x="8086" y="11361"/>
                </a:moveTo>
                <a:cubicBezTo>
                  <a:pt x="8171" y="11361"/>
                  <a:pt x="8250" y="11343"/>
                  <a:pt x="8334" y="11336"/>
                </a:cubicBezTo>
                <a:cubicBezTo>
                  <a:pt x="8319" y="11275"/>
                  <a:pt x="8201" y="11191"/>
                  <a:pt x="8136" y="11237"/>
                </a:cubicBezTo>
                <a:cubicBezTo>
                  <a:pt x="7996" y="11335"/>
                  <a:pt x="7888" y="11670"/>
                  <a:pt x="8161" y="11658"/>
                </a:cubicBezTo>
                <a:cubicBezTo>
                  <a:pt x="8315" y="11597"/>
                  <a:pt x="8377" y="11557"/>
                  <a:pt x="8434" y="11435"/>
                </a:cubicBezTo>
              </a:path>
              <a:path w="3325" h="1142">
                <a:moveTo>
                  <a:pt x="8334" y="10765"/>
                </a:moveTo>
                <a:cubicBezTo>
                  <a:pt x="8509" y="11008"/>
                  <a:pt x="8784" y="11360"/>
                  <a:pt x="8582" y="11683"/>
                </a:cubicBezTo>
                <a:cubicBezTo>
                  <a:pt x="8450" y="11762"/>
                  <a:pt x="8399" y="11787"/>
                  <a:pt x="8285" y="11757"/>
                </a:cubicBezTo>
              </a:path>
              <a:path w="3325" h="1142">
                <a:moveTo>
                  <a:pt x="8285" y="11757"/>
                </a:moveTo>
                <a:lnTo>
                  <a:pt x="8285" y="11757"/>
                </a:lnTo>
              </a:path>
              <a:path w="3325" h="1142">
                <a:moveTo>
                  <a:pt x="7714" y="11286"/>
                </a:moveTo>
                <a:cubicBezTo>
                  <a:pt x="7621" y="11305"/>
                  <a:pt x="7592" y="11354"/>
                  <a:pt x="7565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87720" y="5661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077" y="15726"/>
                </a:moveTo>
                <a:lnTo>
                  <a:pt x="6077" y="1572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6240" y="2616120"/>
            <a:ext cx="1492560" cy="527040"/>
          </a:xfrm>
          <a:custGeom>
            <a:avLst/>
            <a:gdLst/>
            <a:ahLst/>
            <a:rect l="l" t="t" r="r" b="b"/>
            <a:pathLst>
              <a:path w="4143" h="1464">
                <a:moveTo>
                  <a:pt x="11584" y="7491"/>
                </a:moveTo>
                <a:cubicBezTo>
                  <a:pt x="11615" y="7647"/>
                  <a:pt x="11543" y="8072"/>
                  <a:pt x="11658" y="7962"/>
                </a:cubicBezTo>
                <a:cubicBezTo>
                  <a:pt x="11658" y="7946"/>
                  <a:pt x="11658" y="7929"/>
                  <a:pt x="11658" y="7913"/>
                </a:cubicBezTo>
              </a:path>
              <a:path w="4143" h="1464">
                <a:moveTo>
                  <a:pt x="11733" y="7689"/>
                </a:moveTo>
                <a:cubicBezTo>
                  <a:pt x="11765" y="7791"/>
                  <a:pt x="11810" y="7843"/>
                  <a:pt x="11757" y="7913"/>
                </a:cubicBezTo>
              </a:path>
              <a:path w="4143" h="1464">
                <a:moveTo>
                  <a:pt x="11757" y="7913"/>
                </a:moveTo>
                <a:lnTo>
                  <a:pt x="11757" y="7913"/>
                </a:lnTo>
              </a:path>
              <a:path w="4143" h="1464">
                <a:moveTo>
                  <a:pt x="11435" y="7813"/>
                </a:moveTo>
                <a:cubicBezTo>
                  <a:pt x="11588" y="7763"/>
                  <a:pt x="11768" y="7666"/>
                  <a:pt x="11931" y="7665"/>
                </a:cubicBezTo>
                <a:cubicBezTo>
                  <a:pt x="11939" y="7673"/>
                  <a:pt x="11948" y="7681"/>
                  <a:pt x="11956" y="7689"/>
                </a:cubicBezTo>
              </a:path>
              <a:path w="4143" h="1464">
                <a:moveTo>
                  <a:pt x="11609" y="7938"/>
                </a:moveTo>
                <a:cubicBezTo>
                  <a:pt x="11764" y="7886"/>
                  <a:pt x="11920" y="7853"/>
                  <a:pt x="12080" y="7813"/>
                </a:cubicBezTo>
              </a:path>
              <a:path w="4143" h="1464">
                <a:moveTo>
                  <a:pt x="12080" y="7813"/>
                </a:moveTo>
                <a:lnTo>
                  <a:pt x="12080" y="7813"/>
                </a:lnTo>
              </a:path>
              <a:path w="4143" h="1464">
                <a:moveTo>
                  <a:pt x="12601" y="7714"/>
                </a:moveTo>
                <a:cubicBezTo>
                  <a:pt x="12476" y="7651"/>
                  <a:pt x="12396" y="7784"/>
                  <a:pt x="12378" y="7913"/>
                </a:cubicBezTo>
                <a:cubicBezTo>
                  <a:pt x="12386" y="7929"/>
                  <a:pt x="12394" y="7946"/>
                  <a:pt x="12402" y="7962"/>
                </a:cubicBezTo>
                <a:cubicBezTo>
                  <a:pt x="12487" y="7946"/>
                  <a:pt x="12789" y="7809"/>
                  <a:pt x="12576" y="7689"/>
                </a:cubicBezTo>
                <a:cubicBezTo>
                  <a:pt x="12502" y="7689"/>
                  <a:pt x="12493" y="7689"/>
                  <a:pt x="12452" y="7689"/>
                </a:cubicBezTo>
              </a:path>
              <a:path w="4143" h="1464">
                <a:moveTo>
                  <a:pt x="12849" y="7293"/>
                </a:moveTo>
                <a:cubicBezTo>
                  <a:pt x="12761" y="7205"/>
                  <a:pt x="12771" y="7520"/>
                  <a:pt x="12774" y="7541"/>
                </a:cubicBezTo>
                <a:cubicBezTo>
                  <a:pt x="12793" y="7663"/>
                  <a:pt x="12846" y="7756"/>
                  <a:pt x="12898" y="7863"/>
                </a:cubicBezTo>
              </a:path>
              <a:path w="4143" h="1464">
                <a:moveTo>
                  <a:pt x="12675" y="7640"/>
                </a:moveTo>
                <a:cubicBezTo>
                  <a:pt x="12829" y="7625"/>
                  <a:pt x="12945" y="7587"/>
                  <a:pt x="13097" y="7541"/>
                </a:cubicBezTo>
              </a:path>
              <a:path w="4143" h="1464">
                <a:moveTo>
                  <a:pt x="13593" y="7342"/>
                </a:moveTo>
                <a:cubicBezTo>
                  <a:pt x="13679" y="7385"/>
                  <a:pt x="13693" y="7608"/>
                  <a:pt x="13717" y="7689"/>
                </a:cubicBezTo>
                <a:cubicBezTo>
                  <a:pt x="13739" y="7763"/>
                  <a:pt x="13777" y="7839"/>
                  <a:pt x="13791" y="7913"/>
                </a:cubicBezTo>
              </a:path>
              <a:path w="4143" h="1464">
                <a:moveTo>
                  <a:pt x="13469" y="7764"/>
                </a:moveTo>
                <a:cubicBezTo>
                  <a:pt x="13624" y="7719"/>
                  <a:pt x="13786" y="7709"/>
                  <a:pt x="13940" y="7665"/>
                </a:cubicBezTo>
                <a:cubicBezTo>
                  <a:pt x="13981" y="7645"/>
                  <a:pt x="13987" y="7636"/>
                  <a:pt x="14015" y="7640"/>
                </a:cubicBezTo>
                <a:cubicBezTo>
                  <a:pt x="14019" y="7706"/>
                  <a:pt x="14000" y="7875"/>
                  <a:pt x="14089" y="7888"/>
                </a:cubicBezTo>
                <a:cubicBezTo>
                  <a:pt x="14193" y="7903"/>
                  <a:pt x="14191" y="7759"/>
                  <a:pt x="14213" y="7689"/>
                </a:cubicBezTo>
                <a:cubicBezTo>
                  <a:pt x="14213" y="7681"/>
                  <a:pt x="14213" y="7673"/>
                  <a:pt x="14213" y="7665"/>
                </a:cubicBezTo>
                <a:cubicBezTo>
                  <a:pt x="14234" y="7826"/>
                  <a:pt x="14245" y="7852"/>
                  <a:pt x="14387" y="7888"/>
                </a:cubicBezTo>
              </a:path>
              <a:path w="4143" h="1464">
                <a:moveTo>
                  <a:pt x="14511" y="7665"/>
                </a:moveTo>
                <a:cubicBezTo>
                  <a:pt x="14541" y="7799"/>
                  <a:pt x="14617" y="7969"/>
                  <a:pt x="14610" y="8111"/>
                </a:cubicBezTo>
                <a:cubicBezTo>
                  <a:pt x="14609" y="8134"/>
                  <a:pt x="14560" y="8062"/>
                  <a:pt x="14560" y="8062"/>
                </a:cubicBezTo>
              </a:path>
              <a:path w="4143" h="1464">
                <a:moveTo>
                  <a:pt x="14560" y="8062"/>
                </a:moveTo>
                <a:lnTo>
                  <a:pt x="14560" y="8062"/>
                </a:lnTo>
              </a:path>
              <a:path w="4143" h="1464">
                <a:moveTo>
                  <a:pt x="14759" y="7739"/>
                </a:moveTo>
                <a:cubicBezTo>
                  <a:pt x="14800" y="7770"/>
                  <a:pt x="14828" y="7853"/>
                  <a:pt x="14858" y="7913"/>
                </a:cubicBezTo>
              </a:path>
              <a:path w="4143" h="1464">
                <a:moveTo>
                  <a:pt x="14684" y="7491"/>
                </a:moveTo>
                <a:cubicBezTo>
                  <a:pt x="14701" y="7499"/>
                  <a:pt x="14717" y="7508"/>
                  <a:pt x="14734" y="7516"/>
                </a:cubicBezTo>
              </a:path>
              <a:path w="4143" h="1464">
                <a:moveTo>
                  <a:pt x="15131" y="7913"/>
                </a:moveTo>
                <a:cubicBezTo>
                  <a:pt x="15167" y="7985"/>
                  <a:pt x="15238" y="8078"/>
                  <a:pt x="15205" y="8111"/>
                </a:cubicBezTo>
                <a:cubicBezTo>
                  <a:pt x="15115" y="7897"/>
                  <a:pt x="15038" y="7732"/>
                  <a:pt x="15106" y="7516"/>
                </a:cubicBezTo>
                <a:cubicBezTo>
                  <a:pt x="15233" y="7567"/>
                  <a:pt x="15397" y="7652"/>
                  <a:pt x="15230" y="7789"/>
                </a:cubicBezTo>
                <a:cubicBezTo>
                  <a:pt x="15111" y="7887"/>
                  <a:pt x="15081" y="7860"/>
                  <a:pt x="15081" y="7764"/>
                </a:cubicBezTo>
              </a:path>
              <a:path w="4143" h="1464">
                <a:moveTo>
                  <a:pt x="15453" y="7466"/>
                </a:moveTo>
                <a:cubicBezTo>
                  <a:pt x="15407" y="7512"/>
                  <a:pt x="15393" y="7525"/>
                  <a:pt x="15379" y="7565"/>
                </a:cubicBezTo>
                <a:cubicBezTo>
                  <a:pt x="15452" y="7593"/>
                  <a:pt x="15514" y="7619"/>
                  <a:pt x="15577" y="7665"/>
                </a:cubicBezTo>
                <a:cubicBezTo>
                  <a:pt x="15461" y="7794"/>
                  <a:pt x="15480" y="7756"/>
                  <a:pt x="15280" y="7739"/>
                </a:cubicBezTo>
              </a:path>
              <a:path w="4143" h="1464">
                <a:moveTo>
                  <a:pt x="15280" y="7739"/>
                </a:moveTo>
                <a:lnTo>
                  <a:pt x="15280" y="7739"/>
                </a:lnTo>
              </a:path>
              <a:path w="4143" h="1464">
                <a:moveTo>
                  <a:pt x="14436" y="7317"/>
                </a:moveTo>
                <a:cubicBezTo>
                  <a:pt x="14475" y="7490"/>
                  <a:pt x="14527" y="7662"/>
                  <a:pt x="14560" y="7838"/>
                </a:cubicBezTo>
              </a:path>
              <a:path w="4143" h="1464">
                <a:moveTo>
                  <a:pt x="12526" y="8657"/>
                </a:moveTo>
                <a:cubicBezTo>
                  <a:pt x="12619" y="8449"/>
                  <a:pt x="12916" y="8502"/>
                  <a:pt x="13122" y="8508"/>
                </a:cubicBezTo>
                <a:cubicBezTo>
                  <a:pt x="13839" y="8528"/>
                  <a:pt x="14538" y="8697"/>
                  <a:pt x="15255" y="8731"/>
                </a:cubicBezTo>
                <a:cubicBezTo>
                  <a:pt x="15360" y="8736"/>
                  <a:pt x="15470" y="8731"/>
                  <a:pt x="15577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32160" y="3178080"/>
            <a:ext cx="1366920" cy="287280"/>
          </a:xfrm>
          <a:custGeom>
            <a:avLst/>
            <a:gdLst/>
            <a:ahLst/>
            <a:rect l="l" t="t" r="r" b="b"/>
            <a:pathLst>
              <a:path w="3797" h="795">
                <a:moveTo>
                  <a:pt x="11857" y="9178"/>
                </a:moveTo>
                <a:cubicBezTo>
                  <a:pt x="11883" y="9269"/>
                  <a:pt x="11905" y="9360"/>
                  <a:pt x="11931" y="9451"/>
                </a:cubicBezTo>
              </a:path>
              <a:path w="3797" h="795">
                <a:moveTo>
                  <a:pt x="12030" y="9227"/>
                </a:moveTo>
                <a:cubicBezTo>
                  <a:pt x="12051" y="9279"/>
                  <a:pt x="12140" y="9406"/>
                  <a:pt x="12080" y="9376"/>
                </a:cubicBezTo>
              </a:path>
              <a:path w="3797" h="795">
                <a:moveTo>
                  <a:pt x="12080" y="9376"/>
                </a:moveTo>
                <a:lnTo>
                  <a:pt x="12080" y="9376"/>
                </a:lnTo>
              </a:path>
              <a:path w="3797" h="795">
                <a:moveTo>
                  <a:pt x="11757" y="9376"/>
                </a:moveTo>
                <a:cubicBezTo>
                  <a:pt x="11914" y="9309"/>
                  <a:pt x="11955" y="9291"/>
                  <a:pt x="12055" y="9252"/>
                </a:cubicBezTo>
              </a:path>
              <a:path w="3797" h="795">
                <a:moveTo>
                  <a:pt x="11981" y="9451"/>
                </a:moveTo>
                <a:cubicBezTo>
                  <a:pt x="12133" y="9374"/>
                  <a:pt x="12188" y="9347"/>
                  <a:pt x="12303" y="9327"/>
                </a:cubicBezTo>
              </a:path>
              <a:path w="3797" h="795">
                <a:moveTo>
                  <a:pt x="12303" y="9327"/>
                </a:moveTo>
                <a:lnTo>
                  <a:pt x="12303" y="9327"/>
                </a:lnTo>
              </a:path>
              <a:path w="3797" h="795">
                <a:moveTo>
                  <a:pt x="12750" y="9252"/>
                </a:moveTo>
                <a:cubicBezTo>
                  <a:pt x="12673" y="9367"/>
                  <a:pt x="12663" y="9437"/>
                  <a:pt x="12650" y="9575"/>
                </a:cubicBezTo>
                <a:cubicBezTo>
                  <a:pt x="12758" y="9591"/>
                  <a:pt x="13015" y="9420"/>
                  <a:pt x="12824" y="9277"/>
                </a:cubicBezTo>
                <a:cubicBezTo>
                  <a:pt x="12732" y="9277"/>
                  <a:pt x="12705" y="9275"/>
                  <a:pt x="12650" y="9302"/>
                </a:cubicBezTo>
              </a:path>
              <a:path w="3797" h="795">
                <a:moveTo>
                  <a:pt x="13072" y="9029"/>
                </a:moveTo>
                <a:cubicBezTo>
                  <a:pt x="12987" y="9224"/>
                  <a:pt x="13065" y="9338"/>
                  <a:pt x="13171" y="9525"/>
                </a:cubicBezTo>
                <a:cubicBezTo>
                  <a:pt x="13209" y="9581"/>
                  <a:pt x="13247" y="9606"/>
                  <a:pt x="13196" y="9599"/>
                </a:cubicBezTo>
              </a:path>
              <a:path w="3797" h="795">
                <a:moveTo>
                  <a:pt x="12923" y="9376"/>
                </a:moveTo>
                <a:cubicBezTo>
                  <a:pt x="13130" y="9318"/>
                  <a:pt x="13221" y="9292"/>
                  <a:pt x="13370" y="9252"/>
                </a:cubicBezTo>
              </a:path>
              <a:path w="3797" h="795">
                <a:moveTo>
                  <a:pt x="13816" y="8979"/>
                </a:moveTo>
                <a:cubicBezTo>
                  <a:pt x="13853" y="9037"/>
                  <a:pt x="14080" y="9336"/>
                  <a:pt x="14039" y="9376"/>
                </a:cubicBezTo>
              </a:path>
              <a:path w="3797" h="795">
                <a:moveTo>
                  <a:pt x="13667" y="9252"/>
                </a:moveTo>
                <a:cubicBezTo>
                  <a:pt x="13859" y="9208"/>
                  <a:pt x="14044" y="9133"/>
                  <a:pt x="14238" y="9103"/>
                </a:cubicBezTo>
                <a:cubicBezTo>
                  <a:pt x="14252" y="9169"/>
                  <a:pt x="14251" y="9447"/>
                  <a:pt x="14412" y="9376"/>
                </a:cubicBezTo>
                <a:cubicBezTo>
                  <a:pt x="14646" y="9273"/>
                  <a:pt x="14489" y="9104"/>
                  <a:pt x="14337" y="9103"/>
                </a:cubicBezTo>
              </a:path>
              <a:path w="3797" h="795">
                <a:moveTo>
                  <a:pt x="14585" y="8930"/>
                </a:moveTo>
                <a:cubicBezTo>
                  <a:pt x="14652" y="9045"/>
                  <a:pt x="14720" y="9160"/>
                  <a:pt x="14784" y="9277"/>
                </a:cubicBezTo>
              </a:path>
              <a:path w="3797" h="795">
                <a:moveTo>
                  <a:pt x="14461" y="9153"/>
                </a:moveTo>
                <a:cubicBezTo>
                  <a:pt x="14682" y="9141"/>
                  <a:pt x="14885" y="9089"/>
                  <a:pt x="15106" y="9079"/>
                </a:cubicBezTo>
                <a:cubicBezTo>
                  <a:pt x="15131" y="9079"/>
                  <a:pt x="15155" y="9079"/>
                  <a:pt x="15180" y="9079"/>
                </a:cubicBezTo>
              </a:path>
              <a:path w="3797" h="795">
                <a:moveTo>
                  <a:pt x="15131" y="9079"/>
                </a:moveTo>
                <a:cubicBezTo>
                  <a:pt x="15009" y="9166"/>
                  <a:pt x="15023" y="9193"/>
                  <a:pt x="15007" y="9351"/>
                </a:cubicBezTo>
                <a:cubicBezTo>
                  <a:pt x="15106" y="9329"/>
                  <a:pt x="15060" y="9120"/>
                  <a:pt x="15156" y="9153"/>
                </a:cubicBezTo>
                <a:cubicBezTo>
                  <a:pt x="15281" y="9197"/>
                  <a:pt x="15446" y="9391"/>
                  <a:pt x="15478" y="9079"/>
                </a:cubicBezTo>
                <a:cubicBezTo>
                  <a:pt x="15470" y="9029"/>
                  <a:pt x="15461" y="8980"/>
                  <a:pt x="15453" y="8930"/>
                </a:cubicBezTo>
                <a:cubicBezTo>
                  <a:pt x="15417" y="8856"/>
                  <a:pt x="15429" y="8823"/>
                  <a:pt x="15379" y="8830"/>
                </a:cubicBezTo>
                <a:cubicBezTo>
                  <a:pt x="15446" y="8994"/>
                  <a:pt x="15524" y="9153"/>
                  <a:pt x="15553" y="9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37080" y="3490920"/>
            <a:ext cx="936720" cy="223920"/>
          </a:xfrm>
          <a:custGeom>
            <a:avLst/>
            <a:gdLst/>
            <a:ahLst/>
            <a:rect l="l" t="t" r="r" b="b"/>
            <a:pathLst>
              <a:path w="2605" h="621">
                <a:moveTo>
                  <a:pt x="12923" y="9823"/>
                </a:moveTo>
                <a:cubicBezTo>
                  <a:pt x="12841" y="9754"/>
                  <a:pt x="12830" y="9762"/>
                  <a:pt x="12725" y="9748"/>
                </a:cubicBezTo>
                <a:cubicBezTo>
                  <a:pt x="12664" y="9931"/>
                  <a:pt x="12718" y="10137"/>
                  <a:pt x="12824" y="10319"/>
                </a:cubicBezTo>
                <a:cubicBezTo>
                  <a:pt x="12868" y="10394"/>
                  <a:pt x="12745" y="10221"/>
                  <a:pt x="12675" y="10170"/>
                </a:cubicBezTo>
              </a:path>
              <a:path w="2605" h="621">
                <a:moveTo>
                  <a:pt x="12601" y="10220"/>
                </a:moveTo>
                <a:cubicBezTo>
                  <a:pt x="12785" y="10180"/>
                  <a:pt x="13057" y="10168"/>
                  <a:pt x="13047" y="9922"/>
                </a:cubicBezTo>
                <a:cubicBezTo>
                  <a:pt x="13039" y="9905"/>
                  <a:pt x="13030" y="9889"/>
                  <a:pt x="13022" y="9872"/>
                </a:cubicBezTo>
                <a:cubicBezTo>
                  <a:pt x="13037" y="9964"/>
                  <a:pt x="13084" y="10301"/>
                  <a:pt x="13196" y="10319"/>
                </a:cubicBezTo>
                <a:cubicBezTo>
                  <a:pt x="13221" y="10302"/>
                  <a:pt x="13246" y="10286"/>
                  <a:pt x="13271" y="10269"/>
                </a:cubicBezTo>
              </a:path>
              <a:path w="2605" h="621">
                <a:moveTo>
                  <a:pt x="13320" y="10021"/>
                </a:moveTo>
                <a:cubicBezTo>
                  <a:pt x="13312" y="10189"/>
                  <a:pt x="13301" y="10200"/>
                  <a:pt x="13419" y="10319"/>
                </a:cubicBezTo>
                <a:cubicBezTo>
                  <a:pt x="13469" y="10227"/>
                  <a:pt x="13559" y="10048"/>
                  <a:pt x="13370" y="10021"/>
                </a:cubicBezTo>
                <a:cubicBezTo>
                  <a:pt x="13362" y="10029"/>
                  <a:pt x="13353" y="10038"/>
                  <a:pt x="13345" y="10046"/>
                </a:cubicBezTo>
              </a:path>
              <a:path w="2605" h="621">
                <a:moveTo>
                  <a:pt x="13345" y="10046"/>
                </a:moveTo>
                <a:lnTo>
                  <a:pt x="13345" y="10046"/>
                </a:lnTo>
              </a:path>
              <a:path w="2605" h="621">
                <a:moveTo>
                  <a:pt x="13593" y="10071"/>
                </a:moveTo>
                <a:cubicBezTo>
                  <a:pt x="13646" y="10170"/>
                  <a:pt x="13650" y="10210"/>
                  <a:pt x="13742" y="10244"/>
                </a:cubicBezTo>
                <a:cubicBezTo>
                  <a:pt x="13794" y="10139"/>
                  <a:pt x="13829" y="10012"/>
                  <a:pt x="13791" y="9971"/>
                </a:cubicBezTo>
                <a:cubicBezTo>
                  <a:pt x="13813" y="10038"/>
                  <a:pt x="13972" y="10383"/>
                  <a:pt x="14089" y="10195"/>
                </a:cubicBezTo>
                <a:cubicBezTo>
                  <a:pt x="14173" y="10060"/>
                  <a:pt x="14050" y="9958"/>
                  <a:pt x="13940" y="9922"/>
                </a:cubicBezTo>
              </a:path>
              <a:path w="2605" h="621">
                <a:moveTo>
                  <a:pt x="14238" y="10021"/>
                </a:moveTo>
                <a:cubicBezTo>
                  <a:pt x="14341" y="9969"/>
                  <a:pt x="14361" y="9950"/>
                  <a:pt x="14412" y="9847"/>
                </a:cubicBezTo>
                <a:cubicBezTo>
                  <a:pt x="14266" y="9896"/>
                  <a:pt x="14262" y="10015"/>
                  <a:pt x="14337" y="10145"/>
                </a:cubicBezTo>
                <a:cubicBezTo>
                  <a:pt x="14445" y="10334"/>
                  <a:pt x="14540" y="10152"/>
                  <a:pt x="14610" y="10071"/>
                </a:cubicBezTo>
              </a:path>
              <a:path w="2605" h="621">
                <a:moveTo>
                  <a:pt x="14635" y="9971"/>
                </a:moveTo>
                <a:cubicBezTo>
                  <a:pt x="14657" y="10060"/>
                  <a:pt x="14658" y="10085"/>
                  <a:pt x="14709" y="10120"/>
                </a:cubicBezTo>
                <a:cubicBezTo>
                  <a:pt x="14635" y="10028"/>
                  <a:pt x="14634" y="9877"/>
                  <a:pt x="14759" y="9798"/>
                </a:cubicBezTo>
                <a:cubicBezTo>
                  <a:pt x="14890" y="9745"/>
                  <a:pt x="14939" y="9726"/>
                  <a:pt x="15032" y="9699"/>
                </a:cubicBezTo>
              </a:path>
              <a:path w="2605" h="621">
                <a:moveTo>
                  <a:pt x="15056" y="9699"/>
                </a:moveTo>
                <a:cubicBezTo>
                  <a:pt x="15023" y="9750"/>
                  <a:pt x="14995" y="9801"/>
                  <a:pt x="14957" y="9847"/>
                </a:cubicBezTo>
                <a:cubicBezTo>
                  <a:pt x="15066" y="9878"/>
                  <a:pt x="15227" y="9868"/>
                  <a:pt x="15205" y="10021"/>
                </a:cubicBezTo>
                <a:cubicBezTo>
                  <a:pt x="15174" y="10084"/>
                  <a:pt x="15151" y="10101"/>
                  <a:pt x="15081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5960" y="3178080"/>
            <a:ext cx="108000" cy="73080"/>
          </a:xfrm>
          <a:custGeom>
            <a:avLst/>
            <a:gdLst/>
            <a:ahLst/>
            <a:rect l="l" t="t" r="r" b="b"/>
            <a:pathLst>
              <a:path w="299" h="200">
                <a:moveTo>
                  <a:pt x="8210" y="8855"/>
                </a:moveTo>
                <a:cubicBezTo>
                  <a:pt x="8272" y="8855"/>
                  <a:pt x="8289" y="8833"/>
                  <a:pt x="8359" y="8830"/>
                </a:cubicBezTo>
                <a:cubicBezTo>
                  <a:pt x="8425" y="8830"/>
                  <a:pt x="8442" y="8830"/>
                  <a:pt x="8483" y="8830"/>
                </a:cubicBezTo>
              </a:path>
              <a:path w="299" h="200">
                <a:moveTo>
                  <a:pt x="8334" y="9004"/>
                </a:moveTo>
                <a:cubicBezTo>
                  <a:pt x="8334" y="9012"/>
                  <a:pt x="8334" y="9021"/>
                  <a:pt x="8334" y="9029"/>
                </a:cubicBezTo>
                <a:cubicBezTo>
                  <a:pt x="8394" y="9017"/>
                  <a:pt x="8450" y="9001"/>
                  <a:pt x="8508" y="8979"/>
                </a:cubicBezTo>
              </a:path>
              <a:path w="299" h="200">
                <a:moveTo>
                  <a:pt x="8508" y="8979"/>
                </a:moveTo>
                <a:lnTo>
                  <a:pt x="8508" y="897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4880" y="2581200"/>
            <a:ext cx="750960" cy="1106640"/>
          </a:xfrm>
          <a:custGeom>
            <a:avLst/>
            <a:gdLst/>
            <a:ahLst/>
            <a:rect l="l" t="t" r="r" b="b"/>
            <a:pathLst>
              <a:path w="2085" h="3076">
                <a:moveTo>
                  <a:pt x="9599" y="7838"/>
                </a:moveTo>
                <a:cubicBezTo>
                  <a:pt x="9599" y="7971"/>
                  <a:pt x="9641" y="8102"/>
                  <a:pt x="9649" y="8235"/>
                </a:cubicBezTo>
                <a:cubicBezTo>
                  <a:pt x="9658" y="8380"/>
                  <a:pt x="9653" y="8380"/>
                  <a:pt x="9674" y="8483"/>
                </a:cubicBezTo>
              </a:path>
              <a:path w="2085" h="3076">
                <a:moveTo>
                  <a:pt x="9227" y="8657"/>
                </a:moveTo>
                <a:cubicBezTo>
                  <a:pt x="9461" y="8620"/>
                  <a:pt x="9688" y="8550"/>
                  <a:pt x="9922" y="8533"/>
                </a:cubicBezTo>
                <a:cubicBezTo>
                  <a:pt x="9930" y="8533"/>
                  <a:pt x="9939" y="8533"/>
                  <a:pt x="9947" y="8533"/>
                </a:cubicBezTo>
              </a:path>
              <a:path w="2085" h="3076">
                <a:moveTo>
                  <a:pt x="9451" y="8880"/>
                </a:moveTo>
                <a:cubicBezTo>
                  <a:pt x="9479" y="8754"/>
                  <a:pt x="9532" y="8730"/>
                  <a:pt x="9649" y="8682"/>
                </a:cubicBezTo>
                <a:cubicBezTo>
                  <a:pt x="9783" y="8829"/>
                  <a:pt x="9753" y="8901"/>
                  <a:pt x="9624" y="9054"/>
                </a:cubicBezTo>
                <a:cubicBezTo>
                  <a:pt x="9616" y="9062"/>
                  <a:pt x="9607" y="9071"/>
                  <a:pt x="9599" y="9079"/>
                </a:cubicBezTo>
                <a:cubicBezTo>
                  <a:pt x="9619" y="8999"/>
                  <a:pt x="9757" y="8972"/>
                  <a:pt x="9823" y="9029"/>
                </a:cubicBezTo>
                <a:cubicBezTo>
                  <a:pt x="10031" y="9210"/>
                  <a:pt x="9810" y="9435"/>
                  <a:pt x="9649" y="9525"/>
                </a:cubicBezTo>
                <a:cubicBezTo>
                  <a:pt x="9624" y="9533"/>
                  <a:pt x="9600" y="9542"/>
                  <a:pt x="9575" y="9550"/>
                </a:cubicBezTo>
              </a:path>
              <a:path w="2085" h="3076">
                <a:moveTo>
                  <a:pt x="10120" y="7293"/>
                </a:moveTo>
                <a:cubicBezTo>
                  <a:pt x="10000" y="7210"/>
                  <a:pt x="9944" y="7175"/>
                  <a:pt x="9773" y="7169"/>
                </a:cubicBezTo>
                <a:cubicBezTo>
                  <a:pt x="9590" y="7162"/>
                  <a:pt x="9396" y="7198"/>
                  <a:pt x="9227" y="7268"/>
                </a:cubicBezTo>
                <a:cubicBezTo>
                  <a:pt x="9040" y="7346"/>
                  <a:pt x="8894" y="7429"/>
                  <a:pt x="8731" y="7541"/>
                </a:cubicBezTo>
                <a:cubicBezTo>
                  <a:pt x="8669" y="7584"/>
                  <a:pt x="8582" y="7596"/>
                  <a:pt x="8533" y="7640"/>
                </a:cubicBezTo>
                <a:cubicBezTo>
                  <a:pt x="8460" y="7706"/>
                  <a:pt x="8460" y="7798"/>
                  <a:pt x="8458" y="7888"/>
                </a:cubicBezTo>
                <a:cubicBezTo>
                  <a:pt x="8453" y="8081"/>
                  <a:pt x="8530" y="8205"/>
                  <a:pt x="8582" y="8384"/>
                </a:cubicBezTo>
                <a:cubicBezTo>
                  <a:pt x="8639" y="8580"/>
                  <a:pt x="8677" y="8783"/>
                  <a:pt x="8731" y="8979"/>
                </a:cubicBezTo>
                <a:cubicBezTo>
                  <a:pt x="8789" y="9192"/>
                  <a:pt x="8842" y="9385"/>
                  <a:pt x="8830" y="9599"/>
                </a:cubicBezTo>
                <a:cubicBezTo>
                  <a:pt x="8823" y="9730"/>
                  <a:pt x="8788" y="9864"/>
                  <a:pt x="8806" y="9996"/>
                </a:cubicBezTo>
                <a:cubicBezTo>
                  <a:pt x="8812" y="10044"/>
                  <a:pt x="8826" y="10156"/>
                  <a:pt x="8855" y="10195"/>
                </a:cubicBezTo>
                <a:cubicBezTo>
                  <a:pt x="8935" y="10303"/>
                  <a:pt x="9242" y="10244"/>
                  <a:pt x="9351" y="10244"/>
                </a:cubicBezTo>
                <a:cubicBezTo>
                  <a:pt x="9543" y="10244"/>
                  <a:pt x="9757" y="10243"/>
                  <a:pt x="9947" y="10220"/>
                </a:cubicBezTo>
                <a:cubicBezTo>
                  <a:pt x="10039" y="10209"/>
                  <a:pt x="10157" y="10169"/>
                  <a:pt x="10244" y="10145"/>
                </a:cubicBezTo>
                <a:cubicBezTo>
                  <a:pt x="10251" y="10143"/>
                  <a:pt x="10307" y="10109"/>
                  <a:pt x="10319" y="10096"/>
                </a:cubicBezTo>
                <a:cubicBezTo>
                  <a:pt x="10420" y="9985"/>
                  <a:pt x="10443" y="9788"/>
                  <a:pt x="10468" y="9649"/>
                </a:cubicBezTo>
                <a:cubicBezTo>
                  <a:pt x="10494" y="9505"/>
                  <a:pt x="10533" y="9346"/>
                  <a:pt x="10542" y="9203"/>
                </a:cubicBezTo>
                <a:cubicBezTo>
                  <a:pt x="10550" y="9073"/>
                  <a:pt x="10535" y="8934"/>
                  <a:pt x="10517" y="8806"/>
                </a:cubicBezTo>
                <a:cubicBezTo>
                  <a:pt x="10495" y="8656"/>
                  <a:pt x="10503" y="8505"/>
                  <a:pt x="10468" y="8359"/>
                </a:cubicBezTo>
                <a:cubicBezTo>
                  <a:pt x="10447" y="8271"/>
                  <a:pt x="10436" y="8195"/>
                  <a:pt x="10418" y="8111"/>
                </a:cubicBezTo>
                <a:cubicBezTo>
                  <a:pt x="10402" y="8036"/>
                  <a:pt x="10382" y="7981"/>
                  <a:pt x="10368" y="7913"/>
                </a:cubicBezTo>
                <a:cubicBezTo>
                  <a:pt x="10353" y="7841"/>
                  <a:pt x="10359" y="7761"/>
                  <a:pt x="10344" y="7689"/>
                </a:cubicBezTo>
                <a:cubicBezTo>
                  <a:pt x="10327" y="7607"/>
                  <a:pt x="10304" y="7561"/>
                  <a:pt x="10269" y="7491"/>
                </a:cubicBezTo>
                <a:cubicBezTo>
                  <a:pt x="10269" y="7463"/>
                  <a:pt x="10267" y="7452"/>
                  <a:pt x="10244" y="74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67080" y="4929120"/>
            <a:ext cx="2214720" cy="71640"/>
          </a:xfrm>
          <a:custGeom>
            <a:avLst/>
            <a:gdLst/>
            <a:ahLst/>
            <a:rect l="l" t="t" r="r" b="b"/>
            <a:pathLst>
              <a:path w="6153" h="200">
                <a:moveTo>
                  <a:pt x="9351" y="13791"/>
                </a:moveTo>
                <a:cubicBezTo>
                  <a:pt x="9356" y="13789"/>
                  <a:pt x="9402" y="13747"/>
                  <a:pt x="9426" y="13742"/>
                </a:cubicBezTo>
                <a:cubicBezTo>
                  <a:pt x="9463" y="13735"/>
                  <a:pt x="9541" y="13721"/>
                  <a:pt x="9575" y="13717"/>
                </a:cubicBezTo>
                <a:cubicBezTo>
                  <a:pt x="9626" y="13711"/>
                  <a:pt x="9730" y="13690"/>
                  <a:pt x="9773" y="13692"/>
                </a:cubicBezTo>
                <a:cubicBezTo>
                  <a:pt x="9777" y="13692"/>
                  <a:pt x="9858" y="13713"/>
                  <a:pt x="9872" y="13717"/>
                </a:cubicBezTo>
                <a:cubicBezTo>
                  <a:pt x="9957" y="13742"/>
                  <a:pt x="10036" y="13794"/>
                  <a:pt x="10120" y="13816"/>
                </a:cubicBezTo>
                <a:cubicBezTo>
                  <a:pt x="10175" y="13830"/>
                  <a:pt x="10351" y="13864"/>
                  <a:pt x="10368" y="13866"/>
                </a:cubicBezTo>
                <a:cubicBezTo>
                  <a:pt x="10516" y="13882"/>
                  <a:pt x="10684" y="13851"/>
                  <a:pt x="10815" y="13841"/>
                </a:cubicBezTo>
                <a:cubicBezTo>
                  <a:pt x="10913" y="13833"/>
                  <a:pt x="11026" y="13870"/>
                  <a:pt x="11112" y="13866"/>
                </a:cubicBezTo>
                <a:cubicBezTo>
                  <a:pt x="11212" y="13861"/>
                  <a:pt x="11307" y="13843"/>
                  <a:pt x="11410" y="13841"/>
                </a:cubicBezTo>
                <a:cubicBezTo>
                  <a:pt x="11518" y="13839"/>
                  <a:pt x="11608" y="13847"/>
                  <a:pt x="11708" y="13866"/>
                </a:cubicBezTo>
                <a:cubicBezTo>
                  <a:pt x="11803" y="13884"/>
                  <a:pt x="11903" y="13905"/>
                  <a:pt x="12005" y="13891"/>
                </a:cubicBezTo>
                <a:cubicBezTo>
                  <a:pt x="12121" y="13875"/>
                  <a:pt x="12238" y="13859"/>
                  <a:pt x="12353" y="13841"/>
                </a:cubicBezTo>
                <a:cubicBezTo>
                  <a:pt x="12435" y="13828"/>
                  <a:pt x="12519" y="13829"/>
                  <a:pt x="12601" y="13816"/>
                </a:cubicBezTo>
                <a:cubicBezTo>
                  <a:pt x="12682" y="13803"/>
                  <a:pt x="12766" y="13773"/>
                  <a:pt x="12849" y="13767"/>
                </a:cubicBezTo>
                <a:cubicBezTo>
                  <a:pt x="12969" y="13758"/>
                  <a:pt x="13078" y="13730"/>
                  <a:pt x="13196" y="13717"/>
                </a:cubicBezTo>
                <a:cubicBezTo>
                  <a:pt x="13299" y="13705"/>
                  <a:pt x="13396" y="13723"/>
                  <a:pt x="13494" y="13742"/>
                </a:cubicBezTo>
                <a:cubicBezTo>
                  <a:pt x="13607" y="13764"/>
                  <a:pt x="13650" y="13744"/>
                  <a:pt x="13767" y="13742"/>
                </a:cubicBezTo>
                <a:cubicBezTo>
                  <a:pt x="13967" y="13738"/>
                  <a:pt x="14163" y="13721"/>
                  <a:pt x="14362" y="13717"/>
                </a:cubicBezTo>
                <a:cubicBezTo>
                  <a:pt x="14484" y="13714"/>
                  <a:pt x="14593" y="13723"/>
                  <a:pt x="14709" y="13742"/>
                </a:cubicBezTo>
                <a:cubicBezTo>
                  <a:pt x="14813" y="13759"/>
                  <a:pt x="14899" y="13767"/>
                  <a:pt x="15007" y="13767"/>
                </a:cubicBezTo>
                <a:cubicBezTo>
                  <a:pt x="15176" y="13767"/>
                  <a:pt x="15343" y="13772"/>
                  <a:pt x="15503" y="137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8120" y="4633920"/>
            <a:ext cx="1241640" cy="465120"/>
          </a:xfrm>
          <a:custGeom>
            <a:avLst/>
            <a:gdLst/>
            <a:ahLst/>
            <a:rect l="l" t="t" r="r" b="b"/>
            <a:pathLst>
              <a:path w="3449" h="1290">
                <a:moveTo>
                  <a:pt x="16718" y="13221"/>
                </a:moveTo>
                <a:cubicBezTo>
                  <a:pt x="16761" y="13092"/>
                  <a:pt x="16860" y="13387"/>
                  <a:pt x="16892" y="13519"/>
                </a:cubicBezTo>
                <a:cubicBezTo>
                  <a:pt x="16892" y="13552"/>
                  <a:pt x="16892" y="13585"/>
                  <a:pt x="16892" y="13618"/>
                </a:cubicBezTo>
                <a:cubicBezTo>
                  <a:pt x="16861" y="13464"/>
                  <a:pt x="16771" y="13266"/>
                  <a:pt x="16892" y="13122"/>
                </a:cubicBezTo>
                <a:cubicBezTo>
                  <a:pt x="16962" y="13038"/>
                  <a:pt x="17166" y="13120"/>
                  <a:pt x="17239" y="13146"/>
                </a:cubicBezTo>
              </a:path>
              <a:path w="3449" h="1290">
                <a:moveTo>
                  <a:pt x="17363" y="13295"/>
                </a:moveTo>
                <a:cubicBezTo>
                  <a:pt x="17446" y="13295"/>
                  <a:pt x="17528" y="13295"/>
                  <a:pt x="17611" y="13295"/>
                </a:cubicBezTo>
                <a:cubicBezTo>
                  <a:pt x="17571" y="13195"/>
                  <a:pt x="17528" y="13155"/>
                  <a:pt x="17438" y="13122"/>
                </a:cubicBezTo>
                <a:cubicBezTo>
                  <a:pt x="17301" y="13208"/>
                  <a:pt x="17225" y="13365"/>
                  <a:pt x="17289" y="13543"/>
                </a:cubicBezTo>
                <a:cubicBezTo>
                  <a:pt x="17350" y="13713"/>
                  <a:pt x="17450" y="13635"/>
                  <a:pt x="17562" y="13593"/>
                </a:cubicBezTo>
              </a:path>
              <a:path w="3449" h="1290">
                <a:moveTo>
                  <a:pt x="18058" y="13295"/>
                </a:moveTo>
                <a:cubicBezTo>
                  <a:pt x="18058" y="13214"/>
                  <a:pt x="18017" y="13151"/>
                  <a:pt x="17909" y="13196"/>
                </a:cubicBezTo>
                <a:cubicBezTo>
                  <a:pt x="17750" y="13262"/>
                  <a:pt x="17642" y="13546"/>
                  <a:pt x="17835" y="13643"/>
                </a:cubicBezTo>
                <a:cubicBezTo>
                  <a:pt x="17949" y="13643"/>
                  <a:pt x="17990" y="13630"/>
                  <a:pt x="18008" y="13519"/>
                </a:cubicBezTo>
              </a:path>
              <a:path w="3449" h="1290">
                <a:moveTo>
                  <a:pt x="17934" y="12874"/>
                </a:moveTo>
                <a:cubicBezTo>
                  <a:pt x="17981" y="13094"/>
                  <a:pt x="18039" y="13317"/>
                  <a:pt x="18083" y="13543"/>
                </a:cubicBezTo>
                <a:cubicBezTo>
                  <a:pt x="18101" y="13618"/>
                  <a:pt x="18083" y="13651"/>
                  <a:pt x="18132" y="13643"/>
                </a:cubicBezTo>
              </a:path>
              <a:path w="3449" h="1290">
                <a:moveTo>
                  <a:pt x="18132" y="13643"/>
                </a:moveTo>
                <a:lnTo>
                  <a:pt x="18132" y="13643"/>
                </a:lnTo>
              </a:path>
              <a:path w="3449" h="1290">
                <a:moveTo>
                  <a:pt x="18256" y="13246"/>
                </a:moveTo>
                <a:cubicBezTo>
                  <a:pt x="18289" y="13394"/>
                  <a:pt x="18316" y="13528"/>
                  <a:pt x="18380" y="13667"/>
                </a:cubicBezTo>
                <a:cubicBezTo>
                  <a:pt x="18580" y="13617"/>
                  <a:pt x="18546" y="13489"/>
                  <a:pt x="18554" y="13295"/>
                </a:cubicBezTo>
                <a:cubicBezTo>
                  <a:pt x="18487" y="13185"/>
                  <a:pt x="18575" y="13443"/>
                  <a:pt x="18604" y="13568"/>
                </a:cubicBezTo>
                <a:cubicBezTo>
                  <a:pt x="18624" y="13669"/>
                  <a:pt x="18611" y="13721"/>
                  <a:pt x="18678" y="13667"/>
                </a:cubicBezTo>
              </a:path>
              <a:path w="3449" h="1290">
                <a:moveTo>
                  <a:pt x="18976" y="13295"/>
                </a:moveTo>
                <a:cubicBezTo>
                  <a:pt x="18976" y="13328"/>
                  <a:pt x="18967" y="13237"/>
                  <a:pt x="18926" y="13196"/>
                </a:cubicBezTo>
                <a:cubicBezTo>
                  <a:pt x="18858" y="13319"/>
                  <a:pt x="18771" y="13534"/>
                  <a:pt x="18926" y="13643"/>
                </a:cubicBezTo>
                <a:cubicBezTo>
                  <a:pt x="19045" y="13666"/>
                  <a:pt x="19081" y="13676"/>
                  <a:pt x="19149" y="13618"/>
                </a:cubicBezTo>
              </a:path>
              <a:path w="3449" h="1290">
                <a:moveTo>
                  <a:pt x="19199" y="13246"/>
                </a:moveTo>
                <a:cubicBezTo>
                  <a:pt x="19242" y="13385"/>
                  <a:pt x="19291" y="13527"/>
                  <a:pt x="19323" y="13667"/>
                </a:cubicBezTo>
              </a:path>
              <a:path w="3449" h="1290">
                <a:moveTo>
                  <a:pt x="19323" y="13667"/>
                </a:moveTo>
                <a:lnTo>
                  <a:pt x="19323" y="13667"/>
                </a:lnTo>
              </a:path>
              <a:path w="3449" h="1290">
                <a:moveTo>
                  <a:pt x="19124" y="13022"/>
                </a:moveTo>
                <a:cubicBezTo>
                  <a:pt x="19124" y="13030"/>
                  <a:pt x="19124" y="13039"/>
                  <a:pt x="19124" y="13047"/>
                </a:cubicBezTo>
              </a:path>
              <a:path w="3449" h="1290">
                <a:moveTo>
                  <a:pt x="19422" y="13444"/>
                </a:moveTo>
                <a:cubicBezTo>
                  <a:pt x="19444" y="13577"/>
                  <a:pt x="19449" y="13611"/>
                  <a:pt x="19472" y="13692"/>
                </a:cubicBezTo>
                <a:cubicBezTo>
                  <a:pt x="19472" y="13564"/>
                  <a:pt x="19434" y="13451"/>
                  <a:pt x="19447" y="13320"/>
                </a:cubicBezTo>
                <a:cubicBezTo>
                  <a:pt x="19455" y="13295"/>
                  <a:pt x="19464" y="13271"/>
                  <a:pt x="19472" y="13246"/>
                </a:cubicBezTo>
                <a:cubicBezTo>
                  <a:pt x="19664" y="13298"/>
                  <a:pt x="19715" y="13427"/>
                  <a:pt x="19769" y="13618"/>
                </a:cubicBezTo>
                <a:cubicBezTo>
                  <a:pt x="19769" y="13634"/>
                  <a:pt x="19769" y="13651"/>
                  <a:pt x="19769" y="13667"/>
                </a:cubicBezTo>
              </a:path>
              <a:path w="3449" h="1290">
                <a:moveTo>
                  <a:pt x="19869" y="13295"/>
                </a:moveTo>
                <a:cubicBezTo>
                  <a:pt x="19868" y="13300"/>
                  <a:pt x="19822" y="13946"/>
                  <a:pt x="19968" y="13692"/>
                </a:cubicBezTo>
                <a:cubicBezTo>
                  <a:pt x="19996" y="13553"/>
                  <a:pt x="20004" y="13496"/>
                  <a:pt x="19993" y="13395"/>
                </a:cubicBezTo>
                <a:cubicBezTo>
                  <a:pt x="19969" y="13347"/>
                  <a:pt x="19961" y="13328"/>
                  <a:pt x="19968" y="13395"/>
                </a:cubicBezTo>
                <a:cubicBezTo>
                  <a:pt x="20062" y="13552"/>
                  <a:pt x="20243" y="13819"/>
                  <a:pt x="20141" y="14015"/>
                </a:cubicBezTo>
                <a:cubicBezTo>
                  <a:pt x="20030" y="14228"/>
                  <a:pt x="19900" y="14148"/>
                  <a:pt x="19745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67760" y="4660920"/>
            <a:ext cx="419040" cy="233280"/>
          </a:xfrm>
          <a:custGeom>
            <a:avLst/>
            <a:gdLst/>
            <a:ahLst/>
            <a:rect l="l" t="t" r="r" b="b"/>
            <a:pathLst>
              <a:path w="1167" h="646">
                <a:moveTo>
                  <a:pt x="20737" y="13022"/>
                </a:moveTo>
                <a:cubicBezTo>
                  <a:pt x="20778" y="13189"/>
                  <a:pt x="20861" y="13365"/>
                  <a:pt x="20861" y="13543"/>
                </a:cubicBezTo>
                <a:cubicBezTo>
                  <a:pt x="20853" y="13560"/>
                  <a:pt x="20844" y="13576"/>
                  <a:pt x="20836" y="13593"/>
                </a:cubicBezTo>
              </a:path>
              <a:path w="1167" h="646">
                <a:moveTo>
                  <a:pt x="20464" y="13295"/>
                </a:moveTo>
                <a:cubicBezTo>
                  <a:pt x="20619" y="13328"/>
                  <a:pt x="20879" y="13422"/>
                  <a:pt x="20985" y="13246"/>
                </a:cubicBezTo>
                <a:cubicBezTo>
                  <a:pt x="21012" y="13112"/>
                  <a:pt x="21017" y="13061"/>
                  <a:pt x="20960" y="12973"/>
                </a:cubicBezTo>
              </a:path>
              <a:path w="1167" h="646">
                <a:moveTo>
                  <a:pt x="20935" y="12948"/>
                </a:moveTo>
                <a:cubicBezTo>
                  <a:pt x="20980" y="13138"/>
                  <a:pt x="21021" y="13328"/>
                  <a:pt x="21059" y="13519"/>
                </a:cubicBezTo>
                <a:cubicBezTo>
                  <a:pt x="21059" y="13498"/>
                  <a:pt x="21057" y="13103"/>
                  <a:pt x="21183" y="13196"/>
                </a:cubicBezTo>
                <a:cubicBezTo>
                  <a:pt x="21213" y="13218"/>
                  <a:pt x="21411" y="13608"/>
                  <a:pt x="21357" y="13395"/>
                </a:cubicBezTo>
              </a:path>
              <a:path w="1167" h="646">
                <a:moveTo>
                  <a:pt x="21481" y="13196"/>
                </a:moveTo>
                <a:cubicBezTo>
                  <a:pt x="21526" y="13138"/>
                  <a:pt x="21561" y="13117"/>
                  <a:pt x="21530" y="13072"/>
                </a:cubicBezTo>
                <a:cubicBezTo>
                  <a:pt x="21456" y="13128"/>
                  <a:pt x="21221" y="13478"/>
                  <a:pt x="21456" y="13543"/>
                </a:cubicBezTo>
                <a:cubicBezTo>
                  <a:pt x="21514" y="13527"/>
                  <a:pt x="21572" y="13510"/>
                  <a:pt x="21630" y="13494"/>
                </a:cubicBezTo>
              </a:path>
              <a:path w="1167" h="646">
                <a:moveTo>
                  <a:pt x="21630" y="13494"/>
                </a:moveTo>
                <a:lnTo>
                  <a:pt x="21630" y="1349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83360" y="4589640"/>
            <a:ext cx="741600" cy="393480"/>
          </a:xfrm>
          <a:custGeom>
            <a:avLst/>
            <a:gdLst/>
            <a:ahLst/>
            <a:rect l="l" t="t" r="r" b="b"/>
            <a:pathLst>
              <a:path w="2060" h="1092">
                <a:moveTo>
                  <a:pt x="22423" y="13196"/>
                </a:moveTo>
                <a:cubicBezTo>
                  <a:pt x="22471" y="13148"/>
                  <a:pt x="22346" y="13044"/>
                  <a:pt x="22250" y="13122"/>
                </a:cubicBezTo>
                <a:cubicBezTo>
                  <a:pt x="22097" y="13247"/>
                  <a:pt x="22200" y="13698"/>
                  <a:pt x="22374" y="13519"/>
                </a:cubicBezTo>
                <a:cubicBezTo>
                  <a:pt x="22407" y="13453"/>
                  <a:pt x="22440" y="13386"/>
                  <a:pt x="22473" y="13320"/>
                </a:cubicBezTo>
              </a:path>
              <a:path w="2060" h="1092">
                <a:moveTo>
                  <a:pt x="22349" y="12799"/>
                </a:moveTo>
                <a:cubicBezTo>
                  <a:pt x="22424" y="13012"/>
                  <a:pt x="22509" y="13220"/>
                  <a:pt x="22547" y="13444"/>
                </a:cubicBezTo>
                <a:cubicBezTo>
                  <a:pt x="22547" y="13461"/>
                  <a:pt x="22547" y="13477"/>
                  <a:pt x="22547" y="13494"/>
                </a:cubicBezTo>
              </a:path>
              <a:path w="2060" h="1092">
                <a:moveTo>
                  <a:pt x="22547" y="13494"/>
                </a:moveTo>
                <a:lnTo>
                  <a:pt x="22547" y="13494"/>
                </a:lnTo>
              </a:path>
              <a:path w="2060" h="1092">
                <a:moveTo>
                  <a:pt x="22696" y="13271"/>
                </a:moveTo>
                <a:cubicBezTo>
                  <a:pt x="22736" y="13371"/>
                  <a:pt x="22741" y="13389"/>
                  <a:pt x="22771" y="13444"/>
                </a:cubicBezTo>
              </a:path>
              <a:path w="2060" h="1092">
                <a:moveTo>
                  <a:pt x="22647" y="12923"/>
                </a:moveTo>
                <a:cubicBezTo>
                  <a:pt x="22681" y="12959"/>
                  <a:pt x="22703" y="12972"/>
                  <a:pt x="22746" y="12973"/>
                </a:cubicBezTo>
              </a:path>
              <a:path w="2060" h="1092">
                <a:moveTo>
                  <a:pt x="23019" y="13047"/>
                </a:moveTo>
                <a:cubicBezTo>
                  <a:pt x="22875" y="13095"/>
                  <a:pt x="22837" y="13274"/>
                  <a:pt x="22870" y="13419"/>
                </a:cubicBezTo>
                <a:cubicBezTo>
                  <a:pt x="22920" y="13638"/>
                  <a:pt x="23042" y="13139"/>
                  <a:pt x="23044" y="13097"/>
                </a:cubicBezTo>
                <a:cubicBezTo>
                  <a:pt x="23036" y="13089"/>
                  <a:pt x="23027" y="13080"/>
                  <a:pt x="23019" y="13072"/>
                </a:cubicBezTo>
                <a:cubicBezTo>
                  <a:pt x="23087" y="13263"/>
                  <a:pt x="23211" y="13509"/>
                  <a:pt x="23118" y="13717"/>
                </a:cubicBezTo>
                <a:cubicBezTo>
                  <a:pt x="23017" y="13943"/>
                  <a:pt x="22895" y="13799"/>
                  <a:pt x="22796" y="13717"/>
                </a:cubicBezTo>
              </a:path>
              <a:path w="2060" h="1092">
                <a:moveTo>
                  <a:pt x="23341" y="13196"/>
                </a:moveTo>
                <a:cubicBezTo>
                  <a:pt x="23384" y="13345"/>
                  <a:pt x="23394" y="13377"/>
                  <a:pt x="23416" y="13469"/>
                </a:cubicBezTo>
              </a:path>
              <a:path w="2060" h="1092">
                <a:moveTo>
                  <a:pt x="23242" y="12973"/>
                </a:moveTo>
                <a:cubicBezTo>
                  <a:pt x="23242" y="12965"/>
                  <a:pt x="23242" y="12956"/>
                  <a:pt x="23242" y="12948"/>
                </a:cubicBezTo>
              </a:path>
              <a:path w="2060" h="1092">
                <a:moveTo>
                  <a:pt x="23515" y="12750"/>
                </a:moveTo>
                <a:cubicBezTo>
                  <a:pt x="23558" y="12866"/>
                  <a:pt x="23616" y="13239"/>
                  <a:pt x="23688" y="13320"/>
                </a:cubicBezTo>
                <a:cubicBezTo>
                  <a:pt x="23688" y="13304"/>
                  <a:pt x="23688" y="13287"/>
                  <a:pt x="23688" y="13271"/>
                </a:cubicBezTo>
              </a:path>
              <a:path w="2060" h="1092">
                <a:moveTo>
                  <a:pt x="23366" y="13047"/>
                </a:moveTo>
                <a:cubicBezTo>
                  <a:pt x="23522" y="13022"/>
                  <a:pt x="23678" y="13013"/>
                  <a:pt x="23837" y="12998"/>
                </a:cubicBezTo>
              </a:path>
              <a:path w="2060" h="1092">
                <a:moveTo>
                  <a:pt x="24085" y="12923"/>
                </a:moveTo>
                <a:cubicBezTo>
                  <a:pt x="24042" y="12945"/>
                  <a:pt x="24001" y="12983"/>
                  <a:pt x="23961" y="13022"/>
                </a:cubicBezTo>
                <a:cubicBezTo>
                  <a:pt x="24029" y="13032"/>
                  <a:pt x="24261" y="13029"/>
                  <a:pt x="24234" y="13146"/>
                </a:cubicBezTo>
                <a:cubicBezTo>
                  <a:pt x="24195" y="13316"/>
                  <a:pt x="24052" y="13295"/>
                  <a:pt x="23937" y="13295"/>
                </a:cubicBezTo>
              </a:path>
              <a:path w="2060" h="1092">
                <a:moveTo>
                  <a:pt x="23937" y="13295"/>
                </a:moveTo>
                <a:lnTo>
                  <a:pt x="23937" y="1329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3840" y="5037120"/>
            <a:ext cx="260280" cy="214200"/>
          </a:xfrm>
          <a:custGeom>
            <a:avLst/>
            <a:gdLst/>
            <a:ahLst/>
            <a:rect l="l" t="t" r="r" b="b"/>
            <a:pathLst>
              <a:path w="720" h="596">
                <a:moveTo>
                  <a:pt x="13643" y="13990"/>
                </a:moveTo>
                <a:cubicBezTo>
                  <a:pt x="13643" y="14165"/>
                  <a:pt x="13660" y="14345"/>
                  <a:pt x="13618" y="14511"/>
                </a:cubicBezTo>
              </a:path>
              <a:path w="720" h="596">
                <a:moveTo>
                  <a:pt x="13345" y="14213"/>
                </a:moveTo>
                <a:cubicBezTo>
                  <a:pt x="13524" y="14213"/>
                  <a:pt x="13667" y="14198"/>
                  <a:pt x="13841" y="14163"/>
                </a:cubicBezTo>
                <a:cubicBezTo>
                  <a:pt x="13820" y="14354"/>
                  <a:pt x="13802" y="14428"/>
                  <a:pt x="13891" y="14585"/>
                </a:cubicBezTo>
                <a:cubicBezTo>
                  <a:pt x="14027" y="14495"/>
                  <a:pt x="14177" y="14303"/>
                  <a:pt x="13915" y="14213"/>
                </a:cubicBezTo>
                <a:cubicBezTo>
                  <a:pt x="13890" y="14221"/>
                  <a:pt x="13866" y="14230"/>
                  <a:pt x="13841" y="14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95960" y="5143680"/>
            <a:ext cx="295200" cy="160200"/>
          </a:xfrm>
          <a:custGeom>
            <a:avLst/>
            <a:gdLst/>
            <a:ahLst/>
            <a:rect l="l" t="t" r="r" b="b"/>
            <a:pathLst>
              <a:path w="820" h="447">
                <a:moveTo>
                  <a:pt x="14957" y="14461"/>
                </a:moveTo>
                <a:cubicBezTo>
                  <a:pt x="14957" y="14509"/>
                  <a:pt x="14901" y="14356"/>
                  <a:pt x="14858" y="14337"/>
                </a:cubicBezTo>
                <a:cubicBezTo>
                  <a:pt x="14825" y="14337"/>
                  <a:pt x="14792" y="14337"/>
                  <a:pt x="14759" y="14337"/>
                </a:cubicBezTo>
                <a:cubicBezTo>
                  <a:pt x="14743" y="14405"/>
                  <a:pt x="14681" y="14952"/>
                  <a:pt x="14883" y="14660"/>
                </a:cubicBezTo>
                <a:cubicBezTo>
                  <a:pt x="14926" y="14528"/>
                  <a:pt x="14938" y="14496"/>
                  <a:pt x="14957" y="14412"/>
                </a:cubicBezTo>
                <a:cubicBezTo>
                  <a:pt x="14952" y="14448"/>
                  <a:pt x="14991" y="14694"/>
                  <a:pt x="15106" y="14585"/>
                </a:cubicBezTo>
                <a:cubicBezTo>
                  <a:pt x="15206" y="14490"/>
                  <a:pt x="15155" y="14404"/>
                  <a:pt x="15205" y="14585"/>
                </a:cubicBezTo>
                <a:cubicBezTo>
                  <a:pt x="15205" y="14494"/>
                  <a:pt x="15161" y="14334"/>
                  <a:pt x="15280" y="14288"/>
                </a:cubicBezTo>
                <a:cubicBezTo>
                  <a:pt x="15452" y="14222"/>
                  <a:pt x="15510" y="14512"/>
                  <a:pt x="15528" y="146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24360" y="5045040"/>
            <a:ext cx="1303560" cy="438120"/>
          </a:xfrm>
          <a:custGeom>
            <a:avLst/>
            <a:gdLst/>
            <a:ahLst/>
            <a:rect l="l" t="t" r="r" b="b"/>
            <a:pathLst>
              <a:path w="3622" h="1216">
                <a:moveTo>
                  <a:pt x="15949" y="14387"/>
                </a:moveTo>
                <a:cubicBezTo>
                  <a:pt x="16040" y="14387"/>
                  <a:pt x="16131" y="14387"/>
                  <a:pt x="16222" y="14387"/>
                </a:cubicBezTo>
                <a:cubicBezTo>
                  <a:pt x="16193" y="14299"/>
                  <a:pt x="16084" y="14170"/>
                  <a:pt x="15974" y="14263"/>
                </a:cubicBezTo>
                <a:cubicBezTo>
                  <a:pt x="15812" y="14399"/>
                  <a:pt x="15898" y="14724"/>
                  <a:pt x="16123" y="14684"/>
                </a:cubicBezTo>
                <a:cubicBezTo>
                  <a:pt x="16181" y="14659"/>
                  <a:pt x="16239" y="14635"/>
                  <a:pt x="16297" y="14610"/>
                </a:cubicBezTo>
              </a:path>
              <a:path w="3622" h="1216">
                <a:moveTo>
                  <a:pt x="16520" y="14263"/>
                </a:moveTo>
                <a:cubicBezTo>
                  <a:pt x="16447" y="14336"/>
                  <a:pt x="16314" y="14535"/>
                  <a:pt x="16446" y="14635"/>
                </a:cubicBezTo>
                <a:cubicBezTo>
                  <a:pt x="16547" y="14711"/>
                  <a:pt x="16596" y="14476"/>
                  <a:pt x="16619" y="14436"/>
                </a:cubicBezTo>
                <a:cubicBezTo>
                  <a:pt x="16619" y="14684"/>
                  <a:pt x="16565" y="14935"/>
                  <a:pt x="16570" y="15180"/>
                </a:cubicBezTo>
                <a:cubicBezTo>
                  <a:pt x="16593" y="15228"/>
                  <a:pt x="16599" y="15245"/>
                  <a:pt x="16644" y="15230"/>
                </a:cubicBezTo>
                <a:cubicBezTo>
                  <a:pt x="16708" y="15019"/>
                  <a:pt x="16700" y="14906"/>
                  <a:pt x="16594" y="14709"/>
                </a:cubicBezTo>
              </a:path>
              <a:path w="3622" h="1216">
                <a:moveTo>
                  <a:pt x="16768" y="14263"/>
                </a:moveTo>
                <a:cubicBezTo>
                  <a:pt x="16768" y="14375"/>
                  <a:pt x="16777" y="14531"/>
                  <a:pt x="16818" y="14635"/>
                </a:cubicBezTo>
                <a:cubicBezTo>
                  <a:pt x="16834" y="14651"/>
                  <a:pt x="16851" y="14668"/>
                  <a:pt x="16867" y="14684"/>
                </a:cubicBezTo>
                <a:cubicBezTo>
                  <a:pt x="17034" y="14588"/>
                  <a:pt x="17026" y="14501"/>
                  <a:pt x="17041" y="14312"/>
                </a:cubicBezTo>
                <a:cubicBezTo>
                  <a:pt x="17041" y="14320"/>
                  <a:pt x="17041" y="14329"/>
                  <a:pt x="17041" y="14337"/>
                </a:cubicBezTo>
                <a:cubicBezTo>
                  <a:pt x="17056" y="14475"/>
                  <a:pt x="17069" y="14574"/>
                  <a:pt x="17140" y="14684"/>
                </a:cubicBezTo>
              </a:path>
              <a:path w="3622" h="1216">
                <a:moveTo>
                  <a:pt x="17338" y="14337"/>
                </a:moveTo>
                <a:cubicBezTo>
                  <a:pt x="17338" y="14454"/>
                  <a:pt x="17372" y="14568"/>
                  <a:pt x="17388" y="14684"/>
                </a:cubicBezTo>
                <a:cubicBezTo>
                  <a:pt x="17397" y="14752"/>
                  <a:pt x="17359" y="14601"/>
                  <a:pt x="17338" y="14536"/>
                </a:cubicBezTo>
              </a:path>
              <a:path w="3622" h="1216">
                <a:moveTo>
                  <a:pt x="17140" y="14114"/>
                </a:moveTo>
                <a:lnTo>
                  <a:pt x="17140" y="14114"/>
                </a:lnTo>
              </a:path>
              <a:path w="3622" h="1216">
                <a:moveTo>
                  <a:pt x="17462" y="14288"/>
                </a:moveTo>
                <a:cubicBezTo>
                  <a:pt x="17498" y="14441"/>
                  <a:pt x="17553" y="14578"/>
                  <a:pt x="17661" y="14684"/>
                </a:cubicBezTo>
                <a:cubicBezTo>
                  <a:pt x="17679" y="14558"/>
                  <a:pt x="17666" y="14409"/>
                  <a:pt x="17711" y="14288"/>
                </a:cubicBezTo>
                <a:cubicBezTo>
                  <a:pt x="17719" y="14288"/>
                  <a:pt x="17727" y="14288"/>
                  <a:pt x="17735" y="14288"/>
                </a:cubicBezTo>
              </a:path>
              <a:path w="3622" h="1216">
                <a:moveTo>
                  <a:pt x="18033" y="14312"/>
                </a:moveTo>
                <a:cubicBezTo>
                  <a:pt x="17995" y="14350"/>
                  <a:pt x="17771" y="14645"/>
                  <a:pt x="17909" y="14734"/>
                </a:cubicBezTo>
                <a:cubicBezTo>
                  <a:pt x="18031" y="14813"/>
                  <a:pt x="18030" y="14488"/>
                  <a:pt x="18033" y="14461"/>
                </a:cubicBezTo>
                <a:cubicBezTo>
                  <a:pt x="18077" y="14636"/>
                  <a:pt x="18089" y="14683"/>
                  <a:pt x="18231" y="14660"/>
                </a:cubicBezTo>
              </a:path>
              <a:path w="3622" h="1216">
                <a:moveTo>
                  <a:pt x="18256" y="14039"/>
                </a:moveTo>
                <a:cubicBezTo>
                  <a:pt x="18264" y="14096"/>
                  <a:pt x="18347" y="14684"/>
                  <a:pt x="18355" y="14684"/>
                </a:cubicBezTo>
                <a:cubicBezTo>
                  <a:pt x="18363" y="14668"/>
                  <a:pt x="18372" y="14651"/>
                  <a:pt x="18380" y="14635"/>
                </a:cubicBezTo>
              </a:path>
              <a:path w="3622" h="1216">
                <a:moveTo>
                  <a:pt x="18380" y="14635"/>
                </a:moveTo>
                <a:lnTo>
                  <a:pt x="18380" y="14635"/>
                </a:lnTo>
              </a:path>
              <a:path w="3622" h="1216">
                <a:moveTo>
                  <a:pt x="18430" y="14436"/>
                </a:moveTo>
                <a:cubicBezTo>
                  <a:pt x="18466" y="14436"/>
                  <a:pt x="18676" y="14459"/>
                  <a:pt x="18653" y="14412"/>
                </a:cubicBezTo>
                <a:cubicBezTo>
                  <a:pt x="18637" y="14387"/>
                  <a:pt x="18620" y="14362"/>
                  <a:pt x="18604" y="14337"/>
                </a:cubicBezTo>
                <a:cubicBezTo>
                  <a:pt x="18441" y="14323"/>
                  <a:pt x="18347" y="14493"/>
                  <a:pt x="18455" y="14660"/>
                </a:cubicBezTo>
                <a:cubicBezTo>
                  <a:pt x="18622" y="14918"/>
                  <a:pt x="18798" y="14508"/>
                  <a:pt x="18827" y="14412"/>
                </a:cubicBezTo>
                <a:cubicBezTo>
                  <a:pt x="18827" y="14528"/>
                  <a:pt x="18827" y="14577"/>
                  <a:pt x="18827" y="14660"/>
                </a:cubicBezTo>
                <a:cubicBezTo>
                  <a:pt x="18827" y="14789"/>
                  <a:pt x="18857" y="14469"/>
                  <a:pt x="18876" y="14436"/>
                </a:cubicBezTo>
                <a:cubicBezTo>
                  <a:pt x="18901" y="14411"/>
                  <a:pt x="18926" y="14387"/>
                  <a:pt x="18951" y="14362"/>
                </a:cubicBezTo>
                <a:cubicBezTo>
                  <a:pt x="19039" y="14462"/>
                  <a:pt x="19076" y="14594"/>
                  <a:pt x="19100" y="14734"/>
                </a:cubicBezTo>
              </a:path>
              <a:path w="3622" h="1216">
                <a:moveTo>
                  <a:pt x="19248" y="14015"/>
                </a:moveTo>
                <a:cubicBezTo>
                  <a:pt x="19280" y="14203"/>
                  <a:pt x="19267" y="14522"/>
                  <a:pt x="19372" y="14684"/>
                </a:cubicBezTo>
                <a:cubicBezTo>
                  <a:pt x="19424" y="14684"/>
                  <a:pt x="19442" y="14683"/>
                  <a:pt x="19472" y="14660"/>
                </a:cubicBezTo>
              </a:path>
              <a:path w="3622" h="1216">
                <a:moveTo>
                  <a:pt x="19124" y="14412"/>
                </a:moveTo>
                <a:cubicBezTo>
                  <a:pt x="19323" y="14387"/>
                  <a:pt x="19389" y="14379"/>
                  <a:pt x="19521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50040" y="5027760"/>
            <a:ext cx="1179720" cy="241200"/>
          </a:xfrm>
          <a:custGeom>
            <a:avLst/>
            <a:gdLst/>
            <a:ahLst/>
            <a:rect l="l" t="t" r="r" b="b"/>
            <a:pathLst>
              <a:path w="3276" h="671">
                <a:moveTo>
                  <a:pt x="20712" y="14114"/>
                </a:moveTo>
                <a:cubicBezTo>
                  <a:pt x="20652" y="14054"/>
                  <a:pt x="20549" y="13980"/>
                  <a:pt x="20464" y="14064"/>
                </a:cubicBezTo>
                <a:cubicBezTo>
                  <a:pt x="20334" y="14193"/>
                  <a:pt x="20477" y="14478"/>
                  <a:pt x="20538" y="14610"/>
                </a:cubicBezTo>
                <a:cubicBezTo>
                  <a:pt x="20584" y="14656"/>
                  <a:pt x="20575" y="14641"/>
                  <a:pt x="20489" y="14536"/>
                </a:cubicBezTo>
              </a:path>
              <a:path w="3276" h="671">
                <a:moveTo>
                  <a:pt x="20141" y="14337"/>
                </a:moveTo>
                <a:cubicBezTo>
                  <a:pt x="20298" y="14351"/>
                  <a:pt x="20781" y="14281"/>
                  <a:pt x="20886" y="14412"/>
                </a:cubicBezTo>
                <a:cubicBezTo>
                  <a:pt x="20905" y="14511"/>
                  <a:pt x="20913" y="14526"/>
                  <a:pt x="20910" y="14585"/>
                </a:cubicBezTo>
                <a:cubicBezTo>
                  <a:pt x="20910" y="14621"/>
                  <a:pt x="20950" y="14385"/>
                  <a:pt x="20960" y="14362"/>
                </a:cubicBezTo>
                <a:cubicBezTo>
                  <a:pt x="21027" y="14249"/>
                  <a:pt x="21043" y="14217"/>
                  <a:pt x="21109" y="14163"/>
                </a:cubicBezTo>
              </a:path>
              <a:path w="3276" h="671">
                <a:moveTo>
                  <a:pt x="21307" y="14238"/>
                </a:moveTo>
                <a:cubicBezTo>
                  <a:pt x="21173" y="14276"/>
                  <a:pt x="21019" y="14424"/>
                  <a:pt x="21084" y="14585"/>
                </a:cubicBezTo>
                <a:cubicBezTo>
                  <a:pt x="21109" y="14593"/>
                  <a:pt x="21133" y="14602"/>
                  <a:pt x="21158" y="14610"/>
                </a:cubicBezTo>
                <a:cubicBezTo>
                  <a:pt x="21281" y="14513"/>
                  <a:pt x="21303" y="14380"/>
                  <a:pt x="21307" y="14387"/>
                </a:cubicBezTo>
                <a:cubicBezTo>
                  <a:pt x="21375" y="14500"/>
                  <a:pt x="21391" y="14531"/>
                  <a:pt x="21456" y="14585"/>
                </a:cubicBezTo>
              </a:path>
              <a:path w="3276" h="671">
                <a:moveTo>
                  <a:pt x="21729" y="14188"/>
                </a:moveTo>
                <a:cubicBezTo>
                  <a:pt x="21585" y="14212"/>
                  <a:pt x="21539" y="14372"/>
                  <a:pt x="21580" y="14511"/>
                </a:cubicBezTo>
                <a:cubicBezTo>
                  <a:pt x="21660" y="14784"/>
                  <a:pt x="21906" y="14469"/>
                  <a:pt x="21977" y="14412"/>
                </a:cubicBezTo>
              </a:path>
              <a:path w="3276" h="671">
                <a:moveTo>
                  <a:pt x="22027" y="13965"/>
                </a:moveTo>
                <a:cubicBezTo>
                  <a:pt x="22027" y="14125"/>
                  <a:pt x="22035" y="14307"/>
                  <a:pt x="22076" y="14461"/>
                </a:cubicBezTo>
                <a:cubicBezTo>
                  <a:pt x="22117" y="14542"/>
                  <a:pt x="22113" y="14575"/>
                  <a:pt x="22175" y="14560"/>
                </a:cubicBezTo>
              </a:path>
              <a:path w="3276" h="671">
                <a:moveTo>
                  <a:pt x="22175" y="14560"/>
                </a:moveTo>
                <a:lnTo>
                  <a:pt x="22175" y="14560"/>
                </a:lnTo>
              </a:path>
              <a:path w="3276" h="671">
                <a:moveTo>
                  <a:pt x="21828" y="14139"/>
                </a:moveTo>
                <a:cubicBezTo>
                  <a:pt x="21927" y="14148"/>
                  <a:pt x="22253" y="14080"/>
                  <a:pt x="22324" y="14163"/>
                </a:cubicBezTo>
                <a:cubicBezTo>
                  <a:pt x="22388" y="14237"/>
                  <a:pt x="22391" y="14370"/>
                  <a:pt x="22399" y="14461"/>
                </a:cubicBezTo>
              </a:path>
              <a:path w="3276" h="671">
                <a:moveTo>
                  <a:pt x="22250" y="14015"/>
                </a:moveTo>
                <a:lnTo>
                  <a:pt x="22250" y="14015"/>
                </a:lnTo>
              </a:path>
              <a:path w="3276" h="671">
                <a:moveTo>
                  <a:pt x="22647" y="14139"/>
                </a:moveTo>
                <a:cubicBezTo>
                  <a:pt x="22577" y="14209"/>
                  <a:pt x="22409" y="14456"/>
                  <a:pt x="22622" y="14511"/>
                </a:cubicBezTo>
                <a:cubicBezTo>
                  <a:pt x="22800" y="14557"/>
                  <a:pt x="22895" y="14314"/>
                  <a:pt x="22820" y="14188"/>
                </a:cubicBezTo>
                <a:cubicBezTo>
                  <a:pt x="22803" y="14159"/>
                  <a:pt x="22714" y="14160"/>
                  <a:pt x="22771" y="14188"/>
                </a:cubicBezTo>
              </a:path>
              <a:path w="3276" h="671">
                <a:moveTo>
                  <a:pt x="23019" y="14263"/>
                </a:moveTo>
                <a:cubicBezTo>
                  <a:pt x="23035" y="14293"/>
                  <a:pt x="23068" y="14410"/>
                  <a:pt x="23068" y="14362"/>
                </a:cubicBezTo>
                <a:cubicBezTo>
                  <a:pt x="23087" y="14272"/>
                  <a:pt x="23171" y="13994"/>
                  <a:pt x="23316" y="14163"/>
                </a:cubicBezTo>
                <a:cubicBezTo>
                  <a:pt x="23388" y="14246"/>
                  <a:pt x="23416" y="14403"/>
                  <a:pt x="23416" y="145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some times when you would need to work with fra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operations might you need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76920" y="1741320"/>
            <a:ext cx="1832040" cy="420840"/>
          </a:xfrm>
          <a:custGeom>
            <a:avLst/>
            <a:gdLst/>
            <a:ahLst/>
            <a:rect l="l" t="t" r="r" b="b"/>
            <a:pathLst>
              <a:path w="5086" h="1167">
                <a:moveTo>
                  <a:pt x="16123" y="5383"/>
                </a:moveTo>
                <a:cubicBezTo>
                  <a:pt x="16201" y="5383"/>
                  <a:pt x="16268" y="5403"/>
                  <a:pt x="16346" y="5407"/>
                </a:cubicBezTo>
                <a:cubicBezTo>
                  <a:pt x="16371" y="5407"/>
                  <a:pt x="16379" y="5407"/>
                  <a:pt x="16371" y="5432"/>
                </a:cubicBezTo>
                <a:cubicBezTo>
                  <a:pt x="16356" y="5357"/>
                  <a:pt x="16326" y="5290"/>
                  <a:pt x="16247" y="5259"/>
                </a:cubicBezTo>
                <a:cubicBezTo>
                  <a:pt x="16154" y="5222"/>
                  <a:pt x="16106" y="5311"/>
                  <a:pt x="16073" y="5383"/>
                </a:cubicBezTo>
                <a:cubicBezTo>
                  <a:pt x="16005" y="5532"/>
                  <a:pt x="16138" y="5542"/>
                  <a:pt x="16247" y="5556"/>
                </a:cubicBezTo>
              </a:path>
              <a:path w="5086" h="1167">
                <a:moveTo>
                  <a:pt x="16570" y="5358"/>
                </a:moveTo>
                <a:cubicBezTo>
                  <a:pt x="16488" y="5309"/>
                  <a:pt x="16456" y="5322"/>
                  <a:pt x="16421" y="5432"/>
                </a:cubicBezTo>
                <a:cubicBezTo>
                  <a:pt x="16421" y="5449"/>
                  <a:pt x="16421" y="5465"/>
                  <a:pt x="16421" y="5482"/>
                </a:cubicBezTo>
                <a:cubicBezTo>
                  <a:pt x="16517" y="5537"/>
                  <a:pt x="16574" y="5550"/>
                  <a:pt x="16619" y="5432"/>
                </a:cubicBezTo>
                <a:cubicBezTo>
                  <a:pt x="16619" y="5424"/>
                  <a:pt x="16619" y="5415"/>
                  <a:pt x="16619" y="5407"/>
                </a:cubicBezTo>
                <a:cubicBezTo>
                  <a:pt x="16654" y="5494"/>
                  <a:pt x="16688" y="5516"/>
                  <a:pt x="16768" y="5507"/>
                </a:cubicBezTo>
              </a:path>
              <a:path w="5086" h="1167">
                <a:moveTo>
                  <a:pt x="16768" y="5060"/>
                </a:moveTo>
                <a:cubicBezTo>
                  <a:pt x="16820" y="5163"/>
                  <a:pt x="16870" y="5311"/>
                  <a:pt x="16892" y="5432"/>
                </a:cubicBezTo>
                <a:cubicBezTo>
                  <a:pt x="16892" y="5449"/>
                  <a:pt x="16892" y="5465"/>
                  <a:pt x="16892" y="5482"/>
                </a:cubicBezTo>
              </a:path>
              <a:path w="5086" h="1167">
                <a:moveTo>
                  <a:pt x="16892" y="5482"/>
                </a:moveTo>
                <a:lnTo>
                  <a:pt x="16892" y="5482"/>
                </a:lnTo>
              </a:path>
              <a:path w="5086" h="1167">
                <a:moveTo>
                  <a:pt x="16619" y="5333"/>
                </a:moveTo>
                <a:cubicBezTo>
                  <a:pt x="16741" y="5333"/>
                  <a:pt x="16904" y="5296"/>
                  <a:pt x="17016" y="5308"/>
                </a:cubicBezTo>
                <a:cubicBezTo>
                  <a:pt x="17072" y="5314"/>
                  <a:pt x="17122" y="5406"/>
                  <a:pt x="17140" y="5457"/>
                </a:cubicBezTo>
                <a:cubicBezTo>
                  <a:pt x="17140" y="5465"/>
                  <a:pt x="17140" y="5474"/>
                  <a:pt x="17140" y="5482"/>
                </a:cubicBezTo>
              </a:path>
              <a:path w="5086" h="1167">
                <a:moveTo>
                  <a:pt x="17016" y="5209"/>
                </a:moveTo>
                <a:lnTo>
                  <a:pt x="17016" y="5209"/>
                </a:lnTo>
              </a:path>
              <a:path w="5086" h="1167">
                <a:moveTo>
                  <a:pt x="17016" y="5209"/>
                </a:moveTo>
                <a:lnTo>
                  <a:pt x="17016" y="5209"/>
                </a:lnTo>
              </a:path>
              <a:path w="5086" h="1167">
                <a:moveTo>
                  <a:pt x="17214" y="5407"/>
                </a:moveTo>
                <a:cubicBezTo>
                  <a:pt x="17236" y="5451"/>
                  <a:pt x="17239" y="5463"/>
                  <a:pt x="17264" y="5482"/>
                </a:cubicBezTo>
                <a:cubicBezTo>
                  <a:pt x="17264" y="5449"/>
                  <a:pt x="17253" y="5378"/>
                  <a:pt x="17289" y="5358"/>
                </a:cubicBezTo>
                <a:cubicBezTo>
                  <a:pt x="17382" y="5308"/>
                  <a:pt x="17447" y="5390"/>
                  <a:pt x="17487" y="5457"/>
                </a:cubicBezTo>
                <a:cubicBezTo>
                  <a:pt x="17519" y="5511"/>
                  <a:pt x="17495" y="5517"/>
                  <a:pt x="17537" y="5531"/>
                </a:cubicBezTo>
              </a:path>
              <a:path w="5086" h="1167">
                <a:moveTo>
                  <a:pt x="17636" y="5358"/>
                </a:moveTo>
                <a:cubicBezTo>
                  <a:pt x="17617" y="5382"/>
                  <a:pt x="17500" y="5594"/>
                  <a:pt x="17636" y="5531"/>
                </a:cubicBezTo>
                <a:cubicBezTo>
                  <a:pt x="17681" y="5487"/>
                  <a:pt x="17698" y="5477"/>
                  <a:pt x="17686" y="5432"/>
                </a:cubicBezTo>
                <a:cubicBezTo>
                  <a:pt x="17710" y="5551"/>
                  <a:pt x="17800" y="5675"/>
                  <a:pt x="17785" y="5804"/>
                </a:cubicBezTo>
                <a:cubicBezTo>
                  <a:pt x="17773" y="5912"/>
                  <a:pt x="17553" y="6078"/>
                  <a:pt x="17462" y="5953"/>
                </a:cubicBezTo>
                <a:cubicBezTo>
                  <a:pt x="17462" y="5928"/>
                  <a:pt x="17462" y="5904"/>
                  <a:pt x="17462" y="5879"/>
                </a:cubicBezTo>
              </a:path>
              <a:path w="5086" h="1167">
                <a:moveTo>
                  <a:pt x="17959" y="5457"/>
                </a:moveTo>
                <a:cubicBezTo>
                  <a:pt x="18048" y="5449"/>
                  <a:pt x="18119" y="5431"/>
                  <a:pt x="18207" y="5407"/>
                </a:cubicBezTo>
              </a:path>
              <a:path w="5086" h="1167">
                <a:moveTo>
                  <a:pt x="18479" y="4986"/>
                </a:moveTo>
                <a:cubicBezTo>
                  <a:pt x="18461" y="5190"/>
                  <a:pt x="18416" y="5373"/>
                  <a:pt x="18455" y="5581"/>
                </a:cubicBezTo>
                <a:cubicBezTo>
                  <a:pt x="18490" y="5766"/>
                  <a:pt x="18500" y="5803"/>
                  <a:pt x="18628" y="5779"/>
                </a:cubicBezTo>
              </a:path>
              <a:path w="5086" h="1167">
                <a:moveTo>
                  <a:pt x="18728" y="5333"/>
                </a:moveTo>
                <a:cubicBezTo>
                  <a:pt x="18676" y="5355"/>
                  <a:pt x="18665" y="5347"/>
                  <a:pt x="18653" y="5383"/>
                </a:cubicBezTo>
                <a:cubicBezTo>
                  <a:pt x="18717" y="5435"/>
                  <a:pt x="18787" y="5463"/>
                  <a:pt x="18852" y="5507"/>
                </a:cubicBezTo>
                <a:cubicBezTo>
                  <a:pt x="18759" y="5571"/>
                  <a:pt x="18720" y="5574"/>
                  <a:pt x="18604" y="5581"/>
                </a:cubicBezTo>
              </a:path>
              <a:path w="5086" h="1167">
                <a:moveTo>
                  <a:pt x="18852" y="5085"/>
                </a:moveTo>
                <a:cubicBezTo>
                  <a:pt x="18901" y="5217"/>
                  <a:pt x="18940" y="5385"/>
                  <a:pt x="19000" y="5507"/>
                </a:cubicBezTo>
                <a:cubicBezTo>
                  <a:pt x="19000" y="5456"/>
                  <a:pt x="18994" y="5423"/>
                  <a:pt x="18976" y="5383"/>
                </a:cubicBezTo>
              </a:path>
              <a:path w="5086" h="1167">
                <a:moveTo>
                  <a:pt x="19050" y="5259"/>
                </a:moveTo>
                <a:cubicBezTo>
                  <a:pt x="19142" y="5308"/>
                  <a:pt x="19299" y="5400"/>
                  <a:pt x="19298" y="5531"/>
                </a:cubicBezTo>
                <a:cubicBezTo>
                  <a:pt x="19290" y="5531"/>
                  <a:pt x="19281" y="5531"/>
                  <a:pt x="19273" y="5531"/>
                </a:cubicBezTo>
              </a:path>
              <a:path w="5086" h="1167">
                <a:moveTo>
                  <a:pt x="19273" y="5531"/>
                </a:moveTo>
                <a:lnTo>
                  <a:pt x="19273" y="5531"/>
                </a:lnTo>
              </a:path>
              <a:path w="5086" h="1167">
                <a:moveTo>
                  <a:pt x="19521" y="5333"/>
                </a:moveTo>
                <a:cubicBezTo>
                  <a:pt x="19413" y="5268"/>
                  <a:pt x="19379" y="5358"/>
                  <a:pt x="19348" y="5457"/>
                </a:cubicBezTo>
                <a:cubicBezTo>
                  <a:pt x="19348" y="5465"/>
                  <a:pt x="19348" y="5474"/>
                  <a:pt x="19348" y="5482"/>
                </a:cubicBezTo>
                <a:cubicBezTo>
                  <a:pt x="19479" y="5492"/>
                  <a:pt x="19480" y="5483"/>
                  <a:pt x="19571" y="5383"/>
                </a:cubicBezTo>
                <a:cubicBezTo>
                  <a:pt x="19571" y="5487"/>
                  <a:pt x="19614" y="5514"/>
                  <a:pt x="19720" y="5507"/>
                </a:cubicBezTo>
                <a:cubicBezTo>
                  <a:pt x="19802" y="5479"/>
                  <a:pt x="19828" y="5463"/>
                  <a:pt x="19819" y="5383"/>
                </a:cubicBezTo>
              </a:path>
              <a:path w="5086" h="1167">
                <a:moveTo>
                  <a:pt x="19819" y="5482"/>
                </a:moveTo>
                <a:cubicBezTo>
                  <a:pt x="19819" y="5540"/>
                  <a:pt x="19807" y="5415"/>
                  <a:pt x="19819" y="5358"/>
                </a:cubicBezTo>
                <a:cubicBezTo>
                  <a:pt x="19836" y="5280"/>
                  <a:pt x="19906" y="5308"/>
                  <a:pt x="19968" y="5308"/>
                </a:cubicBezTo>
              </a:path>
              <a:path w="5086" h="1167">
                <a:moveTo>
                  <a:pt x="19968" y="5308"/>
                </a:moveTo>
                <a:lnTo>
                  <a:pt x="19968" y="5308"/>
                </a:lnTo>
              </a:path>
              <a:path w="5086" h="1167">
                <a:moveTo>
                  <a:pt x="20042" y="5383"/>
                </a:moveTo>
                <a:cubicBezTo>
                  <a:pt x="20063" y="5467"/>
                  <a:pt x="20064" y="5486"/>
                  <a:pt x="20092" y="5531"/>
                </a:cubicBezTo>
              </a:path>
              <a:path w="5086" h="1167">
                <a:moveTo>
                  <a:pt x="19993" y="5110"/>
                </a:moveTo>
                <a:lnTo>
                  <a:pt x="19993" y="5110"/>
                </a:lnTo>
              </a:path>
              <a:path w="5086" h="1167">
                <a:moveTo>
                  <a:pt x="20241" y="5358"/>
                </a:moveTo>
                <a:cubicBezTo>
                  <a:pt x="20288" y="5471"/>
                  <a:pt x="20245" y="5412"/>
                  <a:pt x="20265" y="5333"/>
                </a:cubicBezTo>
                <a:cubicBezTo>
                  <a:pt x="20297" y="5204"/>
                  <a:pt x="20385" y="5266"/>
                  <a:pt x="20439" y="5333"/>
                </a:cubicBezTo>
                <a:cubicBezTo>
                  <a:pt x="20489" y="5395"/>
                  <a:pt x="20480" y="5426"/>
                  <a:pt x="20513" y="5482"/>
                </a:cubicBezTo>
              </a:path>
              <a:path w="5086" h="1167">
                <a:moveTo>
                  <a:pt x="20712" y="5234"/>
                </a:moveTo>
                <a:cubicBezTo>
                  <a:pt x="20656" y="5259"/>
                  <a:pt x="20507" y="5353"/>
                  <a:pt x="20613" y="5432"/>
                </a:cubicBezTo>
                <a:cubicBezTo>
                  <a:pt x="20678" y="5481"/>
                  <a:pt x="20700" y="5343"/>
                  <a:pt x="20712" y="5333"/>
                </a:cubicBezTo>
                <a:cubicBezTo>
                  <a:pt x="20720" y="5333"/>
                  <a:pt x="20729" y="5333"/>
                  <a:pt x="20737" y="5333"/>
                </a:cubicBezTo>
                <a:cubicBezTo>
                  <a:pt x="20836" y="5542"/>
                  <a:pt x="20892" y="5711"/>
                  <a:pt x="20762" y="5928"/>
                </a:cubicBezTo>
                <a:cubicBezTo>
                  <a:pt x="20630" y="6148"/>
                  <a:pt x="20530" y="5881"/>
                  <a:pt x="20513" y="5779"/>
                </a:cubicBezTo>
              </a:path>
              <a:path w="5086" h="1167">
                <a:moveTo>
                  <a:pt x="20662" y="4837"/>
                </a:moveTo>
                <a:cubicBezTo>
                  <a:pt x="20856" y="4901"/>
                  <a:pt x="21033" y="5054"/>
                  <a:pt x="21109" y="5259"/>
                </a:cubicBezTo>
                <a:cubicBezTo>
                  <a:pt x="21194" y="5489"/>
                  <a:pt x="21053" y="5617"/>
                  <a:pt x="20861" y="5705"/>
                </a:cubicBezTo>
                <a:cubicBezTo>
                  <a:pt x="20853" y="5705"/>
                  <a:pt x="20844" y="5705"/>
                  <a:pt x="20836" y="5705"/>
                </a:cubicBezTo>
              </a:path>
              <a:path w="5086" h="1167">
                <a:moveTo>
                  <a:pt x="18604" y="5779"/>
                </a:moveTo>
                <a:cubicBezTo>
                  <a:pt x="18633" y="5762"/>
                  <a:pt x="18673" y="5770"/>
                  <a:pt x="18728" y="5755"/>
                </a:cubicBezTo>
                <a:cubicBezTo>
                  <a:pt x="18806" y="5733"/>
                  <a:pt x="18866" y="5730"/>
                  <a:pt x="18951" y="5730"/>
                </a:cubicBezTo>
                <a:cubicBezTo>
                  <a:pt x="19274" y="5730"/>
                  <a:pt x="19600" y="5745"/>
                  <a:pt x="19918" y="5705"/>
                </a:cubicBezTo>
                <a:cubicBezTo>
                  <a:pt x="20008" y="5694"/>
                  <a:pt x="20103" y="5690"/>
                  <a:pt x="20191" y="5680"/>
                </a:cubicBezTo>
                <a:cubicBezTo>
                  <a:pt x="20280" y="5670"/>
                  <a:pt x="20377" y="5663"/>
                  <a:pt x="20464" y="5655"/>
                </a:cubicBezTo>
                <a:cubicBezTo>
                  <a:pt x="20556" y="5646"/>
                  <a:pt x="20649" y="5635"/>
                  <a:pt x="20737" y="5631"/>
                </a:cubicBezTo>
                <a:cubicBezTo>
                  <a:pt x="20781" y="5629"/>
                  <a:pt x="20792" y="5631"/>
                  <a:pt x="20836" y="56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28800" y="1884240"/>
            <a:ext cx="1616040" cy="536760"/>
          </a:xfrm>
          <a:custGeom>
            <a:avLst/>
            <a:gdLst/>
            <a:ahLst/>
            <a:rect l="l" t="t" r="r" b="b"/>
            <a:pathLst>
              <a:path w="4490" h="1489">
                <a:moveTo>
                  <a:pt x="2927" y="5829"/>
                </a:moveTo>
                <a:cubicBezTo>
                  <a:pt x="3013" y="5800"/>
                  <a:pt x="2897" y="5724"/>
                  <a:pt x="2853" y="5705"/>
                </a:cubicBezTo>
                <a:cubicBezTo>
                  <a:pt x="2655" y="5618"/>
                  <a:pt x="2558" y="5860"/>
                  <a:pt x="2580" y="6028"/>
                </a:cubicBezTo>
                <a:cubicBezTo>
                  <a:pt x="2604" y="6212"/>
                  <a:pt x="2791" y="5931"/>
                  <a:pt x="2803" y="5904"/>
                </a:cubicBezTo>
                <a:cubicBezTo>
                  <a:pt x="2811" y="5887"/>
                  <a:pt x="2820" y="5871"/>
                  <a:pt x="2828" y="5854"/>
                </a:cubicBezTo>
                <a:cubicBezTo>
                  <a:pt x="2849" y="6088"/>
                  <a:pt x="2937" y="6364"/>
                  <a:pt x="2853" y="6598"/>
                </a:cubicBezTo>
                <a:cubicBezTo>
                  <a:pt x="2783" y="6690"/>
                  <a:pt x="2766" y="6723"/>
                  <a:pt x="2679" y="6697"/>
                </a:cubicBezTo>
                <a:cubicBezTo>
                  <a:pt x="2562" y="6517"/>
                  <a:pt x="2601" y="6471"/>
                  <a:pt x="2753" y="6325"/>
                </a:cubicBezTo>
                <a:cubicBezTo>
                  <a:pt x="2778" y="6300"/>
                  <a:pt x="2803" y="6276"/>
                  <a:pt x="2828" y="6251"/>
                </a:cubicBezTo>
              </a:path>
              <a:path w="4490" h="1489">
                <a:moveTo>
                  <a:pt x="2977" y="5879"/>
                </a:moveTo>
                <a:cubicBezTo>
                  <a:pt x="3013" y="5963"/>
                  <a:pt x="3042" y="6043"/>
                  <a:pt x="3076" y="6127"/>
                </a:cubicBezTo>
                <a:cubicBezTo>
                  <a:pt x="3062" y="6019"/>
                  <a:pt x="3027" y="5879"/>
                  <a:pt x="3101" y="5779"/>
                </a:cubicBezTo>
                <a:cubicBezTo>
                  <a:pt x="3164" y="5748"/>
                  <a:pt x="3196" y="5736"/>
                  <a:pt x="3249" y="5730"/>
                </a:cubicBezTo>
              </a:path>
              <a:path w="4490" h="1489">
                <a:moveTo>
                  <a:pt x="3621" y="5779"/>
                </a:moveTo>
                <a:cubicBezTo>
                  <a:pt x="3621" y="5735"/>
                  <a:pt x="3595" y="5684"/>
                  <a:pt x="3522" y="5705"/>
                </a:cubicBezTo>
                <a:cubicBezTo>
                  <a:pt x="3391" y="5742"/>
                  <a:pt x="3274" y="6009"/>
                  <a:pt x="3349" y="6127"/>
                </a:cubicBezTo>
                <a:cubicBezTo>
                  <a:pt x="3374" y="6135"/>
                  <a:pt x="3398" y="6144"/>
                  <a:pt x="3423" y="6152"/>
                </a:cubicBezTo>
                <a:cubicBezTo>
                  <a:pt x="3549" y="6101"/>
                  <a:pt x="3525" y="5758"/>
                  <a:pt x="3621" y="5854"/>
                </a:cubicBezTo>
                <a:cubicBezTo>
                  <a:pt x="3708" y="5941"/>
                  <a:pt x="3635" y="6079"/>
                  <a:pt x="3795" y="6152"/>
                </a:cubicBezTo>
              </a:path>
              <a:path w="4490" h="1489">
                <a:moveTo>
                  <a:pt x="4242" y="5978"/>
                </a:moveTo>
                <a:cubicBezTo>
                  <a:pt x="4232" y="5902"/>
                  <a:pt x="4208" y="5829"/>
                  <a:pt x="4118" y="5804"/>
                </a:cubicBezTo>
                <a:cubicBezTo>
                  <a:pt x="3989" y="5768"/>
                  <a:pt x="3877" y="5905"/>
                  <a:pt x="3894" y="6028"/>
                </a:cubicBezTo>
                <a:cubicBezTo>
                  <a:pt x="3907" y="6122"/>
                  <a:pt x="4105" y="6276"/>
                  <a:pt x="4167" y="6127"/>
                </a:cubicBezTo>
                <a:cubicBezTo>
                  <a:pt x="4175" y="6069"/>
                  <a:pt x="4184" y="6011"/>
                  <a:pt x="4192" y="5953"/>
                </a:cubicBezTo>
              </a:path>
              <a:path w="4490" h="1489">
                <a:moveTo>
                  <a:pt x="4068" y="5507"/>
                </a:moveTo>
                <a:cubicBezTo>
                  <a:pt x="4099" y="5626"/>
                  <a:pt x="4140" y="5775"/>
                  <a:pt x="4167" y="5904"/>
                </a:cubicBezTo>
                <a:cubicBezTo>
                  <a:pt x="4177" y="5951"/>
                  <a:pt x="4227" y="6218"/>
                  <a:pt x="4266" y="6176"/>
                </a:cubicBezTo>
              </a:path>
              <a:path w="4490" h="1489">
                <a:moveTo>
                  <a:pt x="4266" y="6176"/>
                </a:moveTo>
                <a:lnTo>
                  <a:pt x="4266" y="6176"/>
                </a:lnTo>
              </a:path>
              <a:path w="4490" h="1489">
                <a:moveTo>
                  <a:pt x="4415" y="5879"/>
                </a:moveTo>
                <a:cubicBezTo>
                  <a:pt x="4421" y="5980"/>
                  <a:pt x="4434" y="6075"/>
                  <a:pt x="4440" y="6176"/>
                </a:cubicBezTo>
              </a:path>
              <a:path w="4490" h="1489">
                <a:moveTo>
                  <a:pt x="4341" y="5755"/>
                </a:moveTo>
                <a:cubicBezTo>
                  <a:pt x="4349" y="5755"/>
                  <a:pt x="4358" y="5755"/>
                  <a:pt x="4366" y="5755"/>
                </a:cubicBezTo>
              </a:path>
              <a:path w="4490" h="1489">
                <a:moveTo>
                  <a:pt x="4638" y="6003"/>
                </a:moveTo>
                <a:cubicBezTo>
                  <a:pt x="4657" y="6077"/>
                  <a:pt x="4639" y="6110"/>
                  <a:pt x="4688" y="6102"/>
                </a:cubicBezTo>
                <a:cubicBezTo>
                  <a:pt x="4668" y="5984"/>
                  <a:pt x="4637" y="5956"/>
                  <a:pt x="4688" y="5854"/>
                </a:cubicBezTo>
                <a:cubicBezTo>
                  <a:pt x="4756" y="5718"/>
                  <a:pt x="4845" y="5796"/>
                  <a:pt x="4887" y="5904"/>
                </a:cubicBezTo>
                <a:cubicBezTo>
                  <a:pt x="4907" y="5988"/>
                  <a:pt x="4908" y="6007"/>
                  <a:pt x="4936" y="6052"/>
                </a:cubicBezTo>
              </a:path>
              <a:path w="4490" h="1489">
                <a:moveTo>
                  <a:pt x="5209" y="5779"/>
                </a:moveTo>
                <a:cubicBezTo>
                  <a:pt x="5102" y="5779"/>
                  <a:pt x="5100" y="5919"/>
                  <a:pt x="5085" y="6003"/>
                </a:cubicBezTo>
                <a:cubicBezTo>
                  <a:pt x="5085" y="6054"/>
                  <a:pt x="5086" y="6073"/>
                  <a:pt x="5110" y="6102"/>
                </a:cubicBezTo>
                <a:cubicBezTo>
                  <a:pt x="5150" y="6055"/>
                  <a:pt x="5148" y="5943"/>
                  <a:pt x="5209" y="5953"/>
                </a:cubicBezTo>
                <a:cubicBezTo>
                  <a:pt x="5275" y="5964"/>
                  <a:pt x="5309" y="6327"/>
                  <a:pt x="5308" y="6375"/>
                </a:cubicBezTo>
                <a:cubicBezTo>
                  <a:pt x="5304" y="6588"/>
                  <a:pt x="5255" y="6734"/>
                  <a:pt x="5035" y="6697"/>
                </a:cubicBezTo>
                <a:cubicBezTo>
                  <a:pt x="4862" y="6668"/>
                  <a:pt x="4889" y="6499"/>
                  <a:pt x="4961" y="6375"/>
                </a:cubicBezTo>
                <a:cubicBezTo>
                  <a:pt x="5046" y="6229"/>
                  <a:pt x="5171" y="6162"/>
                  <a:pt x="5308" y="6077"/>
                </a:cubicBezTo>
              </a:path>
              <a:path w="4490" h="1489">
                <a:moveTo>
                  <a:pt x="6350" y="5383"/>
                </a:moveTo>
                <a:cubicBezTo>
                  <a:pt x="6380" y="5485"/>
                  <a:pt x="6419" y="5568"/>
                  <a:pt x="6424" y="5680"/>
                </a:cubicBezTo>
                <a:cubicBezTo>
                  <a:pt x="6424" y="5697"/>
                  <a:pt x="6424" y="5713"/>
                  <a:pt x="6424" y="5730"/>
                </a:cubicBezTo>
              </a:path>
              <a:path w="4490" h="1489">
                <a:moveTo>
                  <a:pt x="6722" y="5259"/>
                </a:moveTo>
                <a:cubicBezTo>
                  <a:pt x="6659" y="5216"/>
                  <a:pt x="6528" y="5351"/>
                  <a:pt x="6548" y="5457"/>
                </a:cubicBezTo>
                <a:cubicBezTo>
                  <a:pt x="6565" y="5465"/>
                  <a:pt x="6581" y="5474"/>
                  <a:pt x="6598" y="5482"/>
                </a:cubicBezTo>
                <a:cubicBezTo>
                  <a:pt x="6751" y="5456"/>
                  <a:pt x="6718" y="5459"/>
                  <a:pt x="6772" y="5308"/>
                </a:cubicBezTo>
                <a:cubicBezTo>
                  <a:pt x="6718" y="5272"/>
                  <a:pt x="6783" y="5432"/>
                  <a:pt x="6796" y="5507"/>
                </a:cubicBezTo>
                <a:cubicBezTo>
                  <a:pt x="6812" y="5600"/>
                  <a:pt x="6836" y="5688"/>
                  <a:pt x="6846" y="5779"/>
                </a:cubicBezTo>
              </a:path>
              <a:path w="4490" h="1489">
                <a:moveTo>
                  <a:pt x="6052" y="5953"/>
                </a:moveTo>
                <a:cubicBezTo>
                  <a:pt x="6315" y="5890"/>
                  <a:pt x="6576" y="5830"/>
                  <a:pt x="6846" y="5804"/>
                </a:cubicBezTo>
                <a:cubicBezTo>
                  <a:pt x="6904" y="5804"/>
                  <a:pt x="6912" y="5804"/>
                  <a:pt x="6945" y="5804"/>
                </a:cubicBezTo>
              </a:path>
              <a:path w="4490" h="1489">
                <a:moveTo>
                  <a:pt x="6945" y="5804"/>
                </a:moveTo>
                <a:lnTo>
                  <a:pt x="6945" y="5804"/>
                </a:lnTo>
              </a:path>
              <a:path w="4490" h="1489">
                <a:moveTo>
                  <a:pt x="6226" y="6102"/>
                </a:moveTo>
                <a:cubicBezTo>
                  <a:pt x="6307" y="6102"/>
                  <a:pt x="6586" y="6035"/>
                  <a:pt x="6499" y="6176"/>
                </a:cubicBezTo>
                <a:cubicBezTo>
                  <a:pt x="6404" y="6272"/>
                  <a:pt x="6375" y="6302"/>
                  <a:pt x="6300" y="6350"/>
                </a:cubicBezTo>
                <a:cubicBezTo>
                  <a:pt x="6292" y="6358"/>
                  <a:pt x="6284" y="6367"/>
                  <a:pt x="6276" y="6375"/>
                </a:cubicBezTo>
                <a:cubicBezTo>
                  <a:pt x="6407" y="6375"/>
                  <a:pt x="6525" y="6347"/>
                  <a:pt x="6648" y="6300"/>
                </a:cubicBezTo>
                <a:cubicBezTo>
                  <a:pt x="6681" y="6284"/>
                  <a:pt x="6714" y="6267"/>
                  <a:pt x="6747" y="6251"/>
                </a:cubicBezTo>
              </a:path>
              <a:path w="4490" h="1489">
                <a:moveTo>
                  <a:pt x="6846" y="6028"/>
                </a:moveTo>
                <a:cubicBezTo>
                  <a:pt x="6781" y="6109"/>
                  <a:pt x="6652" y="6267"/>
                  <a:pt x="6821" y="6325"/>
                </a:cubicBezTo>
                <a:cubicBezTo>
                  <a:pt x="6950" y="6369"/>
                  <a:pt x="7181" y="6142"/>
                  <a:pt x="7020" y="6077"/>
                </a:cubicBezTo>
                <a:cubicBezTo>
                  <a:pt x="6987" y="6077"/>
                  <a:pt x="6954" y="6077"/>
                  <a:pt x="6921" y="6077"/>
                </a:cubicBezTo>
              </a:path>
              <a:path w="4490" h="1489">
                <a:moveTo>
                  <a:pt x="6921" y="6077"/>
                </a:moveTo>
                <a:lnTo>
                  <a:pt x="6921" y="6077"/>
                </a:lnTo>
              </a:path>
              <a:path w="4490" h="1489">
                <a:moveTo>
                  <a:pt x="5631" y="5904"/>
                </a:moveTo>
                <a:cubicBezTo>
                  <a:pt x="5655" y="5904"/>
                  <a:pt x="5664" y="5904"/>
                  <a:pt x="5680" y="5904"/>
                </a:cubicBezTo>
                <a:cubicBezTo>
                  <a:pt x="5669" y="5904"/>
                  <a:pt x="5564" y="5904"/>
                  <a:pt x="5631" y="5904"/>
                </a:cubicBezTo>
                <a:cubicBezTo>
                  <a:pt x="5639" y="5904"/>
                  <a:pt x="5647" y="5904"/>
                  <a:pt x="5655" y="59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5800" y="2374920"/>
            <a:ext cx="1285920" cy="206280"/>
          </a:xfrm>
          <a:custGeom>
            <a:avLst/>
            <a:gdLst/>
            <a:ahLst/>
            <a:rect l="l" t="t" r="r" b="b"/>
            <a:pathLst>
              <a:path w="3573" h="572">
                <a:moveTo>
                  <a:pt x="2927" y="6796"/>
                </a:moveTo>
                <a:cubicBezTo>
                  <a:pt x="2914" y="6759"/>
                  <a:pt x="2893" y="6745"/>
                  <a:pt x="2853" y="6697"/>
                </a:cubicBezTo>
                <a:cubicBezTo>
                  <a:pt x="2728" y="6697"/>
                  <a:pt x="2711" y="6781"/>
                  <a:pt x="2679" y="6896"/>
                </a:cubicBezTo>
                <a:cubicBezTo>
                  <a:pt x="2639" y="7038"/>
                  <a:pt x="2704" y="7254"/>
                  <a:pt x="2902" y="7144"/>
                </a:cubicBezTo>
                <a:cubicBezTo>
                  <a:pt x="2935" y="7111"/>
                  <a:pt x="2968" y="7078"/>
                  <a:pt x="3001" y="7045"/>
                </a:cubicBezTo>
              </a:path>
              <a:path w="3573" h="572">
                <a:moveTo>
                  <a:pt x="3175" y="6796"/>
                </a:moveTo>
                <a:cubicBezTo>
                  <a:pt x="3083" y="6854"/>
                  <a:pt x="3064" y="6944"/>
                  <a:pt x="3051" y="7069"/>
                </a:cubicBezTo>
                <a:cubicBezTo>
                  <a:pt x="3150" y="7075"/>
                  <a:pt x="3428" y="7058"/>
                  <a:pt x="3299" y="6871"/>
                </a:cubicBezTo>
                <a:cubicBezTo>
                  <a:pt x="3243" y="6833"/>
                  <a:pt x="3240" y="6816"/>
                  <a:pt x="3200" y="6821"/>
                </a:cubicBezTo>
              </a:path>
              <a:path w="3573" h="572">
                <a:moveTo>
                  <a:pt x="3448" y="6921"/>
                </a:moveTo>
                <a:cubicBezTo>
                  <a:pt x="3489" y="7003"/>
                  <a:pt x="3497" y="7020"/>
                  <a:pt x="3522" y="7069"/>
                </a:cubicBezTo>
                <a:cubicBezTo>
                  <a:pt x="3496" y="6952"/>
                  <a:pt x="3472" y="6921"/>
                  <a:pt x="3522" y="6796"/>
                </a:cubicBezTo>
                <a:cubicBezTo>
                  <a:pt x="3662" y="6797"/>
                  <a:pt x="3811" y="6860"/>
                  <a:pt x="3820" y="7045"/>
                </a:cubicBezTo>
                <a:cubicBezTo>
                  <a:pt x="3812" y="7053"/>
                  <a:pt x="3803" y="7061"/>
                  <a:pt x="3795" y="7069"/>
                </a:cubicBezTo>
              </a:path>
              <a:path w="3573" h="572">
                <a:moveTo>
                  <a:pt x="4068" y="6796"/>
                </a:moveTo>
                <a:cubicBezTo>
                  <a:pt x="4008" y="6826"/>
                  <a:pt x="3982" y="6841"/>
                  <a:pt x="3944" y="6871"/>
                </a:cubicBezTo>
                <a:cubicBezTo>
                  <a:pt x="3996" y="6908"/>
                  <a:pt x="4199" y="6969"/>
                  <a:pt x="4142" y="7069"/>
                </a:cubicBezTo>
                <a:cubicBezTo>
                  <a:pt x="4083" y="7174"/>
                  <a:pt x="3946" y="7164"/>
                  <a:pt x="3919" y="7069"/>
                </a:cubicBezTo>
              </a:path>
              <a:path w="3573" h="572">
                <a:moveTo>
                  <a:pt x="4440" y="6598"/>
                </a:moveTo>
                <a:cubicBezTo>
                  <a:pt x="4460" y="6754"/>
                  <a:pt x="4493" y="6919"/>
                  <a:pt x="4539" y="7069"/>
                </a:cubicBezTo>
              </a:path>
              <a:path w="3573" h="572">
                <a:moveTo>
                  <a:pt x="4167" y="6945"/>
                </a:moveTo>
                <a:cubicBezTo>
                  <a:pt x="4339" y="6914"/>
                  <a:pt x="4556" y="6826"/>
                  <a:pt x="4713" y="6921"/>
                </a:cubicBezTo>
                <a:cubicBezTo>
                  <a:pt x="4781" y="6989"/>
                  <a:pt x="4803" y="7005"/>
                  <a:pt x="4812" y="7069"/>
                </a:cubicBezTo>
                <a:cubicBezTo>
                  <a:pt x="4762" y="6983"/>
                  <a:pt x="4733" y="6920"/>
                  <a:pt x="4837" y="6871"/>
                </a:cubicBezTo>
                <a:cubicBezTo>
                  <a:pt x="4878" y="6854"/>
                  <a:pt x="4920" y="6838"/>
                  <a:pt x="4961" y="6821"/>
                </a:cubicBezTo>
              </a:path>
              <a:path w="3573" h="572">
                <a:moveTo>
                  <a:pt x="5035" y="6821"/>
                </a:moveTo>
                <a:cubicBezTo>
                  <a:pt x="5082" y="6883"/>
                  <a:pt x="5057" y="6966"/>
                  <a:pt x="5085" y="7045"/>
                </a:cubicBezTo>
                <a:cubicBezTo>
                  <a:pt x="5105" y="7085"/>
                  <a:pt x="5104" y="7101"/>
                  <a:pt x="5135" y="7094"/>
                </a:cubicBezTo>
                <a:cubicBezTo>
                  <a:pt x="5230" y="7010"/>
                  <a:pt x="5234" y="6943"/>
                  <a:pt x="5259" y="6821"/>
                </a:cubicBezTo>
                <a:cubicBezTo>
                  <a:pt x="5259" y="6829"/>
                  <a:pt x="5259" y="6838"/>
                  <a:pt x="5259" y="6846"/>
                </a:cubicBezTo>
                <a:cubicBezTo>
                  <a:pt x="5285" y="6916"/>
                  <a:pt x="5338" y="7145"/>
                  <a:pt x="5457" y="7045"/>
                </a:cubicBezTo>
                <a:cubicBezTo>
                  <a:pt x="5490" y="7004"/>
                  <a:pt x="5523" y="6962"/>
                  <a:pt x="5556" y="6921"/>
                </a:cubicBezTo>
              </a:path>
              <a:path w="3573" h="572">
                <a:moveTo>
                  <a:pt x="5705" y="6846"/>
                </a:moveTo>
                <a:cubicBezTo>
                  <a:pt x="5705" y="6811"/>
                  <a:pt x="5696" y="6798"/>
                  <a:pt x="5655" y="6796"/>
                </a:cubicBezTo>
                <a:cubicBezTo>
                  <a:pt x="5606" y="6875"/>
                  <a:pt x="5480" y="7108"/>
                  <a:pt x="5655" y="7144"/>
                </a:cubicBezTo>
                <a:cubicBezTo>
                  <a:pt x="5785" y="7118"/>
                  <a:pt x="5832" y="7106"/>
                  <a:pt x="5904" y="7045"/>
                </a:cubicBezTo>
              </a:path>
              <a:path w="3573" h="572">
                <a:moveTo>
                  <a:pt x="6003" y="6623"/>
                </a:moveTo>
                <a:cubicBezTo>
                  <a:pt x="6017" y="6794"/>
                  <a:pt x="6076" y="6950"/>
                  <a:pt x="6102" y="7119"/>
                </a:cubicBezTo>
                <a:cubicBezTo>
                  <a:pt x="6102" y="7136"/>
                  <a:pt x="6102" y="7152"/>
                  <a:pt x="6102" y="7169"/>
                </a:cubicBezTo>
              </a:path>
              <a:path w="3573" h="572">
                <a:moveTo>
                  <a:pt x="6102" y="7169"/>
                </a:moveTo>
                <a:lnTo>
                  <a:pt x="6102" y="7169"/>
                </a:lnTo>
              </a:path>
              <a:path w="3573" h="572">
                <a:moveTo>
                  <a:pt x="5854" y="6921"/>
                </a:moveTo>
                <a:cubicBezTo>
                  <a:pt x="5979" y="6897"/>
                  <a:pt x="6102" y="6874"/>
                  <a:pt x="6226" y="68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2509920"/>
            <a:ext cx="88920" cy="7920"/>
          </a:xfrm>
          <a:custGeom>
            <a:avLst/>
            <a:gdLst/>
            <a:ahLst/>
            <a:rect l="l" t="t" r="r" b="b"/>
            <a:pathLst>
              <a:path w="249" h="26">
                <a:moveTo>
                  <a:pt x="6772" y="6995"/>
                </a:moveTo>
                <a:cubicBezTo>
                  <a:pt x="6833" y="6995"/>
                  <a:pt x="6945" y="6953"/>
                  <a:pt x="6995" y="6970"/>
                </a:cubicBezTo>
                <a:cubicBezTo>
                  <a:pt x="7018" y="6993"/>
                  <a:pt x="7026" y="7004"/>
                  <a:pt x="7020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7120" y="2320920"/>
            <a:ext cx="561960" cy="243000"/>
          </a:xfrm>
          <a:custGeom>
            <a:avLst/>
            <a:gdLst/>
            <a:ahLst/>
            <a:rect l="l" t="t" r="r" b="b"/>
            <a:pathLst>
              <a:path w="1564" h="671">
                <a:moveTo>
                  <a:pt x="7516" y="6623"/>
                </a:moveTo>
                <a:cubicBezTo>
                  <a:pt x="7438" y="6649"/>
                  <a:pt x="7502" y="6851"/>
                  <a:pt x="7516" y="6921"/>
                </a:cubicBezTo>
                <a:cubicBezTo>
                  <a:pt x="7529" y="6987"/>
                  <a:pt x="7541" y="7136"/>
                  <a:pt x="7541" y="7069"/>
                </a:cubicBezTo>
              </a:path>
              <a:path w="1564" h="671">
                <a:moveTo>
                  <a:pt x="7962" y="6449"/>
                </a:moveTo>
                <a:cubicBezTo>
                  <a:pt x="7973" y="6525"/>
                  <a:pt x="7999" y="6598"/>
                  <a:pt x="8012" y="6672"/>
                </a:cubicBezTo>
              </a:path>
              <a:path w="1564" h="671">
                <a:moveTo>
                  <a:pt x="7813" y="6772"/>
                </a:moveTo>
                <a:cubicBezTo>
                  <a:pt x="7952" y="6735"/>
                  <a:pt x="8091" y="6705"/>
                  <a:pt x="8235" y="6697"/>
                </a:cubicBezTo>
                <a:cubicBezTo>
                  <a:pt x="8243" y="6697"/>
                  <a:pt x="8252" y="6697"/>
                  <a:pt x="8260" y="6697"/>
                </a:cubicBezTo>
              </a:path>
              <a:path w="1564" h="671">
                <a:moveTo>
                  <a:pt x="8260" y="6697"/>
                </a:moveTo>
                <a:lnTo>
                  <a:pt x="8260" y="6697"/>
                </a:lnTo>
              </a:path>
              <a:path w="1564" h="671">
                <a:moveTo>
                  <a:pt x="7987" y="6896"/>
                </a:moveTo>
                <a:cubicBezTo>
                  <a:pt x="8064" y="6881"/>
                  <a:pt x="8110" y="6871"/>
                  <a:pt x="8186" y="6871"/>
                </a:cubicBezTo>
                <a:cubicBezTo>
                  <a:pt x="8165" y="6996"/>
                  <a:pt x="8106" y="7006"/>
                  <a:pt x="8037" y="7094"/>
                </a:cubicBezTo>
                <a:cubicBezTo>
                  <a:pt x="7998" y="7144"/>
                  <a:pt x="8262" y="7076"/>
                  <a:pt x="8285" y="7069"/>
                </a:cubicBezTo>
              </a:path>
              <a:path w="1564" h="671">
                <a:moveTo>
                  <a:pt x="8632" y="6846"/>
                </a:moveTo>
                <a:cubicBezTo>
                  <a:pt x="8650" y="6896"/>
                  <a:pt x="8672" y="6945"/>
                  <a:pt x="8682" y="6995"/>
                </a:cubicBezTo>
              </a:path>
              <a:path w="1564" h="671">
                <a:moveTo>
                  <a:pt x="8830" y="6896"/>
                </a:moveTo>
                <a:cubicBezTo>
                  <a:pt x="8849" y="6953"/>
                  <a:pt x="8840" y="6978"/>
                  <a:pt x="8880" y="6970"/>
                </a:cubicBezTo>
                <a:cubicBezTo>
                  <a:pt x="8880" y="6905"/>
                  <a:pt x="8885" y="6857"/>
                  <a:pt x="8905" y="6796"/>
                </a:cubicBezTo>
                <a:cubicBezTo>
                  <a:pt x="8983" y="6796"/>
                  <a:pt x="9023" y="6851"/>
                  <a:pt x="9054" y="6921"/>
                </a:cubicBezTo>
                <a:cubicBezTo>
                  <a:pt x="9074" y="6967"/>
                  <a:pt x="8999" y="6943"/>
                  <a:pt x="8954" y="6921"/>
                </a:cubicBezTo>
              </a:path>
              <a:path w="1564" h="671">
                <a:moveTo>
                  <a:pt x="8582" y="6623"/>
                </a:moveTo>
                <a:cubicBezTo>
                  <a:pt x="8590" y="6623"/>
                  <a:pt x="8599" y="6623"/>
                  <a:pt x="8607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46640" y="2357280"/>
            <a:ext cx="241200" cy="160560"/>
          </a:xfrm>
          <a:custGeom>
            <a:avLst/>
            <a:gdLst/>
            <a:ahLst/>
            <a:rect l="l" t="t" r="r" b="b"/>
            <a:pathLst>
              <a:path w="670" h="448">
                <a:moveTo>
                  <a:pt x="9723" y="6772"/>
                </a:moveTo>
                <a:cubicBezTo>
                  <a:pt x="9600" y="6813"/>
                  <a:pt x="9588" y="6865"/>
                  <a:pt x="9575" y="6995"/>
                </a:cubicBezTo>
                <a:cubicBezTo>
                  <a:pt x="9615" y="6992"/>
                  <a:pt x="9989" y="6935"/>
                  <a:pt x="9823" y="6821"/>
                </a:cubicBezTo>
                <a:cubicBezTo>
                  <a:pt x="9716" y="6799"/>
                  <a:pt x="9692" y="6791"/>
                  <a:pt x="9624" y="6796"/>
                </a:cubicBezTo>
              </a:path>
              <a:path w="670" h="448">
                <a:moveTo>
                  <a:pt x="10071" y="6548"/>
                </a:moveTo>
                <a:cubicBezTo>
                  <a:pt x="9988" y="6611"/>
                  <a:pt x="9988" y="6763"/>
                  <a:pt x="10021" y="6871"/>
                </a:cubicBezTo>
                <a:cubicBezTo>
                  <a:pt x="10038" y="6904"/>
                  <a:pt x="10054" y="6937"/>
                  <a:pt x="10071" y="6970"/>
                </a:cubicBezTo>
              </a:path>
              <a:path w="670" h="448">
                <a:moveTo>
                  <a:pt x="9897" y="6796"/>
                </a:moveTo>
                <a:cubicBezTo>
                  <a:pt x="10071" y="6772"/>
                  <a:pt x="10128" y="6764"/>
                  <a:pt x="10244" y="6747"/>
                </a:cubicBezTo>
              </a:path>
              <a:path w="670" h="448">
                <a:moveTo>
                  <a:pt x="10244" y="6747"/>
                </a:moveTo>
                <a:lnTo>
                  <a:pt x="10244" y="674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40120" y="2313000"/>
            <a:ext cx="517680" cy="187200"/>
          </a:xfrm>
          <a:custGeom>
            <a:avLst/>
            <a:gdLst/>
            <a:ahLst/>
            <a:rect l="l" t="t" r="r" b="b"/>
            <a:pathLst>
              <a:path w="1440" h="522">
                <a:moveTo>
                  <a:pt x="10691" y="6722"/>
                </a:moveTo>
                <a:cubicBezTo>
                  <a:pt x="10664" y="6777"/>
                  <a:pt x="10631" y="6935"/>
                  <a:pt x="10740" y="6945"/>
                </a:cubicBezTo>
                <a:cubicBezTo>
                  <a:pt x="10862" y="6957"/>
                  <a:pt x="10883" y="6823"/>
                  <a:pt x="10914" y="6747"/>
                </a:cubicBezTo>
                <a:cubicBezTo>
                  <a:pt x="10914" y="6829"/>
                  <a:pt x="10933" y="6918"/>
                  <a:pt x="11038" y="6921"/>
                </a:cubicBezTo>
                <a:cubicBezTo>
                  <a:pt x="11204" y="6926"/>
                  <a:pt x="11189" y="6743"/>
                  <a:pt x="11063" y="6697"/>
                </a:cubicBezTo>
                <a:cubicBezTo>
                  <a:pt x="11038" y="6697"/>
                  <a:pt x="11013" y="6697"/>
                  <a:pt x="10988" y="6697"/>
                </a:cubicBezTo>
              </a:path>
              <a:path w="1440" h="522">
                <a:moveTo>
                  <a:pt x="11286" y="6672"/>
                </a:moveTo>
                <a:cubicBezTo>
                  <a:pt x="11231" y="6727"/>
                  <a:pt x="11224" y="6786"/>
                  <a:pt x="11212" y="6871"/>
                </a:cubicBezTo>
                <a:cubicBezTo>
                  <a:pt x="11273" y="6902"/>
                  <a:pt x="11543" y="6911"/>
                  <a:pt x="11460" y="6747"/>
                </a:cubicBezTo>
                <a:cubicBezTo>
                  <a:pt x="11383" y="6695"/>
                  <a:pt x="11355" y="6679"/>
                  <a:pt x="11286" y="6697"/>
                </a:cubicBezTo>
              </a:path>
              <a:path w="1440" h="522">
                <a:moveTo>
                  <a:pt x="11286" y="6697"/>
                </a:moveTo>
                <a:lnTo>
                  <a:pt x="11286" y="6697"/>
                </a:lnTo>
              </a:path>
              <a:path w="1440" h="522">
                <a:moveTo>
                  <a:pt x="11733" y="6648"/>
                </a:moveTo>
                <a:cubicBezTo>
                  <a:pt x="11574" y="6661"/>
                  <a:pt x="11566" y="6698"/>
                  <a:pt x="11509" y="6846"/>
                </a:cubicBezTo>
                <a:cubicBezTo>
                  <a:pt x="11551" y="6855"/>
                  <a:pt x="11945" y="6870"/>
                  <a:pt x="11807" y="6722"/>
                </a:cubicBezTo>
                <a:cubicBezTo>
                  <a:pt x="11723" y="6701"/>
                  <a:pt x="11704" y="6699"/>
                  <a:pt x="11658" y="6672"/>
                </a:cubicBezTo>
              </a:path>
              <a:path w="1440" h="522">
                <a:moveTo>
                  <a:pt x="12005" y="6672"/>
                </a:moveTo>
                <a:cubicBezTo>
                  <a:pt x="11907" y="6653"/>
                  <a:pt x="11826" y="6672"/>
                  <a:pt x="11782" y="6796"/>
                </a:cubicBezTo>
                <a:cubicBezTo>
                  <a:pt x="11689" y="7060"/>
                  <a:pt x="12064" y="6823"/>
                  <a:pt x="12105" y="6796"/>
                </a:cubicBezTo>
              </a:path>
              <a:path w="1440" h="522">
                <a:moveTo>
                  <a:pt x="11906" y="6424"/>
                </a:moveTo>
                <a:cubicBezTo>
                  <a:pt x="11965" y="6588"/>
                  <a:pt x="12049" y="6752"/>
                  <a:pt x="12080" y="6921"/>
                </a:cubicBezTo>
              </a:path>
              <a:path w="1440" h="522">
                <a:moveTo>
                  <a:pt x="12080" y="6921"/>
                </a:moveTo>
                <a:lnTo>
                  <a:pt x="12080" y="692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2697120"/>
            <a:ext cx="662040" cy="231840"/>
          </a:xfrm>
          <a:custGeom>
            <a:avLst/>
            <a:gdLst/>
            <a:ahLst/>
            <a:rect l="l" t="t" r="r" b="b"/>
            <a:pathLst>
              <a:path w="1837" h="646">
                <a:moveTo>
                  <a:pt x="769" y="7764"/>
                </a:moveTo>
                <a:cubicBezTo>
                  <a:pt x="804" y="7752"/>
                  <a:pt x="794" y="7757"/>
                  <a:pt x="794" y="7714"/>
                </a:cubicBezTo>
                <a:cubicBezTo>
                  <a:pt x="715" y="7694"/>
                  <a:pt x="666" y="7691"/>
                  <a:pt x="620" y="7813"/>
                </a:cubicBezTo>
                <a:cubicBezTo>
                  <a:pt x="573" y="7940"/>
                  <a:pt x="562" y="8176"/>
                  <a:pt x="769" y="8062"/>
                </a:cubicBezTo>
                <a:cubicBezTo>
                  <a:pt x="810" y="8029"/>
                  <a:pt x="852" y="7995"/>
                  <a:pt x="893" y="7962"/>
                </a:cubicBezTo>
              </a:path>
              <a:path w="1837" h="646">
                <a:moveTo>
                  <a:pt x="992" y="7714"/>
                </a:moveTo>
                <a:cubicBezTo>
                  <a:pt x="950" y="7806"/>
                  <a:pt x="927" y="7817"/>
                  <a:pt x="967" y="7913"/>
                </a:cubicBezTo>
                <a:cubicBezTo>
                  <a:pt x="997" y="7907"/>
                  <a:pt x="1296" y="7797"/>
                  <a:pt x="1141" y="7714"/>
                </a:cubicBezTo>
                <a:cubicBezTo>
                  <a:pt x="1073" y="7714"/>
                  <a:pt x="1054" y="7711"/>
                  <a:pt x="1017" y="7739"/>
                </a:cubicBezTo>
              </a:path>
              <a:path w="1837" h="646">
                <a:moveTo>
                  <a:pt x="1339" y="7565"/>
                </a:moveTo>
                <a:cubicBezTo>
                  <a:pt x="1308" y="7680"/>
                  <a:pt x="1239" y="7747"/>
                  <a:pt x="1265" y="7863"/>
                </a:cubicBezTo>
                <a:cubicBezTo>
                  <a:pt x="1369" y="7863"/>
                  <a:pt x="1307" y="7746"/>
                  <a:pt x="1265" y="7689"/>
                </a:cubicBezTo>
                <a:cubicBezTo>
                  <a:pt x="1230" y="7689"/>
                  <a:pt x="1213" y="7685"/>
                  <a:pt x="1191" y="7665"/>
                </a:cubicBezTo>
              </a:path>
              <a:path w="1837" h="646">
                <a:moveTo>
                  <a:pt x="1191" y="7665"/>
                </a:moveTo>
                <a:lnTo>
                  <a:pt x="1191" y="7665"/>
                </a:lnTo>
              </a:path>
              <a:path w="1837" h="646">
                <a:moveTo>
                  <a:pt x="1265" y="7541"/>
                </a:moveTo>
                <a:cubicBezTo>
                  <a:pt x="1294" y="7599"/>
                  <a:pt x="1389" y="7889"/>
                  <a:pt x="1414" y="7789"/>
                </a:cubicBezTo>
              </a:path>
              <a:path w="1837" h="646">
                <a:moveTo>
                  <a:pt x="1488" y="7491"/>
                </a:moveTo>
                <a:cubicBezTo>
                  <a:pt x="1404" y="7576"/>
                  <a:pt x="1309" y="7616"/>
                  <a:pt x="1439" y="7714"/>
                </a:cubicBezTo>
                <a:cubicBezTo>
                  <a:pt x="1522" y="7776"/>
                  <a:pt x="1614" y="7824"/>
                  <a:pt x="1662" y="7764"/>
                </a:cubicBezTo>
              </a:path>
              <a:path w="1837" h="646">
                <a:moveTo>
                  <a:pt x="1662" y="7764"/>
                </a:moveTo>
                <a:lnTo>
                  <a:pt x="1662" y="7764"/>
                </a:lnTo>
              </a:path>
              <a:path w="1837" h="646">
                <a:moveTo>
                  <a:pt x="1637" y="7714"/>
                </a:moveTo>
                <a:cubicBezTo>
                  <a:pt x="1709" y="7869"/>
                  <a:pt x="1694" y="7859"/>
                  <a:pt x="1662" y="7689"/>
                </a:cubicBezTo>
              </a:path>
              <a:path w="1837" h="646">
                <a:moveTo>
                  <a:pt x="1588" y="7565"/>
                </a:moveTo>
                <a:cubicBezTo>
                  <a:pt x="1580" y="7565"/>
                  <a:pt x="1571" y="7565"/>
                  <a:pt x="1563" y="7565"/>
                </a:cubicBezTo>
              </a:path>
              <a:path w="1837" h="646">
                <a:moveTo>
                  <a:pt x="1563" y="7565"/>
                </a:moveTo>
                <a:lnTo>
                  <a:pt x="1563" y="7565"/>
                </a:lnTo>
              </a:path>
              <a:path w="1837" h="646">
                <a:moveTo>
                  <a:pt x="1811" y="7764"/>
                </a:moveTo>
                <a:cubicBezTo>
                  <a:pt x="1847" y="7837"/>
                  <a:pt x="1864" y="7842"/>
                  <a:pt x="1860" y="7888"/>
                </a:cubicBezTo>
                <a:cubicBezTo>
                  <a:pt x="1860" y="7822"/>
                  <a:pt x="1860" y="7755"/>
                  <a:pt x="1860" y="7689"/>
                </a:cubicBezTo>
                <a:cubicBezTo>
                  <a:pt x="1900" y="7709"/>
                  <a:pt x="2030" y="7877"/>
                  <a:pt x="2084" y="7838"/>
                </a:cubicBezTo>
                <a:cubicBezTo>
                  <a:pt x="2109" y="7805"/>
                  <a:pt x="2133" y="7772"/>
                  <a:pt x="2158" y="7739"/>
                </a:cubicBezTo>
              </a:path>
              <a:path w="1837" h="646">
                <a:moveTo>
                  <a:pt x="2108" y="7640"/>
                </a:moveTo>
                <a:cubicBezTo>
                  <a:pt x="2108" y="7723"/>
                  <a:pt x="2108" y="7739"/>
                  <a:pt x="2108" y="7789"/>
                </a:cubicBezTo>
                <a:cubicBezTo>
                  <a:pt x="2142" y="7743"/>
                  <a:pt x="2234" y="7681"/>
                  <a:pt x="2307" y="7739"/>
                </a:cubicBezTo>
                <a:cubicBezTo>
                  <a:pt x="2442" y="7845"/>
                  <a:pt x="2490" y="8084"/>
                  <a:pt x="2282" y="8136"/>
                </a:cubicBezTo>
                <a:cubicBezTo>
                  <a:pt x="2199" y="8157"/>
                  <a:pt x="2212" y="8005"/>
                  <a:pt x="2208" y="7962"/>
                </a:cubicBezTo>
              </a:path>
              <a:path w="1837" h="646">
                <a:moveTo>
                  <a:pt x="2208" y="7962"/>
                </a:moveTo>
                <a:lnTo>
                  <a:pt x="2208" y="796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2678040"/>
            <a:ext cx="974520" cy="171360"/>
          </a:xfrm>
          <a:custGeom>
            <a:avLst/>
            <a:gdLst/>
            <a:ahLst/>
            <a:rect l="l" t="t" r="r" b="b"/>
            <a:pathLst>
              <a:path w="2705" h="473">
                <a:moveTo>
                  <a:pt x="2753" y="7590"/>
                </a:moveTo>
                <a:cubicBezTo>
                  <a:pt x="2777" y="7674"/>
                  <a:pt x="2795" y="7751"/>
                  <a:pt x="2803" y="7838"/>
                </a:cubicBezTo>
                <a:cubicBezTo>
                  <a:pt x="2795" y="7783"/>
                  <a:pt x="2750" y="7577"/>
                  <a:pt x="2803" y="7541"/>
                </a:cubicBezTo>
                <a:cubicBezTo>
                  <a:pt x="2892" y="7480"/>
                  <a:pt x="3011" y="7630"/>
                  <a:pt x="3051" y="7665"/>
                </a:cubicBezTo>
                <a:cubicBezTo>
                  <a:pt x="3059" y="7690"/>
                  <a:pt x="3068" y="7714"/>
                  <a:pt x="3076" y="7739"/>
                </a:cubicBezTo>
                <a:cubicBezTo>
                  <a:pt x="3055" y="7627"/>
                  <a:pt x="3051" y="7576"/>
                  <a:pt x="3076" y="7466"/>
                </a:cubicBezTo>
                <a:cubicBezTo>
                  <a:pt x="3220" y="7507"/>
                  <a:pt x="3255" y="7587"/>
                  <a:pt x="3324" y="7714"/>
                </a:cubicBezTo>
                <a:cubicBezTo>
                  <a:pt x="3344" y="7755"/>
                  <a:pt x="3353" y="7761"/>
                  <a:pt x="3349" y="7789"/>
                </a:cubicBezTo>
              </a:path>
              <a:path w="2705" h="473">
                <a:moveTo>
                  <a:pt x="3497" y="7615"/>
                </a:moveTo>
                <a:cubicBezTo>
                  <a:pt x="3560" y="7615"/>
                  <a:pt x="3611" y="7600"/>
                  <a:pt x="3671" y="7590"/>
                </a:cubicBezTo>
                <a:cubicBezTo>
                  <a:pt x="3652" y="7479"/>
                  <a:pt x="3652" y="7455"/>
                  <a:pt x="3547" y="7441"/>
                </a:cubicBezTo>
                <a:cubicBezTo>
                  <a:pt x="3399" y="7421"/>
                  <a:pt x="3453" y="7674"/>
                  <a:pt x="3473" y="7739"/>
                </a:cubicBezTo>
                <a:cubicBezTo>
                  <a:pt x="3516" y="7875"/>
                  <a:pt x="3588" y="7823"/>
                  <a:pt x="3671" y="7789"/>
                </a:cubicBezTo>
              </a:path>
              <a:path w="2705" h="473">
                <a:moveTo>
                  <a:pt x="4068" y="7640"/>
                </a:moveTo>
                <a:cubicBezTo>
                  <a:pt x="4056" y="7603"/>
                  <a:pt x="4019" y="7586"/>
                  <a:pt x="3969" y="7541"/>
                </a:cubicBezTo>
                <a:cubicBezTo>
                  <a:pt x="3866" y="7561"/>
                  <a:pt x="3803" y="7710"/>
                  <a:pt x="3820" y="7813"/>
                </a:cubicBezTo>
                <a:cubicBezTo>
                  <a:pt x="3837" y="7830"/>
                  <a:pt x="3853" y="7846"/>
                  <a:pt x="3870" y="7863"/>
                </a:cubicBezTo>
                <a:cubicBezTo>
                  <a:pt x="4008" y="7779"/>
                  <a:pt x="4047" y="7750"/>
                  <a:pt x="4018" y="7590"/>
                </a:cubicBezTo>
                <a:cubicBezTo>
                  <a:pt x="4018" y="7692"/>
                  <a:pt x="4065" y="7767"/>
                  <a:pt x="4093" y="7863"/>
                </a:cubicBezTo>
                <a:cubicBezTo>
                  <a:pt x="4093" y="7888"/>
                  <a:pt x="4093" y="7896"/>
                  <a:pt x="4118" y="7888"/>
                </a:cubicBezTo>
              </a:path>
              <a:path w="2705" h="473">
                <a:moveTo>
                  <a:pt x="4242" y="7565"/>
                </a:moveTo>
                <a:cubicBezTo>
                  <a:pt x="4195" y="7612"/>
                  <a:pt x="4181" y="7624"/>
                  <a:pt x="4167" y="7665"/>
                </a:cubicBezTo>
                <a:cubicBezTo>
                  <a:pt x="4265" y="7717"/>
                  <a:pt x="4378" y="7727"/>
                  <a:pt x="4415" y="7813"/>
                </a:cubicBezTo>
                <a:cubicBezTo>
                  <a:pt x="4348" y="7890"/>
                  <a:pt x="4318" y="7897"/>
                  <a:pt x="4217" y="7913"/>
                </a:cubicBezTo>
              </a:path>
              <a:path w="2705" h="473">
                <a:moveTo>
                  <a:pt x="4217" y="7913"/>
                </a:moveTo>
                <a:lnTo>
                  <a:pt x="4217" y="7913"/>
                </a:lnTo>
              </a:path>
              <a:path w="2705" h="473">
                <a:moveTo>
                  <a:pt x="4589" y="7665"/>
                </a:moveTo>
                <a:cubicBezTo>
                  <a:pt x="4589" y="7607"/>
                  <a:pt x="4579" y="7732"/>
                  <a:pt x="4589" y="7789"/>
                </a:cubicBezTo>
                <a:cubicBezTo>
                  <a:pt x="4608" y="7846"/>
                  <a:pt x="4599" y="7871"/>
                  <a:pt x="4638" y="7863"/>
                </a:cubicBezTo>
                <a:cubicBezTo>
                  <a:pt x="4739" y="7790"/>
                  <a:pt x="4762" y="7751"/>
                  <a:pt x="4762" y="7615"/>
                </a:cubicBezTo>
                <a:cubicBezTo>
                  <a:pt x="4762" y="7762"/>
                  <a:pt x="4759" y="7806"/>
                  <a:pt x="4862" y="7888"/>
                </a:cubicBezTo>
                <a:cubicBezTo>
                  <a:pt x="4992" y="7841"/>
                  <a:pt x="4971" y="7815"/>
                  <a:pt x="5011" y="7665"/>
                </a:cubicBezTo>
              </a:path>
              <a:path w="2705" h="473">
                <a:moveTo>
                  <a:pt x="5011" y="7665"/>
                </a:moveTo>
                <a:cubicBezTo>
                  <a:pt x="5011" y="7723"/>
                  <a:pt x="5011" y="7748"/>
                  <a:pt x="5011" y="7789"/>
                </a:cubicBezTo>
                <a:cubicBezTo>
                  <a:pt x="5011" y="7847"/>
                  <a:pt x="4982" y="7723"/>
                  <a:pt x="4986" y="7665"/>
                </a:cubicBezTo>
                <a:cubicBezTo>
                  <a:pt x="4995" y="7535"/>
                  <a:pt x="5053" y="7565"/>
                  <a:pt x="5159" y="7565"/>
                </a:cubicBezTo>
              </a:path>
              <a:path w="2705" h="473">
                <a:moveTo>
                  <a:pt x="5159" y="7565"/>
                </a:moveTo>
                <a:lnTo>
                  <a:pt x="5159" y="7565"/>
                </a:lnTo>
              </a:path>
              <a:path w="2705" h="473">
                <a:moveTo>
                  <a:pt x="5184" y="7615"/>
                </a:moveTo>
                <a:cubicBezTo>
                  <a:pt x="5256" y="7631"/>
                  <a:pt x="5335" y="7640"/>
                  <a:pt x="5358" y="7541"/>
                </a:cubicBezTo>
                <a:cubicBezTo>
                  <a:pt x="5358" y="7524"/>
                  <a:pt x="5358" y="7508"/>
                  <a:pt x="5358" y="7491"/>
                </a:cubicBezTo>
                <a:cubicBezTo>
                  <a:pt x="5229" y="7458"/>
                  <a:pt x="5163" y="7578"/>
                  <a:pt x="5159" y="7714"/>
                </a:cubicBezTo>
                <a:cubicBezTo>
                  <a:pt x="5154" y="7881"/>
                  <a:pt x="5314" y="7829"/>
                  <a:pt x="5407" y="7813"/>
                </a:cubicBezTo>
                <a:cubicBezTo>
                  <a:pt x="5432" y="7813"/>
                  <a:pt x="5440" y="7813"/>
                  <a:pt x="5457" y="78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16080" y="2776680"/>
            <a:ext cx="54000" cy="9360"/>
          </a:xfrm>
          <a:custGeom>
            <a:avLst/>
            <a:gdLst/>
            <a:ahLst/>
            <a:rect l="l" t="t" r="r" b="b"/>
            <a:pathLst>
              <a:path w="150" h="26">
                <a:moveTo>
                  <a:pt x="5904" y="7714"/>
                </a:moveTo>
                <a:cubicBezTo>
                  <a:pt x="5896" y="7714"/>
                  <a:pt x="5887" y="7714"/>
                  <a:pt x="5879" y="7714"/>
                </a:cubicBezTo>
                <a:cubicBezTo>
                  <a:pt x="5923" y="7740"/>
                  <a:pt x="5950" y="7739"/>
                  <a:pt x="6003" y="7739"/>
                </a:cubicBezTo>
                <a:cubicBezTo>
                  <a:pt x="6011" y="7739"/>
                  <a:pt x="6020" y="7739"/>
                  <a:pt x="6028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95360" y="2608200"/>
            <a:ext cx="169920" cy="320760"/>
          </a:xfrm>
          <a:custGeom>
            <a:avLst/>
            <a:gdLst/>
            <a:ahLst/>
            <a:rect l="l" t="t" r="r" b="b"/>
            <a:pathLst>
              <a:path w="472" h="894">
                <a:moveTo>
                  <a:pt x="6697" y="7243"/>
                </a:moveTo>
                <a:cubicBezTo>
                  <a:pt x="6649" y="7327"/>
                  <a:pt x="6648" y="7393"/>
                  <a:pt x="6648" y="7491"/>
                </a:cubicBezTo>
              </a:path>
              <a:path w="472" h="894">
                <a:moveTo>
                  <a:pt x="6375" y="7590"/>
                </a:moveTo>
                <a:cubicBezTo>
                  <a:pt x="6516" y="7572"/>
                  <a:pt x="6655" y="7557"/>
                  <a:pt x="6796" y="7541"/>
                </a:cubicBezTo>
                <a:cubicBezTo>
                  <a:pt x="6821" y="7541"/>
                  <a:pt x="6829" y="7541"/>
                  <a:pt x="6846" y="7541"/>
                </a:cubicBezTo>
              </a:path>
              <a:path w="472" h="894">
                <a:moveTo>
                  <a:pt x="6846" y="7541"/>
                </a:moveTo>
                <a:lnTo>
                  <a:pt x="6846" y="7541"/>
                </a:lnTo>
              </a:path>
              <a:path w="472" h="894">
                <a:moveTo>
                  <a:pt x="6424" y="7764"/>
                </a:moveTo>
                <a:cubicBezTo>
                  <a:pt x="6414" y="7824"/>
                  <a:pt x="6400" y="7876"/>
                  <a:pt x="6400" y="7938"/>
                </a:cubicBezTo>
                <a:cubicBezTo>
                  <a:pt x="6527" y="7938"/>
                  <a:pt x="6580" y="7932"/>
                  <a:pt x="6697" y="7888"/>
                </a:cubicBezTo>
              </a:path>
              <a:path w="472" h="894">
                <a:moveTo>
                  <a:pt x="6672" y="7739"/>
                </a:moveTo>
                <a:cubicBezTo>
                  <a:pt x="6648" y="7861"/>
                  <a:pt x="6649" y="8000"/>
                  <a:pt x="6623" y="8111"/>
                </a:cubicBezTo>
                <a:cubicBezTo>
                  <a:pt x="6623" y="8119"/>
                  <a:pt x="6623" y="8128"/>
                  <a:pt x="6623" y="8136"/>
                </a:cubicBezTo>
              </a:path>
              <a:path w="472" h="894">
                <a:moveTo>
                  <a:pt x="6623" y="8136"/>
                </a:moveTo>
                <a:lnTo>
                  <a:pt x="6623" y="813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81200" y="2527200"/>
            <a:ext cx="3589560" cy="482760"/>
          </a:xfrm>
          <a:custGeom>
            <a:avLst/>
            <a:gdLst/>
            <a:ahLst/>
            <a:rect l="l" t="t" r="r" b="b"/>
            <a:pathLst>
              <a:path w="9972" h="1340">
                <a:moveTo>
                  <a:pt x="7392" y="7739"/>
                </a:moveTo>
                <a:cubicBezTo>
                  <a:pt x="7384" y="7756"/>
                  <a:pt x="7375" y="7772"/>
                  <a:pt x="7367" y="7789"/>
                </a:cubicBezTo>
                <a:cubicBezTo>
                  <a:pt x="7367" y="7747"/>
                  <a:pt x="7379" y="7657"/>
                  <a:pt x="7317" y="7665"/>
                </a:cubicBezTo>
                <a:cubicBezTo>
                  <a:pt x="7188" y="7682"/>
                  <a:pt x="7122" y="7977"/>
                  <a:pt x="7218" y="8062"/>
                </a:cubicBezTo>
                <a:cubicBezTo>
                  <a:pt x="7318" y="8150"/>
                  <a:pt x="7445" y="8011"/>
                  <a:pt x="7516" y="7962"/>
                </a:cubicBezTo>
              </a:path>
              <a:path w="9972" h="1340">
                <a:moveTo>
                  <a:pt x="7640" y="7913"/>
                </a:moveTo>
                <a:cubicBezTo>
                  <a:pt x="7640" y="7938"/>
                  <a:pt x="7640" y="7946"/>
                  <a:pt x="7665" y="7938"/>
                </a:cubicBezTo>
              </a:path>
              <a:path w="9972" h="1340">
                <a:moveTo>
                  <a:pt x="7665" y="7938"/>
                </a:moveTo>
                <a:lnTo>
                  <a:pt x="7665" y="7938"/>
                </a:lnTo>
              </a:path>
              <a:path w="9972" h="1340">
                <a:moveTo>
                  <a:pt x="8111" y="8037"/>
                </a:moveTo>
                <a:cubicBezTo>
                  <a:pt x="8127" y="8217"/>
                  <a:pt x="8151" y="8234"/>
                  <a:pt x="8037" y="8359"/>
                </a:cubicBezTo>
              </a:path>
              <a:path w="9972" h="1340">
                <a:moveTo>
                  <a:pt x="7938" y="7615"/>
                </a:moveTo>
                <a:cubicBezTo>
                  <a:pt x="7995" y="7659"/>
                  <a:pt x="7999" y="7630"/>
                  <a:pt x="8012" y="7565"/>
                </a:cubicBezTo>
                <a:cubicBezTo>
                  <a:pt x="7995" y="7573"/>
                  <a:pt x="7979" y="7582"/>
                  <a:pt x="7962" y="7590"/>
                </a:cubicBezTo>
              </a:path>
              <a:path w="9972" h="1340">
                <a:moveTo>
                  <a:pt x="7342" y="8235"/>
                </a:moveTo>
                <a:cubicBezTo>
                  <a:pt x="7433" y="8235"/>
                  <a:pt x="7458" y="8235"/>
                  <a:pt x="7516" y="8235"/>
                </a:cubicBezTo>
              </a:path>
              <a:path w="9972" h="1340">
                <a:moveTo>
                  <a:pt x="7243" y="8260"/>
                </a:moveTo>
                <a:cubicBezTo>
                  <a:pt x="7337" y="8279"/>
                  <a:pt x="7392" y="8283"/>
                  <a:pt x="7491" y="8260"/>
                </a:cubicBezTo>
              </a:path>
              <a:path w="9972" h="1340">
                <a:moveTo>
                  <a:pt x="7491" y="8260"/>
                </a:moveTo>
                <a:lnTo>
                  <a:pt x="7491" y="8260"/>
                </a:lnTo>
              </a:path>
              <a:path w="9972" h="1340">
                <a:moveTo>
                  <a:pt x="8434" y="7441"/>
                </a:moveTo>
                <a:cubicBezTo>
                  <a:pt x="8423" y="7625"/>
                  <a:pt x="8334" y="7809"/>
                  <a:pt x="8334" y="7987"/>
                </a:cubicBezTo>
                <a:cubicBezTo>
                  <a:pt x="8334" y="8111"/>
                  <a:pt x="8556" y="7981"/>
                  <a:pt x="8582" y="7962"/>
                </a:cubicBezTo>
              </a:path>
              <a:path w="9972" h="1340">
                <a:moveTo>
                  <a:pt x="8235" y="7789"/>
                </a:moveTo>
                <a:cubicBezTo>
                  <a:pt x="8348" y="7754"/>
                  <a:pt x="8440" y="7739"/>
                  <a:pt x="8558" y="7739"/>
                </a:cubicBezTo>
              </a:path>
              <a:path w="9972" h="1340">
                <a:moveTo>
                  <a:pt x="8558" y="7739"/>
                </a:moveTo>
                <a:lnTo>
                  <a:pt x="8558" y="7739"/>
                </a:lnTo>
              </a:path>
              <a:path w="9972" h="1340">
                <a:moveTo>
                  <a:pt x="8905" y="7665"/>
                </a:moveTo>
                <a:cubicBezTo>
                  <a:pt x="8818" y="7665"/>
                  <a:pt x="8756" y="7671"/>
                  <a:pt x="8682" y="7714"/>
                </a:cubicBezTo>
                <a:cubicBezTo>
                  <a:pt x="8753" y="7750"/>
                  <a:pt x="8826" y="7746"/>
                  <a:pt x="8880" y="7813"/>
                </a:cubicBezTo>
                <a:cubicBezTo>
                  <a:pt x="8808" y="7909"/>
                  <a:pt x="8781" y="7913"/>
                  <a:pt x="8657" y="7913"/>
                </a:cubicBezTo>
              </a:path>
              <a:path w="9972" h="1340">
                <a:moveTo>
                  <a:pt x="8979" y="7714"/>
                </a:moveTo>
                <a:cubicBezTo>
                  <a:pt x="8999" y="7889"/>
                  <a:pt x="9004" y="8058"/>
                  <a:pt x="9004" y="8235"/>
                </a:cubicBezTo>
              </a:path>
              <a:path w="9972" h="1340">
                <a:moveTo>
                  <a:pt x="8905" y="7689"/>
                </a:moveTo>
                <a:cubicBezTo>
                  <a:pt x="9005" y="7689"/>
                  <a:pt x="9172" y="7674"/>
                  <a:pt x="9227" y="7789"/>
                </a:cubicBezTo>
                <a:cubicBezTo>
                  <a:pt x="9293" y="7929"/>
                  <a:pt x="9093" y="7926"/>
                  <a:pt x="9029" y="7913"/>
                </a:cubicBezTo>
              </a:path>
              <a:path w="9972" h="1340">
                <a:moveTo>
                  <a:pt x="9451" y="7938"/>
                </a:moveTo>
                <a:cubicBezTo>
                  <a:pt x="9426" y="7938"/>
                  <a:pt x="9418" y="7938"/>
                  <a:pt x="9426" y="7962"/>
                </a:cubicBezTo>
              </a:path>
              <a:path w="9972" h="1340">
                <a:moveTo>
                  <a:pt x="9798" y="7913"/>
                </a:moveTo>
                <a:cubicBezTo>
                  <a:pt x="9807" y="8117"/>
                  <a:pt x="9834" y="8096"/>
                  <a:pt x="9674" y="8210"/>
                </a:cubicBezTo>
              </a:path>
              <a:path w="9972" h="1340">
                <a:moveTo>
                  <a:pt x="9723" y="7565"/>
                </a:moveTo>
                <a:cubicBezTo>
                  <a:pt x="9723" y="7573"/>
                  <a:pt x="9723" y="7582"/>
                  <a:pt x="9723" y="7590"/>
                </a:cubicBezTo>
              </a:path>
              <a:path w="9972" h="1340">
                <a:moveTo>
                  <a:pt x="10071" y="7293"/>
                </a:moveTo>
                <a:cubicBezTo>
                  <a:pt x="10090" y="7459"/>
                  <a:pt x="10125" y="7624"/>
                  <a:pt x="10145" y="7789"/>
                </a:cubicBezTo>
                <a:cubicBezTo>
                  <a:pt x="10156" y="7881"/>
                  <a:pt x="10294" y="7898"/>
                  <a:pt x="10368" y="7838"/>
                </a:cubicBezTo>
                <a:cubicBezTo>
                  <a:pt x="10368" y="7830"/>
                  <a:pt x="10368" y="7821"/>
                  <a:pt x="10368" y="7813"/>
                </a:cubicBezTo>
              </a:path>
              <a:path w="9972" h="1340">
                <a:moveTo>
                  <a:pt x="9897" y="7813"/>
                </a:moveTo>
                <a:cubicBezTo>
                  <a:pt x="10032" y="7766"/>
                  <a:pt x="10159" y="7707"/>
                  <a:pt x="10294" y="7665"/>
                </a:cubicBezTo>
              </a:path>
              <a:path w="9972" h="1340">
                <a:moveTo>
                  <a:pt x="10294" y="7665"/>
                </a:moveTo>
                <a:lnTo>
                  <a:pt x="10294" y="7665"/>
                </a:lnTo>
              </a:path>
              <a:path w="9972" h="1340">
                <a:moveTo>
                  <a:pt x="10294" y="7342"/>
                </a:moveTo>
                <a:cubicBezTo>
                  <a:pt x="10363" y="7469"/>
                  <a:pt x="10448" y="7587"/>
                  <a:pt x="10517" y="7714"/>
                </a:cubicBezTo>
                <a:cubicBezTo>
                  <a:pt x="10525" y="7731"/>
                  <a:pt x="10534" y="7747"/>
                  <a:pt x="10542" y="7764"/>
                </a:cubicBezTo>
                <a:cubicBezTo>
                  <a:pt x="10481" y="7688"/>
                  <a:pt x="10462" y="7637"/>
                  <a:pt x="10492" y="7541"/>
                </a:cubicBezTo>
                <a:cubicBezTo>
                  <a:pt x="10539" y="7394"/>
                  <a:pt x="10718" y="7552"/>
                  <a:pt x="10740" y="7640"/>
                </a:cubicBezTo>
                <a:cubicBezTo>
                  <a:pt x="10787" y="7825"/>
                  <a:pt x="10650" y="7828"/>
                  <a:pt x="10517" y="7838"/>
                </a:cubicBezTo>
              </a:path>
              <a:path w="9972" h="1340">
                <a:moveTo>
                  <a:pt x="10889" y="7516"/>
                </a:moveTo>
                <a:cubicBezTo>
                  <a:pt x="10809" y="7516"/>
                  <a:pt x="10782" y="7518"/>
                  <a:pt x="10740" y="7590"/>
                </a:cubicBezTo>
                <a:cubicBezTo>
                  <a:pt x="10732" y="7607"/>
                  <a:pt x="10724" y="7623"/>
                  <a:pt x="10716" y="7640"/>
                </a:cubicBezTo>
                <a:cubicBezTo>
                  <a:pt x="10794" y="7700"/>
                  <a:pt x="10849" y="7655"/>
                  <a:pt x="10939" y="7665"/>
                </a:cubicBezTo>
                <a:cubicBezTo>
                  <a:pt x="10955" y="7673"/>
                  <a:pt x="10972" y="7681"/>
                  <a:pt x="10988" y="7689"/>
                </a:cubicBezTo>
                <a:cubicBezTo>
                  <a:pt x="11005" y="7774"/>
                  <a:pt x="10995" y="7903"/>
                  <a:pt x="10864" y="7913"/>
                </a:cubicBezTo>
                <a:cubicBezTo>
                  <a:pt x="10807" y="7894"/>
                  <a:pt x="10782" y="7903"/>
                  <a:pt x="10790" y="7863"/>
                </a:cubicBezTo>
              </a:path>
              <a:path w="9972" h="1340">
                <a:moveTo>
                  <a:pt x="11187" y="7441"/>
                </a:moveTo>
                <a:lnTo>
                  <a:pt x="11187" y="7441"/>
                </a:lnTo>
              </a:path>
              <a:path w="9972" h="1340">
                <a:moveTo>
                  <a:pt x="11361" y="7739"/>
                </a:moveTo>
                <a:cubicBezTo>
                  <a:pt x="11385" y="7839"/>
                  <a:pt x="11445" y="7948"/>
                  <a:pt x="11361" y="8012"/>
                </a:cubicBezTo>
              </a:path>
              <a:path w="9972" h="1340">
                <a:moveTo>
                  <a:pt x="11956" y="7590"/>
                </a:moveTo>
                <a:cubicBezTo>
                  <a:pt x="11956" y="7476"/>
                  <a:pt x="11901" y="7463"/>
                  <a:pt x="11807" y="7417"/>
                </a:cubicBezTo>
                <a:cubicBezTo>
                  <a:pt x="11753" y="7464"/>
                  <a:pt x="11613" y="7641"/>
                  <a:pt x="11733" y="7714"/>
                </a:cubicBezTo>
                <a:cubicBezTo>
                  <a:pt x="11823" y="7769"/>
                  <a:pt x="11859" y="7631"/>
                  <a:pt x="11881" y="7590"/>
                </a:cubicBezTo>
                <a:cubicBezTo>
                  <a:pt x="11889" y="7574"/>
                  <a:pt x="11898" y="7557"/>
                  <a:pt x="11906" y="7541"/>
                </a:cubicBezTo>
                <a:cubicBezTo>
                  <a:pt x="11936" y="7689"/>
                  <a:pt x="12064" y="7852"/>
                  <a:pt x="11981" y="8012"/>
                </a:cubicBezTo>
                <a:cubicBezTo>
                  <a:pt x="11898" y="8173"/>
                  <a:pt x="11776" y="8176"/>
                  <a:pt x="11658" y="8136"/>
                </a:cubicBezTo>
              </a:path>
              <a:path w="9972" h="1340">
                <a:moveTo>
                  <a:pt x="12229" y="7565"/>
                </a:moveTo>
                <a:cubicBezTo>
                  <a:pt x="12259" y="7521"/>
                  <a:pt x="12188" y="7503"/>
                  <a:pt x="12129" y="7466"/>
                </a:cubicBezTo>
                <a:cubicBezTo>
                  <a:pt x="12059" y="7537"/>
                  <a:pt x="11929" y="7746"/>
                  <a:pt x="12105" y="7813"/>
                </a:cubicBezTo>
                <a:cubicBezTo>
                  <a:pt x="12229" y="7860"/>
                  <a:pt x="12223" y="7640"/>
                  <a:pt x="12229" y="7590"/>
                </a:cubicBezTo>
                <a:cubicBezTo>
                  <a:pt x="12154" y="7540"/>
                  <a:pt x="12269" y="7725"/>
                  <a:pt x="12278" y="7739"/>
                </a:cubicBezTo>
                <a:cubicBezTo>
                  <a:pt x="12323" y="7784"/>
                  <a:pt x="12333" y="7801"/>
                  <a:pt x="12378" y="7789"/>
                </a:cubicBezTo>
              </a:path>
              <a:path w="9972" h="1340">
                <a:moveTo>
                  <a:pt x="12328" y="7317"/>
                </a:moveTo>
                <a:cubicBezTo>
                  <a:pt x="12328" y="7230"/>
                  <a:pt x="12409" y="7415"/>
                  <a:pt x="12452" y="7491"/>
                </a:cubicBezTo>
                <a:cubicBezTo>
                  <a:pt x="12482" y="7543"/>
                  <a:pt x="12579" y="7786"/>
                  <a:pt x="12601" y="7764"/>
                </a:cubicBezTo>
              </a:path>
              <a:path w="9972" h="1340">
                <a:moveTo>
                  <a:pt x="12601" y="7764"/>
                </a:moveTo>
                <a:lnTo>
                  <a:pt x="12601" y="7764"/>
                </a:lnTo>
              </a:path>
              <a:path w="9972" h="1340">
                <a:moveTo>
                  <a:pt x="12576" y="7293"/>
                </a:moveTo>
                <a:cubicBezTo>
                  <a:pt x="12647" y="7421"/>
                  <a:pt x="12724" y="7551"/>
                  <a:pt x="12774" y="7689"/>
                </a:cubicBezTo>
                <a:cubicBezTo>
                  <a:pt x="12774" y="7697"/>
                  <a:pt x="12774" y="7706"/>
                  <a:pt x="12774" y="7714"/>
                </a:cubicBezTo>
              </a:path>
              <a:path w="9972" h="1340">
                <a:moveTo>
                  <a:pt x="12973" y="7417"/>
                </a:moveTo>
                <a:cubicBezTo>
                  <a:pt x="12855" y="7467"/>
                  <a:pt x="12884" y="7588"/>
                  <a:pt x="12898" y="7714"/>
                </a:cubicBezTo>
                <a:cubicBezTo>
                  <a:pt x="13004" y="7714"/>
                  <a:pt x="13201" y="7626"/>
                  <a:pt x="13072" y="7466"/>
                </a:cubicBezTo>
                <a:cubicBezTo>
                  <a:pt x="13005" y="7443"/>
                  <a:pt x="12987" y="7438"/>
                  <a:pt x="12948" y="7417"/>
                </a:cubicBezTo>
              </a:path>
              <a:path w="9972" h="1340">
                <a:moveTo>
                  <a:pt x="13196" y="7565"/>
                </a:moveTo>
                <a:cubicBezTo>
                  <a:pt x="13235" y="7604"/>
                  <a:pt x="13252" y="7606"/>
                  <a:pt x="13246" y="7640"/>
                </a:cubicBezTo>
                <a:cubicBezTo>
                  <a:pt x="13214" y="7545"/>
                  <a:pt x="13178" y="7516"/>
                  <a:pt x="13221" y="7417"/>
                </a:cubicBezTo>
                <a:cubicBezTo>
                  <a:pt x="13332" y="7380"/>
                  <a:pt x="13400" y="7481"/>
                  <a:pt x="13444" y="7590"/>
                </a:cubicBezTo>
                <a:cubicBezTo>
                  <a:pt x="13463" y="7664"/>
                  <a:pt x="13471" y="7671"/>
                  <a:pt x="13469" y="7714"/>
                </a:cubicBezTo>
              </a:path>
              <a:path w="9972" h="1340">
                <a:moveTo>
                  <a:pt x="13643" y="7392"/>
                </a:moveTo>
                <a:cubicBezTo>
                  <a:pt x="13643" y="7400"/>
                  <a:pt x="13643" y="7409"/>
                  <a:pt x="13643" y="7417"/>
                </a:cubicBezTo>
              </a:path>
              <a:path w="9972" h="1340">
                <a:moveTo>
                  <a:pt x="13643" y="7417"/>
                </a:moveTo>
                <a:lnTo>
                  <a:pt x="13643" y="7417"/>
                </a:lnTo>
              </a:path>
              <a:path w="9972" h="1340">
                <a:moveTo>
                  <a:pt x="13940" y="7764"/>
                </a:moveTo>
                <a:cubicBezTo>
                  <a:pt x="14007" y="7926"/>
                  <a:pt x="14067" y="8022"/>
                  <a:pt x="13891" y="8086"/>
                </a:cubicBezTo>
              </a:path>
              <a:path w="9972" h="1340">
                <a:moveTo>
                  <a:pt x="14288" y="7466"/>
                </a:moveTo>
                <a:cubicBezTo>
                  <a:pt x="14279" y="7429"/>
                  <a:pt x="14267" y="7421"/>
                  <a:pt x="14238" y="7392"/>
                </a:cubicBezTo>
                <a:cubicBezTo>
                  <a:pt x="14119" y="7439"/>
                  <a:pt x="14096" y="7569"/>
                  <a:pt x="14139" y="7689"/>
                </a:cubicBezTo>
                <a:cubicBezTo>
                  <a:pt x="14155" y="7706"/>
                  <a:pt x="14172" y="7722"/>
                  <a:pt x="14188" y="7739"/>
                </a:cubicBezTo>
                <a:cubicBezTo>
                  <a:pt x="14283" y="7692"/>
                  <a:pt x="14454" y="7526"/>
                  <a:pt x="14312" y="7392"/>
                </a:cubicBezTo>
                <a:cubicBezTo>
                  <a:pt x="14239" y="7392"/>
                  <a:pt x="14216" y="7391"/>
                  <a:pt x="14188" y="7441"/>
                </a:cubicBezTo>
              </a:path>
              <a:path w="9972" h="1340">
                <a:moveTo>
                  <a:pt x="14486" y="7342"/>
                </a:moveTo>
                <a:cubicBezTo>
                  <a:pt x="14468" y="7289"/>
                  <a:pt x="14458" y="7339"/>
                  <a:pt x="14536" y="7293"/>
                </a:cubicBezTo>
                <a:cubicBezTo>
                  <a:pt x="14615" y="7246"/>
                  <a:pt x="14592" y="7243"/>
                  <a:pt x="14660" y="7243"/>
                </a:cubicBezTo>
                <a:cubicBezTo>
                  <a:pt x="14613" y="7337"/>
                  <a:pt x="14542" y="7451"/>
                  <a:pt x="14511" y="7541"/>
                </a:cubicBezTo>
                <a:cubicBezTo>
                  <a:pt x="14511" y="7557"/>
                  <a:pt x="14511" y="7574"/>
                  <a:pt x="14511" y="7590"/>
                </a:cubicBezTo>
                <a:cubicBezTo>
                  <a:pt x="14604" y="7581"/>
                  <a:pt x="14689" y="7565"/>
                  <a:pt x="14784" y="7565"/>
                </a:cubicBezTo>
                <a:cubicBezTo>
                  <a:pt x="14792" y="7565"/>
                  <a:pt x="14800" y="7565"/>
                  <a:pt x="14808" y="7565"/>
                </a:cubicBezTo>
              </a:path>
              <a:path w="9972" h="1340">
                <a:moveTo>
                  <a:pt x="15032" y="7243"/>
                </a:moveTo>
                <a:lnTo>
                  <a:pt x="15032" y="7243"/>
                </a:lnTo>
              </a:path>
              <a:path w="9972" h="1340">
                <a:moveTo>
                  <a:pt x="15230" y="7615"/>
                </a:moveTo>
                <a:cubicBezTo>
                  <a:pt x="15285" y="7797"/>
                  <a:pt x="15315" y="7877"/>
                  <a:pt x="15180" y="8012"/>
                </a:cubicBezTo>
              </a:path>
              <a:path w="9972" h="1340">
                <a:moveTo>
                  <a:pt x="15453" y="7317"/>
                </a:moveTo>
                <a:cubicBezTo>
                  <a:pt x="15499" y="7445"/>
                  <a:pt x="15623" y="7750"/>
                  <a:pt x="15553" y="7888"/>
                </a:cubicBezTo>
                <a:cubicBezTo>
                  <a:pt x="15545" y="7863"/>
                  <a:pt x="15536" y="7838"/>
                  <a:pt x="15528" y="7813"/>
                </a:cubicBezTo>
              </a:path>
              <a:path w="9972" h="1340">
                <a:moveTo>
                  <a:pt x="15280" y="7342"/>
                </a:moveTo>
                <a:cubicBezTo>
                  <a:pt x="15370" y="7300"/>
                  <a:pt x="15722" y="7180"/>
                  <a:pt x="15701" y="7417"/>
                </a:cubicBezTo>
                <a:cubicBezTo>
                  <a:pt x="15688" y="7563"/>
                  <a:pt x="15489" y="7576"/>
                  <a:pt x="15404" y="7541"/>
                </a:cubicBezTo>
              </a:path>
              <a:path w="9972" h="1340">
                <a:moveTo>
                  <a:pt x="15726" y="7268"/>
                </a:moveTo>
                <a:cubicBezTo>
                  <a:pt x="15748" y="7300"/>
                  <a:pt x="15903" y="7544"/>
                  <a:pt x="15949" y="7541"/>
                </a:cubicBezTo>
                <a:cubicBezTo>
                  <a:pt x="15966" y="7524"/>
                  <a:pt x="15982" y="7508"/>
                  <a:pt x="15999" y="7491"/>
                </a:cubicBezTo>
              </a:path>
              <a:path w="9972" h="1340">
                <a:moveTo>
                  <a:pt x="16073" y="7243"/>
                </a:moveTo>
                <a:cubicBezTo>
                  <a:pt x="16079" y="7283"/>
                  <a:pt x="16093" y="7437"/>
                  <a:pt x="16123" y="7466"/>
                </a:cubicBezTo>
                <a:cubicBezTo>
                  <a:pt x="16123" y="7458"/>
                  <a:pt x="16123" y="7449"/>
                  <a:pt x="16123" y="7441"/>
                </a:cubicBezTo>
                <a:cubicBezTo>
                  <a:pt x="16102" y="7400"/>
                  <a:pt x="16055" y="7212"/>
                  <a:pt x="16197" y="7268"/>
                </a:cubicBezTo>
                <a:cubicBezTo>
                  <a:pt x="16312" y="7314"/>
                  <a:pt x="16371" y="7689"/>
                  <a:pt x="16371" y="7565"/>
                </a:cubicBezTo>
                <a:cubicBezTo>
                  <a:pt x="16371" y="7549"/>
                  <a:pt x="16371" y="7532"/>
                  <a:pt x="16371" y="7516"/>
                </a:cubicBezTo>
              </a:path>
              <a:path w="9972" h="1340">
                <a:moveTo>
                  <a:pt x="16421" y="7020"/>
                </a:moveTo>
                <a:cubicBezTo>
                  <a:pt x="16485" y="7172"/>
                  <a:pt x="16571" y="7334"/>
                  <a:pt x="16619" y="7491"/>
                </a:cubicBezTo>
                <a:cubicBezTo>
                  <a:pt x="16619" y="7541"/>
                  <a:pt x="16619" y="7558"/>
                  <a:pt x="16619" y="7491"/>
                </a:cubicBezTo>
              </a:path>
              <a:path w="9972" h="1340">
                <a:moveTo>
                  <a:pt x="16619" y="7491"/>
                </a:moveTo>
                <a:lnTo>
                  <a:pt x="16619" y="7491"/>
                </a:lnTo>
              </a:path>
              <a:path w="9972" h="1340">
                <a:moveTo>
                  <a:pt x="16346" y="7268"/>
                </a:moveTo>
                <a:cubicBezTo>
                  <a:pt x="16495" y="7233"/>
                  <a:pt x="16644" y="7203"/>
                  <a:pt x="16793" y="7169"/>
                </a:cubicBezTo>
              </a:path>
              <a:path w="9972" h="1340">
                <a:moveTo>
                  <a:pt x="16917" y="7119"/>
                </a:moveTo>
                <a:cubicBezTo>
                  <a:pt x="16900" y="7136"/>
                  <a:pt x="16884" y="7152"/>
                  <a:pt x="16867" y="7169"/>
                </a:cubicBezTo>
                <a:cubicBezTo>
                  <a:pt x="16987" y="7243"/>
                  <a:pt x="17067" y="7238"/>
                  <a:pt x="17140" y="7342"/>
                </a:cubicBezTo>
                <a:cubicBezTo>
                  <a:pt x="17041" y="7483"/>
                  <a:pt x="17022" y="7431"/>
                  <a:pt x="16818" y="7417"/>
                </a:cubicBezTo>
              </a:path>
              <a:path w="9972" h="1340">
                <a:moveTo>
                  <a:pt x="16818" y="7417"/>
                </a:moveTo>
                <a:lnTo>
                  <a:pt x="16818" y="7417"/>
                </a:lnTo>
              </a:path>
              <a:path w="9972" h="1340">
                <a:moveTo>
                  <a:pt x="15677" y="7045"/>
                </a:moveTo>
                <a:cubicBezTo>
                  <a:pt x="15693" y="7045"/>
                  <a:pt x="15710" y="7045"/>
                  <a:pt x="15726" y="70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03960" y="2490840"/>
            <a:ext cx="903240" cy="358560"/>
          </a:xfrm>
          <a:custGeom>
            <a:avLst/>
            <a:gdLst/>
            <a:ahLst/>
            <a:rect l="l" t="t" r="r" b="b"/>
            <a:pathLst>
              <a:path w="2506" h="993">
                <a:moveTo>
                  <a:pt x="17512" y="7094"/>
                </a:moveTo>
                <a:cubicBezTo>
                  <a:pt x="17520" y="7094"/>
                  <a:pt x="17529" y="7094"/>
                  <a:pt x="17537" y="7094"/>
                </a:cubicBezTo>
              </a:path>
              <a:path w="2506" h="993">
                <a:moveTo>
                  <a:pt x="17686" y="7516"/>
                </a:moveTo>
                <a:cubicBezTo>
                  <a:pt x="17707" y="7638"/>
                  <a:pt x="17734" y="7669"/>
                  <a:pt x="17661" y="7714"/>
                </a:cubicBezTo>
              </a:path>
              <a:path w="2506" h="993">
                <a:moveTo>
                  <a:pt x="18182" y="7218"/>
                </a:moveTo>
                <a:cubicBezTo>
                  <a:pt x="18061" y="7209"/>
                  <a:pt x="17878" y="7159"/>
                  <a:pt x="17884" y="7367"/>
                </a:cubicBezTo>
                <a:cubicBezTo>
                  <a:pt x="17901" y="7400"/>
                  <a:pt x="17917" y="7433"/>
                  <a:pt x="17934" y="7466"/>
                </a:cubicBezTo>
                <a:cubicBezTo>
                  <a:pt x="18098" y="7480"/>
                  <a:pt x="18122" y="7405"/>
                  <a:pt x="18157" y="7243"/>
                </a:cubicBezTo>
                <a:cubicBezTo>
                  <a:pt x="18157" y="7413"/>
                  <a:pt x="18164" y="7596"/>
                  <a:pt x="18182" y="7764"/>
                </a:cubicBezTo>
                <a:cubicBezTo>
                  <a:pt x="18201" y="7858"/>
                  <a:pt x="18188" y="7877"/>
                  <a:pt x="18231" y="7913"/>
                </a:cubicBezTo>
                <a:cubicBezTo>
                  <a:pt x="18329" y="7815"/>
                  <a:pt x="18274" y="7651"/>
                  <a:pt x="18182" y="7541"/>
                </a:cubicBezTo>
                <a:cubicBezTo>
                  <a:pt x="18165" y="7533"/>
                  <a:pt x="18149" y="7524"/>
                  <a:pt x="18132" y="7516"/>
                </a:cubicBezTo>
              </a:path>
              <a:path w="2506" h="993">
                <a:moveTo>
                  <a:pt x="18256" y="7243"/>
                </a:moveTo>
                <a:cubicBezTo>
                  <a:pt x="18274" y="7394"/>
                  <a:pt x="18280" y="7491"/>
                  <a:pt x="18430" y="7541"/>
                </a:cubicBezTo>
                <a:cubicBezTo>
                  <a:pt x="18478" y="7423"/>
                  <a:pt x="18496" y="7345"/>
                  <a:pt x="18504" y="7218"/>
                </a:cubicBezTo>
                <a:cubicBezTo>
                  <a:pt x="18504" y="7327"/>
                  <a:pt x="18519" y="7353"/>
                  <a:pt x="18604" y="7417"/>
                </a:cubicBezTo>
              </a:path>
              <a:path w="2506" h="993">
                <a:moveTo>
                  <a:pt x="18876" y="7144"/>
                </a:moveTo>
                <a:cubicBezTo>
                  <a:pt x="18727" y="7177"/>
                  <a:pt x="18671" y="7284"/>
                  <a:pt x="18728" y="7441"/>
                </a:cubicBezTo>
                <a:cubicBezTo>
                  <a:pt x="18744" y="7458"/>
                  <a:pt x="18761" y="7474"/>
                  <a:pt x="18777" y="7491"/>
                </a:cubicBezTo>
                <a:cubicBezTo>
                  <a:pt x="18926" y="7416"/>
                  <a:pt x="18926" y="7401"/>
                  <a:pt x="18926" y="7218"/>
                </a:cubicBezTo>
                <a:cubicBezTo>
                  <a:pt x="18962" y="7319"/>
                  <a:pt x="18961" y="7396"/>
                  <a:pt x="19075" y="7342"/>
                </a:cubicBezTo>
                <a:cubicBezTo>
                  <a:pt x="19137" y="7312"/>
                  <a:pt x="19158" y="7329"/>
                  <a:pt x="19174" y="7392"/>
                </a:cubicBezTo>
                <a:cubicBezTo>
                  <a:pt x="19174" y="7317"/>
                  <a:pt x="19153" y="7193"/>
                  <a:pt x="19224" y="7144"/>
                </a:cubicBezTo>
                <a:cubicBezTo>
                  <a:pt x="19249" y="7136"/>
                  <a:pt x="19273" y="7127"/>
                  <a:pt x="19298" y="7119"/>
                </a:cubicBezTo>
              </a:path>
              <a:path w="2506" h="993">
                <a:moveTo>
                  <a:pt x="19372" y="6921"/>
                </a:moveTo>
                <a:cubicBezTo>
                  <a:pt x="19435" y="7083"/>
                  <a:pt x="19459" y="7264"/>
                  <a:pt x="19546" y="7417"/>
                </a:cubicBezTo>
                <a:cubicBezTo>
                  <a:pt x="19546" y="7409"/>
                  <a:pt x="19546" y="7400"/>
                  <a:pt x="19546" y="7392"/>
                </a:cubicBezTo>
              </a:path>
              <a:path w="2506" h="993">
                <a:moveTo>
                  <a:pt x="19273" y="7169"/>
                </a:moveTo>
                <a:cubicBezTo>
                  <a:pt x="19438" y="7133"/>
                  <a:pt x="19601" y="7088"/>
                  <a:pt x="19769" y="7069"/>
                </a:cubicBezTo>
                <a:cubicBezTo>
                  <a:pt x="19714" y="7167"/>
                  <a:pt x="19710" y="7137"/>
                  <a:pt x="19844" y="7193"/>
                </a:cubicBezTo>
                <a:cubicBezTo>
                  <a:pt x="19944" y="7233"/>
                  <a:pt x="19962" y="7238"/>
                  <a:pt x="20017" y="7268"/>
                </a:cubicBezTo>
                <a:cubicBezTo>
                  <a:pt x="19926" y="7412"/>
                  <a:pt x="19925" y="7375"/>
                  <a:pt x="19745" y="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4760" y="2938320"/>
            <a:ext cx="1135080" cy="196920"/>
          </a:xfrm>
          <a:custGeom>
            <a:avLst/>
            <a:gdLst/>
            <a:ahLst/>
            <a:rect l="l" t="t" r="r" b="b"/>
            <a:pathLst>
              <a:path w="3151" h="546">
                <a:moveTo>
                  <a:pt x="1339" y="8359"/>
                </a:moveTo>
                <a:cubicBezTo>
                  <a:pt x="1292" y="8343"/>
                  <a:pt x="1297" y="8269"/>
                  <a:pt x="1240" y="8235"/>
                </a:cubicBezTo>
                <a:cubicBezTo>
                  <a:pt x="1224" y="8235"/>
                  <a:pt x="1207" y="8235"/>
                  <a:pt x="1191" y="8235"/>
                </a:cubicBezTo>
                <a:cubicBezTo>
                  <a:pt x="1112" y="8305"/>
                  <a:pt x="943" y="8537"/>
                  <a:pt x="1067" y="8657"/>
                </a:cubicBezTo>
                <a:cubicBezTo>
                  <a:pt x="1192" y="8777"/>
                  <a:pt x="1323" y="8599"/>
                  <a:pt x="1389" y="8533"/>
                </a:cubicBezTo>
              </a:path>
              <a:path w="3151" h="546">
                <a:moveTo>
                  <a:pt x="1290" y="8161"/>
                </a:moveTo>
                <a:cubicBezTo>
                  <a:pt x="1277" y="8241"/>
                  <a:pt x="1354" y="8447"/>
                  <a:pt x="1389" y="8558"/>
                </a:cubicBezTo>
                <a:cubicBezTo>
                  <a:pt x="1397" y="8574"/>
                  <a:pt x="1406" y="8591"/>
                  <a:pt x="1414" y="8607"/>
                </a:cubicBezTo>
              </a:path>
              <a:path w="3151" h="546">
                <a:moveTo>
                  <a:pt x="1414" y="8607"/>
                </a:moveTo>
                <a:lnTo>
                  <a:pt x="1414" y="8607"/>
                </a:lnTo>
              </a:path>
              <a:path w="3151" h="546">
                <a:moveTo>
                  <a:pt x="1463" y="8458"/>
                </a:moveTo>
                <a:cubicBezTo>
                  <a:pt x="1549" y="8450"/>
                  <a:pt x="1766" y="8473"/>
                  <a:pt x="1836" y="8434"/>
                </a:cubicBezTo>
                <a:cubicBezTo>
                  <a:pt x="1828" y="8426"/>
                  <a:pt x="1819" y="8417"/>
                  <a:pt x="1811" y="8409"/>
                </a:cubicBezTo>
                <a:cubicBezTo>
                  <a:pt x="1703" y="8326"/>
                  <a:pt x="1585" y="8249"/>
                  <a:pt x="1513" y="8434"/>
                </a:cubicBezTo>
                <a:cubicBezTo>
                  <a:pt x="1447" y="8604"/>
                  <a:pt x="1613" y="8774"/>
                  <a:pt x="1786" y="8682"/>
                </a:cubicBezTo>
                <a:cubicBezTo>
                  <a:pt x="1836" y="8641"/>
                  <a:pt x="1885" y="8599"/>
                  <a:pt x="1935" y="8558"/>
                </a:cubicBezTo>
              </a:path>
              <a:path w="3151" h="546">
                <a:moveTo>
                  <a:pt x="2183" y="8508"/>
                </a:moveTo>
                <a:cubicBezTo>
                  <a:pt x="2124" y="8459"/>
                  <a:pt x="2020" y="8351"/>
                  <a:pt x="1960" y="8458"/>
                </a:cubicBezTo>
                <a:cubicBezTo>
                  <a:pt x="1935" y="8557"/>
                  <a:pt x="1927" y="8589"/>
                  <a:pt x="1935" y="8657"/>
                </a:cubicBezTo>
                <a:cubicBezTo>
                  <a:pt x="2082" y="8636"/>
                  <a:pt x="2022" y="8648"/>
                  <a:pt x="2084" y="8533"/>
                </a:cubicBezTo>
                <a:cubicBezTo>
                  <a:pt x="2092" y="8525"/>
                  <a:pt x="2100" y="8516"/>
                  <a:pt x="2108" y="8508"/>
                </a:cubicBezTo>
                <a:cubicBezTo>
                  <a:pt x="2153" y="8598"/>
                  <a:pt x="2209" y="8696"/>
                  <a:pt x="2307" y="8607"/>
                </a:cubicBezTo>
                <a:cubicBezTo>
                  <a:pt x="2358" y="8561"/>
                  <a:pt x="2349" y="8464"/>
                  <a:pt x="2381" y="8558"/>
                </a:cubicBezTo>
                <a:cubicBezTo>
                  <a:pt x="2381" y="8566"/>
                  <a:pt x="2381" y="8574"/>
                  <a:pt x="2381" y="8582"/>
                </a:cubicBezTo>
                <a:cubicBezTo>
                  <a:pt x="2381" y="8483"/>
                  <a:pt x="2339" y="8405"/>
                  <a:pt x="2431" y="8384"/>
                </a:cubicBezTo>
                <a:cubicBezTo>
                  <a:pt x="2464" y="8376"/>
                  <a:pt x="2497" y="8367"/>
                  <a:pt x="2530" y="8359"/>
                </a:cubicBezTo>
              </a:path>
              <a:path w="3151" h="546">
                <a:moveTo>
                  <a:pt x="2828" y="8483"/>
                </a:moveTo>
                <a:cubicBezTo>
                  <a:pt x="2836" y="8475"/>
                  <a:pt x="2845" y="8466"/>
                  <a:pt x="2853" y="8458"/>
                </a:cubicBezTo>
                <a:cubicBezTo>
                  <a:pt x="2842" y="8414"/>
                  <a:pt x="2788" y="8374"/>
                  <a:pt x="2729" y="8409"/>
                </a:cubicBezTo>
                <a:cubicBezTo>
                  <a:pt x="2649" y="8488"/>
                  <a:pt x="2623" y="8520"/>
                  <a:pt x="2629" y="8607"/>
                </a:cubicBezTo>
                <a:cubicBezTo>
                  <a:pt x="2781" y="8673"/>
                  <a:pt x="2801" y="8588"/>
                  <a:pt x="2853" y="8458"/>
                </a:cubicBezTo>
                <a:cubicBezTo>
                  <a:pt x="2883" y="8534"/>
                  <a:pt x="2943" y="8565"/>
                  <a:pt x="3026" y="8508"/>
                </a:cubicBezTo>
                <a:cubicBezTo>
                  <a:pt x="3139" y="8430"/>
                  <a:pt x="3093" y="8419"/>
                  <a:pt x="3150" y="8533"/>
                </a:cubicBezTo>
                <a:cubicBezTo>
                  <a:pt x="3166" y="8453"/>
                  <a:pt x="3104" y="8441"/>
                  <a:pt x="3175" y="8334"/>
                </a:cubicBezTo>
                <a:cubicBezTo>
                  <a:pt x="3316" y="8367"/>
                  <a:pt x="3380" y="8414"/>
                  <a:pt x="3423" y="8558"/>
                </a:cubicBezTo>
              </a:path>
              <a:path w="3151" h="546">
                <a:moveTo>
                  <a:pt x="3671" y="8334"/>
                </a:moveTo>
                <a:cubicBezTo>
                  <a:pt x="3671" y="8342"/>
                  <a:pt x="3671" y="8351"/>
                  <a:pt x="3671" y="8359"/>
                </a:cubicBezTo>
                <a:cubicBezTo>
                  <a:pt x="3651" y="8242"/>
                  <a:pt x="3568" y="8365"/>
                  <a:pt x="3547" y="8434"/>
                </a:cubicBezTo>
                <a:cubicBezTo>
                  <a:pt x="3454" y="8739"/>
                  <a:pt x="3681" y="8690"/>
                  <a:pt x="3845" y="8558"/>
                </a:cubicBezTo>
                <a:cubicBezTo>
                  <a:pt x="3870" y="8533"/>
                  <a:pt x="3894" y="8508"/>
                  <a:pt x="3919" y="8483"/>
                </a:cubicBezTo>
              </a:path>
              <a:path w="3151" h="546">
                <a:moveTo>
                  <a:pt x="3944" y="8458"/>
                </a:moveTo>
                <a:cubicBezTo>
                  <a:pt x="3994" y="8409"/>
                  <a:pt x="4031" y="8369"/>
                  <a:pt x="4068" y="8310"/>
                </a:cubicBezTo>
                <a:cubicBezTo>
                  <a:pt x="3988" y="8294"/>
                  <a:pt x="3923" y="8297"/>
                  <a:pt x="3894" y="8409"/>
                </a:cubicBezTo>
                <a:cubicBezTo>
                  <a:pt x="3860" y="8541"/>
                  <a:pt x="3949" y="8623"/>
                  <a:pt x="4068" y="8582"/>
                </a:cubicBezTo>
                <a:cubicBezTo>
                  <a:pt x="4141" y="8546"/>
                  <a:pt x="4146" y="8529"/>
                  <a:pt x="4192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8960" y="2911320"/>
            <a:ext cx="911160" cy="339840"/>
          </a:xfrm>
          <a:custGeom>
            <a:avLst/>
            <a:gdLst/>
            <a:ahLst/>
            <a:rect l="l" t="t" r="r" b="b"/>
            <a:pathLst>
              <a:path w="2531" h="944">
                <a:moveTo>
                  <a:pt x="4887" y="8533"/>
                </a:moveTo>
                <a:cubicBezTo>
                  <a:pt x="4932" y="8521"/>
                  <a:pt x="4957" y="8508"/>
                  <a:pt x="5011" y="8508"/>
                </a:cubicBezTo>
                <a:cubicBezTo>
                  <a:pt x="5036" y="8508"/>
                  <a:pt x="5060" y="8508"/>
                  <a:pt x="5085" y="8508"/>
                </a:cubicBezTo>
              </a:path>
              <a:path w="2531" h="944">
                <a:moveTo>
                  <a:pt x="5606" y="8086"/>
                </a:moveTo>
                <a:cubicBezTo>
                  <a:pt x="5606" y="8227"/>
                  <a:pt x="5606" y="8367"/>
                  <a:pt x="5606" y="8508"/>
                </a:cubicBezTo>
              </a:path>
              <a:path w="2531" h="944">
                <a:moveTo>
                  <a:pt x="5407" y="8558"/>
                </a:moveTo>
                <a:cubicBezTo>
                  <a:pt x="5526" y="8558"/>
                  <a:pt x="5637" y="8537"/>
                  <a:pt x="5755" y="8533"/>
                </a:cubicBezTo>
                <a:cubicBezTo>
                  <a:pt x="5796" y="8533"/>
                  <a:pt x="5804" y="8533"/>
                  <a:pt x="5829" y="8533"/>
                </a:cubicBezTo>
              </a:path>
              <a:path w="2531" h="944">
                <a:moveTo>
                  <a:pt x="5829" y="8533"/>
                </a:moveTo>
                <a:lnTo>
                  <a:pt x="5829" y="8533"/>
                </a:lnTo>
              </a:path>
              <a:path w="2531" h="944">
                <a:moveTo>
                  <a:pt x="5507" y="8756"/>
                </a:moveTo>
                <a:cubicBezTo>
                  <a:pt x="5577" y="8740"/>
                  <a:pt x="5635" y="8711"/>
                  <a:pt x="5705" y="8682"/>
                </a:cubicBezTo>
                <a:cubicBezTo>
                  <a:pt x="5705" y="8768"/>
                  <a:pt x="5636" y="8842"/>
                  <a:pt x="5581" y="8905"/>
                </a:cubicBezTo>
                <a:cubicBezTo>
                  <a:pt x="5536" y="8957"/>
                  <a:pt x="5467" y="8984"/>
                  <a:pt x="5507" y="9004"/>
                </a:cubicBezTo>
                <a:cubicBezTo>
                  <a:pt x="5599" y="9025"/>
                  <a:pt x="5655" y="8988"/>
                  <a:pt x="5755" y="8979"/>
                </a:cubicBezTo>
                <a:cubicBezTo>
                  <a:pt x="5788" y="8979"/>
                  <a:pt x="5804" y="8979"/>
                  <a:pt x="5829" y="8979"/>
                </a:cubicBezTo>
              </a:path>
              <a:path w="2531" h="944">
                <a:moveTo>
                  <a:pt x="6524" y="8607"/>
                </a:moveTo>
                <a:cubicBezTo>
                  <a:pt x="6410" y="8620"/>
                  <a:pt x="6323" y="8665"/>
                  <a:pt x="6276" y="8781"/>
                </a:cubicBezTo>
                <a:cubicBezTo>
                  <a:pt x="6276" y="8797"/>
                  <a:pt x="6276" y="8814"/>
                  <a:pt x="6276" y="8830"/>
                </a:cubicBezTo>
                <a:cubicBezTo>
                  <a:pt x="6375" y="8880"/>
                  <a:pt x="6534" y="8875"/>
                  <a:pt x="6524" y="8706"/>
                </a:cubicBezTo>
                <a:cubicBezTo>
                  <a:pt x="6522" y="8674"/>
                  <a:pt x="6439" y="8651"/>
                  <a:pt x="6424" y="8632"/>
                </a:cubicBezTo>
              </a:path>
              <a:path w="2531" h="944">
                <a:moveTo>
                  <a:pt x="7020" y="8409"/>
                </a:moveTo>
                <a:cubicBezTo>
                  <a:pt x="7004" y="8361"/>
                  <a:pt x="6918" y="8294"/>
                  <a:pt x="6846" y="8359"/>
                </a:cubicBezTo>
                <a:cubicBezTo>
                  <a:pt x="6730" y="8463"/>
                  <a:pt x="6812" y="8642"/>
                  <a:pt x="6846" y="8756"/>
                </a:cubicBezTo>
                <a:cubicBezTo>
                  <a:pt x="6865" y="8830"/>
                  <a:pt x="6873" y="8837"/>
                  <a:pt x="6871" y="8880"/>
                </a:cubicBezTo>
              </a:path>
              <a:path w="2531" h="944">
                <a:moveTo>
                  <a:pt x="6573" y="8682"/>
                </a:moveTo>
                <a:cubicBezTo>
                  <a:pt x="6730" y="8682"/>
                  <a:pt x="6888" y="8682"/>
                  <a:pt x="7045" y="8682"/>
                </a:cubicBezTo>
              </a:path>
              <a:path w="2531" h="944">
                <a:moveTo>
                  <a:pt x="7045" y="8682"/>
                </a:moveTo>
                <a:lnTo>
                  <a:pt x="7045" y="8682"/>
                </a:lnTo>
              </a:path>
              <a:path w="2531" h="944">
                <a:moveTo>
                  <a:pt x="7342" y="8483"/>
                </a:moveTo>
                <a:cubicBezTo>
                  <a:pt x="7256" y="8426"/>
                  <a:pt x="7221" y="8414"/>
                  <a:pt x="7144" y="8483"/>
                </a:cubicBezTo>
                <a:cubicBezTo>
                  <a:pt x="7022" y="8591"/>
                  <a:pt x="7123" y="8686"/>
                  <a:pt x="7193" y="8781"/>
                </a:cubicBezTo>
                <a:cubicBezTo>
                  <a:pt x="7231" y="8837"/>
                  <a:pt x="7248" y="8840"/>
                  <a:pt x="7243" y="8880"/>
                </a:cubicBezTo>
              </a:path>
              <a:path w="2531" h="944">
                <a:moveTo>
                  <a:pt x="6995" y="8682"/>
                </a:moveTo>
                <a:cubicBezTo>
                  <a:pt x="7118" y="8661"/>
                  <a:pt x="7262" y="8639"/>
                  <a:pt x="7367" y="8657"/>
                </a:cubicBezTo>
                <a:cubicBezTo>
                  <a:pt x="7392" y="8657"/>
                  <a:pt x="7400" y="8657"/>
                  <a:pt x="7417" y="8657"/>
                </a:cubicBezTo>
              </a:path>
              <a:path w="2531" h="944">
                <a:moveTo>
                  <a:pt x="7417" y="8657"/>
                </a:moveTo>
                <a:lnTo>
                  <a:pt x="7417" y="865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8760" y="2973240"/>
            <a:ext cx="1571400" cy="563760"/>
          </a:xfrm>
          <a:custGeom>
            <a:avLst/>
            <a:gdLst/>
            <a:ahLst/>
            <a:rect l="l" t="t" r="r" b="b"/>
            <a:pathLst>
              <a:path w="4366" h="1564">
                <a:moveTo>
                  <a:pt x="1191" y="8285"/>
                </a:moveTo>
                <a:cubicBezTo>
                  <a:pt x="1191" y="8233"/>
                  <a:pt x="1211" y="8311"/>
                  <a:pt x="1215" y="8334"/>
                </a:cubicBezTo>
              </a:path>
              <a:path w="4366" h="1564">
                <a:moveTo>
                  <a:pt x="1463" y="9029"/>
                </a:moveTo>
                <a:cubicBezTo>
                  <a:pt x="1508" y="9014"/>
                  <a:pt x="1475" y="8886"/>
                  <a:pt x="1439" y="8855"/>
                </a:cubicBezTo>
                <a:cubicBezTo>
                  <a:pt x="1383" y="8807"/>
                  <a:pt x="1249" y="8839"/>
                  <a:pt x="1240" y="8930"/>
                </a:cubicBezTo>
                <a:cubicBezTo>
                  <a:pt x="1226" y="9070"/>
                  <a:pt x="1351" y="9203"/>
                  <a:pt x="1389" y="9327"/>
                </a:cubicBezTo>
                <a:cubicBezTo>
                  <a:pt x="1399" y="9358"/>
                  <a:pt x="1389" y="9417"/>
                  <a:pt x="1389" y="9451"/>
                </a:cubicBezTo>
              </a:path>
              <a:path w="4366" h="1564">
                <a:moveTo>
                  <a:pt x="1339" y="9327"/>
                </a:moveTo>
                <a:cubicBezTo>
                  <a:pt x="1392" y="9285"/>
                  <a:pt x="1443" y="9258"/>
                  <a:pt x="1513" y="9252"/>
                </a:cubicBezTo>
                <a:cubicBezTo>
                  <a:pt x="1541" y="9252"/>
                  <a:pt x="1552" y="9254"/>
                  <a:pt x="1563" y="9277"/>
                </a:cubicBezTo>
              </a:path>
              <a:path w="4366" h="1564">
                <a:moveTo>
                  <a:pt x="1563" y="9277"/>
                </a:moveTo>
                <a:lnTo>
                  <a:pt x="1563" y="9277"/>
                </a:lnTo>
              </a:path>
              <a:path w="4366" h="1564">
                <a:moveTo>
                  <a:pt x="1885" y="9401"/>
                </a:moveTo>
                <a:cubicBezTo>
                  <a:pt x="1885" y="9345"/>
                  <a:pt x="1888" y="9290"/>
                  <a:pt x="1836" y="9252"/>
                </a:cubicBezTo>
                <a:cubicBezTo>
                  <a:pt x="1757" y="9195"/>
                  <a:pt x="1622" y="9243"/>
                  <a:pt x="1612" y="9351"/>
                </a:cubicBezTo>
                <a:cubicBezTo>
                  <a:pt x="1600" y="9472"/>
                  <a:pt x="1749" y="9536"/>
                  <a:pt x="1811" y="9426"/>
                </a:cubicBezTo>
                <a:cubicBezTo>
                  <a:pt x="1811" y="9367"/>
                  <a:pt x="1814" y="9341"/>
                  <a:pt x="1836" y="9302"/>
                </a:cubicBezTo>
                <a:cubicBezTo>
                  <a:pt x="1828" y="9302"/>
                  <a:pt x="1819" y="9302"/>
                  <a:pt x="1811" y="9302"/>
                </a:cubicBezTo>
                <a:cubicBezTo>
                  <a:pt x="1840" y="9390"/>
                  <a:pt x="1879" y="9463"/>
                  <a:pt x="1984" y="9451"/>
                </a:cubicBezTo>
                <a:cubicBezTo>
                  <a:pt x="2009" y="9443"/>
                  <a:pt x="2034" y="9434"/>
                  <a:pt x="2059" y="9426"/>
                </a:cubicBezTo>
              </a:path>
              <a:path w="4366" h="1564">
                <a:moveTo>
                  <a:pt x="2084" y="9277"/>
                </a:moveTo>
                <a:cubicBezTo>
                  <a:pt x="2106" y="9369"/>
                  <a:pt x="2112" y="9394"/>
                  <a:pt x="2133" y="9451"/>
                </a:cubicBezTo>
                <a:cubicBezTo>
                  <a:pt x="2133" y="9396"/>
                  <a:pt x="2086" y="9327"/>
                  <a:pt x="2108" y="9277"/>
                </a:cubicBezTo>
                <a:cubicBezTo>
                  <a:pt x="2129" y="9229"/>
                  <a:pt x="2289" y="9232"/>
                  <a:pt x="2332" y="9227"/>
                </a:cubicBezTo>
              </a:path>
              <a:path w="4366" h="1564">
                <a:moveTo>
                  <a:pt x="2381" y="9252"/>
                </a:moveTo>
                <a:cubicBezTo>
                  <a:pt x="2402" y="9319"/>
                  <a:pt x="2421" y="9382"/>
                  <a:pt x="2431" y="9451"/>
                </a:cubicBezTo>
                <a:cubicBezTo>
                  <a:pt x="2431" y="9396"/>
                  <a:pt x="2404" y="9267"/>
                  <a:pt x="2456" y="9227"/>
                </a:cubicBezTo>
                <a:cubicBezTo>
                  <a:pt x="2571" y="9138"/>
                  <a:pt x="2647" y="9282"/>
                  <a:pt x="2704" y="9351"/>
                </a:cubicBezTo>
                <a:cubicBezTo>
                  <a:pt x="2727" y="9374"/>
                  <a:pt x="2735" y="9378"/>
                  <a:pt x="2729" y="9401"/>
                </a:cubicBezTo>
                <a:cubicBezTo>
                  <a:pt x="2725" y="9379"/>
                  <a:pt x="2686" y="9234"/>
                  <a:pt x="2753" y="9227"/>
                </a:cubicBezTo>
                <a:cubicBezTo>
                  <a:pt x="2874" y="9214"/>
                  <a:pt x="2866" y="9323"/>
                  <a:pt x="2927" y="9376"/>
                </a:cubicBezTo>
                <a:cubicBezTo>
                  <a:pt x="2962" y="9376"/>
                  <a:pt x="2979" y="9381"/>
                  <a:pt x="3001" y="9401"/>
                </a:cubicBezTo>
              </a:path>
              <a:path w="4366" h="1564">
                <a:moveTo>
                  <a:pt x="3076" y="9302"/>
                </a:moveTo>
                <a:cubicBezTo>
                  <a:pt x="3091" y="9347"/>
                  <a:pt x="3119" y="9426"/>
                  <a:pt x="3175" y="9475"/>
                </a:cubicBezTo>
                <a:cubicBezTo>
                  <a:pt x="3262" y="9551"/>
                  <a:pt x="3366" y="9470"/>
                  <a:pt x="3423" y="9401"/>
                </a:cubicBezTo>
                <a:cubicBezTo>
                  <a:pt x="3440" y="9376"/>
                  <a:pt x="3456" y="9352"/>
                  <a:pt x="3473" y="9327"/>
                </a:cubicBezTo>
              </a:path>
              <a:path w="4366" h="1564">
                <a:moveTo>
                  <a:pt x="3473" y="9327"/>
                </a:moveTo>
                <a:cubicBezTo>
                  <a:pt x="3442" y="9358"/>
                  <a:pt x="3448" y="9412"/>
                  <a:pt x="3448" y="9475"/>
                </a:cubicBezTo>
                <a:cubicBezTo>
                  <a:pt x="3448" y="9380"/>
                  <a:pt x="3437" y="9326"/>
                  <a:pt x="3547" y="9302"/>
                </a:cubicBezTo>
                <a:cubicBezTo>
                  <a:pt x="3632" y="9283"/>
                  <a:pt x="3644" y="9415"/>
                  <a:pt x="3671" y="9475"/>
                </a:cubicBezTo>
              </a:path>
              <a:path w="4366" h="1564">
                <a:moveTo>
                  <a:pt x="3894" y="9252"/>
                </a:moveTo>
                <a:cubicBezTo>
                  <a:pt x="3841" y="9198"/>
                  <a:pt x="3749" y="9347"/>
                  <a:pt x="3746" y="9426"/>
                </a:cubicBezTo>
                <a:cubicBezTo>
                  <a:pt x="3754" y="9442"/>
                  <a:pt x="3762" y="9459"/>
                  <a:pt x="3770" y="9475"/>
                </a:cubicBezTo>
                <a:cubicBezTo>
                  <a:pt x="3836" y="9460"/>
                  <a:pt x="3951" y="9352"/>
                  <a:pt x="3969" y="9376"/>
                </a:cubicBezTo>
                <a:cubicBezTo>
                  <a:pt x="4047" y="9480"/>
                  <a:pt x="4088" y="9670"/>
                  <a:pt x="3994" y="9773"/>
                </a:cubicBezTo>
                <a:cubicBezTo>
                  <a:pt x="3839" y="9943"/>
                  <a:pt x="3741" y="9741"/>
                  <a:pt x="3696" y="9624"/>
                </a:cubicBezTo>
              </a:path>
              <a:path w="4366" h="1564">
                <a:moveTo>
                  <a:pt x="2977" y="9054"/>
                </a:moveTo>
                <a:lnTo>
                  <a:pt x="2977" y="9054"/>
                </a:lnTo>
              </a:path>
              <a:path w="4366" h="1564">
                <a:moveTo>
                  <a:pt x="4341" y="9351"/>
                </a:moveTo>
                <a:cubicBezTo>
                  <a:pt x="4375" y="9318"/>
                  <a:pt x="4446" y="9327"/>
                  <a:pt x="4514" y="9327"/>
                </a:cubicBezTo>
              </a:path>
              <a:path w="4366" h="1564">
                <a:moveTo>
                  <a:pt x="4887" y="9203"/>
                </a:moveTo>
                <a:cubicBezTo>
                  <a:pt x="4831" y="9203"/>
                  <a:pt x="4961" y="9161"/>
                  <a:pt x="4986" y="9153"/>
                </a:cubicBezTo>
                <a:cubicBezTo>
                  <a:pt x="4994" y="9153"/>
                  <a:pt x="5003" y="9153"/>
                  <a:pt x="5011" y="9153"/>
                </a:cubicBezTo>
                <a:cubicBezTo>
                  <a:pt x="5034" y="9259"/>
                  <a:pt x="5019" y="9300"/>
                  <a:pt x="4911" y="9327"/>
                </a:cubicBezTo>
                <a:cubicBezTo>
                  <a:pt x="4953" y="9337"/>
                  <a:pt x="5104" y="9404"/>
                  <a:pt x="5011" y="9475"/>
                </a:cubicBezTo>
                <a:cubicBezTo>
                  <a:pt x="4948" y="9523"/>
                  <a:pt x="4843" y="9509"/>
                  <a:pt x="4787" y="9475"/>
                </a:cubicBezTo>
              </a:path>
              <a:path w="4366" h="1564">
                <a:moveTo>
                  <a:pt x="5383" y="9128"/>
                </a:moveTo>
                <a:cubicBezTo>
                  <a:pt x="5383" y="9169"/>
                  <a:pt x="5383" y="9211"/>
                  <a:pt x="5383" y="9252"/>
                </a:cubicBezTo>
              </a:path>
              <a:path w="4366" h="1564">
                <a:moveTo>
                  <a:pt x="5283" y="9327"/>
                </a:moveTo>
                <a:cubicBezTo>
                  <a:pt x="5345" y="9339"/>
                  <a:pt x="5391" y="9351"/>
                  <a:pt x="5457" y="9351"/>
                </a:cubicBezTo>
                <a:cubicBezTo>
                  <a:pt x="5482" y="9351"/>
                  <a:pt x="5490" y="9351"/>
                  <a:pt x="5507" y="9351"/>
                </a:cubicBezTo>
              </a:path>
              <a:path w="4366" h="1564">
                <a:moveTo>
                  <a:pt x="5507" y="9351"/>
                </a:moveTo>
                <a:lnTo>
                  <a:pt x="5507" y="9351"/>
                </a:lnTo>
              </a:path>
              <a:path w="4366" h="1564">
                <a:moveTo>
                  <a:pt x="5358" y="9451"/>
                </a:moveTo>
                <a:cubicBezTo>
                  <a:pt x="5407" y="9451"/>
                  <a:pt x="5435" y="9443"/>
                  <a:pt x="5457" y="9475"/>
                </a:cubicBezTo>
                <a:cubicBezTo>
                  <a:pt x="5407" y="9517"/>
                  <a:pt x="5355" y="9553"/>
                  <a:pt x="5308" y="9599"/>
                </a:cubicBezTo>
                <a:cubicBezTo>
                  <a:pt x="5396" y="9599"/>
                  <a:pt x="5475" y="9609"/>
                  <a:pt x="5556" y="9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78000" y="3251160"/>
            <a:ext cx="546120" cy="177840"/>
          </a:xfrm>
          <a:custGeom>
            <a:avLst/>
            <a:gdLst/>
            <a:ahLst/>
            <a:rect l="l" t="t" r="r" b="b"/>
            <a:pathLst>
              <a:path w="1514" h="497">
                <a:moveTo>
                  <a:pt x="6350" y="9178"/>
                </a:moveTo>
                <a:cubicBezTo>
                  <a:pt x="6340" y="9074"/>
                  <a:pt x="6338" y="9073"/>
                  <a:pt x="6226" y="9054"/>
                </a:cubicBezTo>
                <a:cubicBezTo>
                  <a:pt x="6210" y="9219"/>
                  <a:pt x="6234" y="9319"/>
                  <a:pt x="6276" y="9475"/>
                </a:cubicBezTo>
                <a:cubicBezTo>
                  <a:pt x="6276" y="9483"/>
                  <a:pt x="6276" y="9492"/>
                  <a:pt x="6276" y="9500"/>
                </a:cubicBezTo>
              </a:path>
              <a:path w="1514" h="497">
                <a:moveTo>
                  <a:pt x="6052" y="9376"/>
                </a:moveTo>
                <a:cubicBezTo>
                  <a:pt x="6203" y="9376"/>
                  <a:pt x="6451" y="9324"/>
                  <a:pt x="6573" y="9426"/>
                </a:cubicBezTo>
                <a:cubicBezTo>
                  <a:pt x="6635" y="9478"/>
                  <a:pt x="6552" y="9570"/>
                  <a:pt x="6623" y="9475"/>
                </a:cubicBezTo>
              </a:path>
              <a:path w="1514" h="497">
                <a:moveTo>
                  <a:pt x="6548" y="9252"/>
                </a:moveTo>
                <a:cubicBezTo>
                  <a:pt x="6573" y="9252"/>
                  <a:pt x="6598" y="9252"/>
                  <a:pt x="6623" y="9252"/>
                </a:cubicBezTo>
              </a:path>
              <a:path w="1514" h="497">
                <a:moveTo>
                  <a:pt x="6623" y="9252"/>
                </a:moveTo>
                <a:lnTo>
                  <a:pt x="6623" y="9252"/>
                </a:lnTo>
              </a:path>
              <a:path w="1514" h="497">
                <a:moveTo>
                  <a:pt x="6772" y="9401"/>
                </a:moveTo>
                <a:cubicBezTo>
                  <a:pt x="6794" y="9394"/>
                  <a:pt x="6954" y="9348"/>
                  <a:pt x="6896" y="9302"/>
                </a:cubicBezTo>
                <a:cubicBezTo>
                  <a:pt x="6888" y="9302"/>
                  <a:pt x="6879" y="9302"/>
                  <a:pt x="6871" y="9302"/>
                </a:cubicBezTo>
                <a:cubicBezTo>
                  <a:pt x="6743" y="9325"/>
                  <a:pt x="6768" y="9320"/>
                  <a:pt x="6722" y="9451"/>
                </a:cubicBezTo>
                <a:cubicBezTo>
                  <a:pt x="6902" y="9498"/>
                  <a:pt x="6943" y="9468"/>
                  <a:pt x="7045" y="9327"/>
                </a:cubicBezTo>
              </a:path>
              <a:path w="1514" h="497">
                <a:moveTo>
                  <a:pt x="7020" y="9054"/>
                </a:moveTo>
                <a:cubicBezTo>
                  <a:pt x="7051" y="9179"/>
                  <a:pt x="7069" y="9270"/>
                  <a:pt x="7069" y="9401"/>
                </a:cubicBezTo>
                <a:cubicBezTo>
                  <a:pt x="7069" y="9409"/>
                  <a:pt x="7069" y="9418"/>
                  <a:pt x="7069" y="9426"/>
                </a:cubicBezTo>
              </a:path>
              <a:path w="1514" h="497">
                <a:moveTo>
                  <a:pt x="7069" y="9426"/>
                </a:moveTo>
                <a:lnTo>
                  <a:pt x="7069" y="9426"/>
                </a:lnTo>
              </a:path>
              <a:path w="1514" h="497">
                <a:moveTo>
                  <a:pt x="7441" y="9302"/>
                </a:moveTo>
                <a:cubicBezTo>
                  <a:pt x="7433" y="9243"/>
                  <a:pt x="7447" y="9241"/>
                  <a:pt x="7392" y="9227"/>
                </a:cubicBezTo>
                <a:cubicBezTo>
                  <a:pt x="7337" y="9241"/>
                  <a:pt x="7104" y="9357"/>
                  <a:pt x="7243" y="9451"/>
                </a:cubicBezTo>
                <a:cubicBezTo>
                  <a:pt x="7458" y="9597"/>
                  <a:pt x="7503" y="9305"/>
                  <a:pt x="7516" y="9178"/>
                </a:cubicBezTo>
              </a:path>
              <a:path w="1514" h="497">
                <a:moveTo>
                  <a:pt x="7441" y="9029"/>
                </a:moveTo>
                <a:cubicBezTo>
                  <a:pt x="7471" y="9162"/>
                  <a:pt x="7488" y="9374"/>
                  <a:pt x="7565" y="9426"/>
                </a:cubicBezTo>
              </a:path>
              <a:path w="1514" h="497">
                <a:moveTo>
                  <a:pt x="7565" y="9426"/>
                </a:moveTo>
                <a:lnTo>
                  <a:pt x="7565" y="942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01960" y="3160800"/>
            <a:ext cx="812880" cy="322200"/>
          </a:xfrm>
          <a:custGeom>
            <a:avLst/>
            <a:gdLst/>
            <a:ahLst/>
            <a:rect l="l" t="t" r="r" b="b"/>
            <a:pathLst>
              <a:path w="2258" h="894">
                <a:moveTo>
                  <a:pt x="8062" y="9178"/>
                </a:moveTo>
                <a:cubicBezTo>
                  <a:pt x="8082" y="9262"/>
                  <a:pt x="8084" y="9281"/>
                  <a:pt x="8111" y="9327"/>
                </a:cubicBezTo>
                <a:cubicBezTo>
                  <a:pt x="8101" y="9258"/>
                  <a:pt x="8049" y="9171"/>
                  <a:pt x="8111" y="9103"/>
                </a:cubicBezTo>
                <a:cubicBezTo>
                  <a:pt x="8196" y="9048"/>
                  <a:pt x="8232" y="9031"/>
                  <a:pt x="8310" y="9054"/>
                </a:cubicBezTo>
              </a:path>
              <a:path w="2258" h="894">
                <a:moveTo>
                  <a:pt x="8508" y="9153"/>
                </a:moveTo>
                <a:cubicBezTo>
                  <a:pt x="8553" y="9153"/>
                  <a:pt x="8566" y="9157"/>
                  <a:pt x="8582" y="9128"/>
                </a:cubicBezTo>
                <a:cubicBezTo>
                  <a:pt x="8616" y="9027"/>
                  <a:pt x="8476" y="9064"/>
                  <a:pt x="8434" y="9128"/>
                </a:cubicBezTo>
                <a:cubicBezTo>
                  <a:pt x="8263" y="9389"/>
                  <a:pt x="8703" y="9221"/>
                  <a:pt x="8756" y="9203"/>
                </a:cubicBezTo>
              </a:path>
              <a:path w="2258" h="894">
                <a:moveTo>
                  <a:pt x="8880" y="9054"/>
                </a:moveTo>
                <a:cubicBezTo>
                  <a:pt x="8750" y="9084"/>
                  <a:pt x="8687" y="9115"/>
                  <a:pt x="8657" y="9252"/>
                </a:cubicBezTo>
                <a:cubicBezTo>
                  <a:pt x="8734" y="9228"/>
                  <a:pt x="8776" y="9140"/>
                  <a:pt x="8855" y="9153"/>
                </a:cubicBezTo>
                <a:cubicBezTo>
                  <a:pt x="8863" y="9161"/>
                  <a:pt x="8872" y="9170"/>
                  <a:pt x="8880" y="9178"/>
                </a:cubicBezTo>
                <a:cubicBezTo>
                  <a:pt x="8872" y="9318"/>
                  <a:pt x="8823" y="9485"/>
                  <a:pt x="8855" y="9624"/>
                </a:cubicBezTo>
                <a:cubicBezTo>
                  <a:pt x="8863" y="9641"/>
                  <a:pt x="8872" y="9657"/>
                  <a:pt x="8880" y="9674"/>
                </a:cubicBezTo>
                <a:cubicBezTo>
                  <a:pt x="8933" y="9585"/>
                  <a:pt x="8977" y="9410"/>
                  <a:pt x="8905" y="9302"/>
                </a:cubicBezTo>
                <a:cubicBezTo>
                  <a:pt x="8880" y="9285"/>
                  <a:pt x="8855" y="9269"/>
                  <a:pt x="8830" y="9252"/>
                </a:cubicBezTo>
              </a:path>
              <a:path w="2258" h="894">
                <a:moveTo>
                  <a:pt x="9029" y="9029"/>
                </a:moveTo>
                <a:cubicBezTo>
                  <a:pt x="9029" y="9087"/>
                  <a:pt x="9029" y="9145"/>
                  <a:pt x="9029" y="9203"/>
                </a:cubicBezTo>
                <a:cubicBezTo>
                  <a:pt x="9183" y="9245"/>
                  <a:pt x="9172" y="9153"/>
                  <a:pt x="9203" y="9029"/>
                </a:cubicBezTo>
                <a:cubicBezTo>
                  <a:pt x="9222" y="8954"/>
                  <a:pt x="9218" y="9177"/>
                  <a:pt x="9277" y="9227"/>
                </a:cubicBezTo>
              </a:path>
              <a:path w="2258" h="894">
                <a:moveTo>
                  <a:pt x="9451" y="9054"/>
                </a:moveTo>
                <a:cubicBezTo>
                  <a:pt x="9405" y="9100"/>
                  <a:pt x="9429" y="9144"/>
                  <a:pt x="9475" y="9203"/>
                </a:cubicBezTo>
                <a:cubicBezTo>
                  <a:pt x="9535" y="9173"/>
                  <a:pt x="9561" y="9158"/>
                  <a:pt x="9599" y="9128"/>
                </a:cubicBezTo>
              </a:path>
              <a:path w="2258" h="894">
                <a:moveTo>
                  <a:pt x="9649" y="9029"/>
                </a:moveTo>
                <a:cubicBezTo>
                  <a:pt x="9649" y="9121"/>
                  <a:pt x="9647" y="9148"/>
                  <a:pt x="9674" y="9203"/>
                </a:cubicBezTo>
                <a:cubicBezTo>
                  <a:pt x="9674" y="9261"/>
                  <a:pt x="9683" y="9135"/>
                  <a:pt x="9699" y="9079"/>
                </a:cubicBezTo>
                <a:cubicBezTo>
                  <a:pt x="9728" y="8976"/>
                  <a:pt x="9736" y="9005"/>
                  <a:pt x="9847" y="8979"/>
                </a:cubicBezTo>
              </a:path>
              <a:path w="2258" h="894">
                <a:moveTo>
                  <a:pt x="9872" y="9079"/>
                </a:moveTo>
                <a:cubicBezTo>
                  <a:pt x="9926" y="9052"/>
                  <a:pt x="9946" y="9040"/>
                  <a:pt x="9971" y="9004"/>
                </a:cubicBezTo>
                <a:cubicBezTo>
                  <a:pt x="9906" y="9012"/>
                  <a:pt x="9762" y="9062"/>
                  <a:pt x="9847" y="9153"/>
                </a:cubicBezTo>
                <a:cubicBezTo>
                  <a:pt x="9872" y="9170"/>
                  <a:pt x="9897" y="9186"/>
                  <a:pt x="9922" y="9203"/>
                </a:cubicBezTo>
              </a:path>
              <a:path w="2258" h="894">
                <a:moveTo>
                  <a:pt x="9922" y="9203"/>
                </a:moveTo>
                <a:lnTo>
                  <a:pt x="9922" y="9203"/>
                </a:lnTo>
              </a:path>
              <a:path w="2258" h="894">
                <a:moveTo>
                  <a:pt x="10220" y="8979"/>
                </a:moveTo>
                <a:cubicBezTo>
                  <a:pt x="10195" y="8987"/>
                  <a:pt x="10170" y="8996"/>
                  <a:pt x="10145" y="9004"/>
                </a:cubicBezTo>
                <a:cubicBezTo>
                  <a:pt x="10195" y="9080"/>
                  <a:pt x="10253" y="9137"/>
                  <a:pt x="10319" y="9203"/>
                </a:cubicBezTo>
                <a:cubicBezTo>
                  <a:pt x="10152" y="9306"/>
                  <a:pt x="10206" y="9259"/>
                  <a:pt x="10021" y="9203"/>
                </a:cubicBezTo>
              </a:path>
              <a:path w="2258" h="894">
                <a:moveTo>
                  <a:pt x="9426" y="8781"/>
                </a:moveTo>
                <a:cubicBezTo>
                  <a:pt x="9442" y="8789"/>
                  <a:pt x="9459" y="8798"/>
                  <a:pt x="9475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29040" y="3170160"/>
            <a:ext cx="401760" cy="160560"/>
          </a:xfrm>
          <a:custGeom>
            <a:avLst/>
            <a:gdLst/>
            <a:ahLst/>
            <a:rect l="l" t="t" r="r" b="b"/>
            <a:pathLst>
              <a:path w="1117" h="447">
                <a:moveTo>
                  <a:pt x="10964" y="8806"/>
                </a:moveTo>
                <a:cubicBezTo>
                  <a:pt x="10956" y="8945"/>
                  <a:pt x="10969" y="9127"/>
                  <a:pt x="10914" y="9252"/>
                </a:cubicBezTo>
                <a:cubicBezTo>
                  <a:pt x="10914" y="9244"/>
                  <a:pt x="10914" y="9235"/>
                  <a:pt x="10914" y="9227"/>
                </a:cubicBezTo>
                <a:cubicBezTo>
                  <a:pt x="10926" y="9100"/>
                  <a:pt x="10950" y="9062"/>
                  <a:pt x="11013" y="8954"/>
                </a:cubicBezTo>
                <a:cubicBezTo>
                  <a:pt x="11188" y="9001"/>
                  <a:pt x="11187" y="9036"/>
                  <a:pt x="11187" y="9227"/>
                </a:cubicBezTo>
              </a:path>
              <a:path w="1117" h="447">
                <a:moveTo>
                  <a:pt x="11311" y="9054"/>
                </a:moveTo>
                <a:cubicBezTo>
                  <a:pt x="11290" y="9136"/>
                  <a:pt x="11282" y="9152"/>
                  <a:pt x="11286" y="9203"/>
                </a:cubicBezTo>
                <a:cubicBezTo>
                  <a:pt x="11371" y="9189"/>
                  <a:pt x="11560" y="9088"/>
                  <a:pt x="11385" y="9004"/>
                </a:cubicBezTo>
                <a:cubicBezTo>
                  <a:pt x="11360" y="9004"/>
                  <a:pt x="11336" y="9004"/>
                  <a:pt x="11311" y="9004"/>
                </a:cubicBezTo>
              </a:path>
              <a:path w="1117" h="447">
                <a:moveTo>
                  <a:pt x="11311" y="9004"/>
                </a:moveTo>
                <a:lnTo>
                  <a:pt x="11311" y="9004"/>
                </a:lnTo>
              </a:path>
              <a:path w="1117" h="447">
                <a:moveTo>
                  <a:pt x="11658" y="9004"/>
                </a:moveTo>
                <a:cubicBezTo>
                  <a:pt x="11660" y="9029"/>
                  <a:pt x="11674" y="9262"/>
                  <a:pt x="11757" y="9203"/>
                </a:cubicBezTo>
                <a:cubicBezTo>
                  <a:pt x="11809" y="9166"/>
                  <a:pt x="11823" y="9085"/>
                  <a:pt x="11832" y="9029"/>
                </a:cubicBezTo>
                <a:cubicBezTo>
                  <a:pt x="11832" y="9162"/>
                  <a:pt x="11821" y="9111"/>
                  <a:pt x="11906" y="9178"/>
                </a:cubicBezTo>
                <a:cubicBezTo>
                  <a:pt x="12049" y="9100"/>
                  <a:pt x="12078" y="9053"/>
                  <a:pt x="11931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64000" y="3214800"/>
            <a:ext cx="546120" cy="223560"/>
          </a:xfrm>
          <a:custGeom>
            <a:avLst/>
            <a:gdLst/>
            <a:ahLst/>
            <a:rect l="l" t="t" r="r" b="b"/>
            <a:pathLst>
              <a:path w="1514" h="621">
                <a:moveTo>
                  <a:pt x="12402" y="8930"/>
                </a:moveTo>
                <a:cubicBezTo>
                  <a:pt x="12402" y="9037"/>
                  <a:pt x="12402" y="9079"/>
                  <a:pt x="12402" y="9153"/>
                </a:cubicBezTo>
                <a:cubicBezTo>
                  <a:pt x="12402" y="9115"/>
                  <a:pt x="12399" y="8943"/>
                  <a:pt x="12452" y="8954"/>
                </a:cubicBezTo>
                <a:cubicBezTo>
                  <a:pt x="12518" y="8968"/>
                  <a:pt x="12569" y="9100"/>
                  <a:pt x="12601" y="9153"/>
                </a:cubicBezTo>
                <a:cubicBezTo>
                  <a:pt x="12626" y="9063"/>
                  <a:pt x="12687" y="8868"/>
                  <a:pt x="12774" y="9029"/>
                </a:cubicBezTo>
                <a:cubicBezTo>
                  <a:pt x="12814" y="9104"/>
                  <a:pt x="12777" y="9146"/>
                  <a:pt x="12824" y="9178"/>
                </a:cubicBezTo>
              </a:path>
              <a:path w="1514" h="621">
                <a:moveTo>
                  <a:pt x="13047" y="8954"/>
                </a:moveTo>
                <a:cubicBezTo>
                  <a:pt x="12945" y="9006"/>
                  <a:pt x="12925" y="9026"/>
                  <a:pt x="12874" y="9128"/>
                </a:cubicBezTo>
                <a:cubicBezTo>
                  <a:pt x="12989" y="9178"/>
                  <a:pt x="13010" y="9141"/>
                  <a:pt x="13097" y="9054"/>
                </a:cubicBezTo>
                <a:cubicBezTo>
                  <a:pt x="13198" y="9155"/>
                  <a:pt x="13198" y="9122"/>
                  <a:pt x="13320" y="9079"/>
                </a:cubicBezTo>
                <a:cubicBezTo>
                  <a:pt x="13351" y="9068"/>
                  <a:pt x="13360" y="9130"/>
                  <a:pt x="13370" y="9153"/>
                </a:cubicBezTo>
                <a:cubicBezTo>
                  <a:pt x="13340" y="9109"/>
                  <a:pt x="13391" y="9022"/>
                  <a:pt x="13444" y="8979"/>
                </a:cubicBezTo>
                <a:cubicBezTo>
                  <a:pt x="13547" y="8979"/>
                  <a:pt x="13550" y="9030"/>
                  <a:pt x="13568" y="9153"/>
                </a:cubicBezTo>
              </a:path>
              <a:path w="1514" h="621">
                <a:moveTo>
                  <a:pt x="13742" y="9004"/>
                </a:moveTo>
                <a:cubicBezTo>
                  <a:pt x="13720" y="9084"/>
                  <a:pt x="13704" y="9089"/>
                  <a:pt x="13742" y="9153"/>
                </a:cubicBezTo>
                <a:cubicBezTo>
                  <a:pt x="13828" y="9110"/>
                  <a:pt x="13819" y="9004"/>
                  <a:pt x="13915" y="9004"/>
                </a:cubicBezTo>
                <a:cubicBezTo>
                  <a:pt x="13893" y="9181"/>
                  <a:pt x="13944" y="9461"/>
                  <a:pt x="13742" y="9550"/>
                </a:cubicBezTo>
                <a:cubicBezTo>
                  <a:pt x="13623" y="9550"/>
                  <a:pt x="13577" y="9534"/>
                  <a:pt x="13543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33960" y="3143160"/>
            <a:ext cx="608040" cy="169920"/>
          </a:xfrm>
          <a:custGeom>
            <a:avLst/>
            <a:gdLst/>
            <a:ahLst/>
            <a:rect l="l" t="t" r="r" b="b"/>
            <a:pathLst>
              <a:path w="1687" h="473">
                <a:moveTo>
                  <a:pt x="14511" y="8954"/>
                </a:moveTo>
                <a:cubicBezTo>
                  <a:pt x="14436" y="8930"/>
                  <a:pt x="14412" y="8922"/>
                  <a:pt x="14362" y="8954"/>
                </a:cubicBezTo>
                <a:cubicBezTo>
                  <a:pt x="14394" y="9051"/>
                  <a:pt x="14478" y="9091"/>
                  <a:pt x="14511" y="9178"/>
                </a:cubicBezTo>
                <a:cubicBezTo>
                  <a:pt x="14372" y="9198"/>
                  <a:pt x="14362" y="9195"/>
                  <a:pt x="14263" y="9103"/>
                </a:cubicBezTo>
              </a:path>
              <a:path w="1687" h="473">
                <a:moveTo>
                  <a:pt x="14709" y="9029"/>
                </a:moveTo>
                <a:cubicBezTo>
                  <a:pt x="14754" y="9004"/>
                  <a:pt x="14797" y="8990"/>
                  <a:pt x="14808" y="8954"/>
                </a:cubicBezTo>
                <a:cubicBezTo>
                  <a:pt x="14742" y="8954"/>
                  <a:pt x="14602" y="8962"/>
                  <a:pt x="14660" y="9079"/>
                </a:cubicBezTo>
                <a:cubicBezTo>
                  <a:pt x="14739" y="9158"/>
                  <a:pt x="14770" y="9182"/>
                  <a:pt x="14858" y="9153"/>
                </a:cubicBezTo>
              </a:path>
              <a:path w="1687" h="473">
                <a:moveTo>
                  <a:pt x="15007" y="8979"/>
                </a:moveTo>
                <a:cubicBezTo>
                  <a:pt x="15085" y="8953"/>
                  <a:pt x="15112" y="8942"/>
                  <a:pt x="15156" y="8905"/>
                </a:cubicBezTo>
                <a:cubicBezTo>
                  <a:pt x="15113" y="8862"/>
                  <a:pt x="15013" y="8974"/>
                  <a:pt x="15007" y="9054"/>
                </a:cubicBezTo>
                <a:cubicBezTo>
                  <a:pt x="14997" y="9179"/>
                  <a:pt x="15254" y="9062"/>
                  <a:pt x="15379" y="9054"/>
                </a:cubicBezTo>
              </a:path>
              <a:path w="1687" h="473">
                <a:moveTo>
                  <a:pt x="15553" y="8930"/>
                </a:moveTo>
                <a:cubicBezTo>
                  <a:pt x="15404" y="8913"/>
                  <a:pt x="15399" y="8928"/>
                  <a:pt x="15304" y="9054"/>
                </a:cubicBezTo>
                <a:cubicBezTo>
                  <a:pt x="15377" y="9151"/>
                  <a:pt x="15509" y="9063"/>
                  <a:pt x="15553" y="8954"/>
                </a:cubicBezTo>
                <a:cubicBezTo>
                  <a:pt x="15573" y="8831"/>
                  <a:pt x="15581" y="8806"/>
                  <a:pt x="15577" y="8731"/>
                </a:cubicBezTo>
                <a:cubicBezTo>
                  <a:pt x="15562" y="8825"/>
                  <a:pt x="15480" y="8967"/>
                  <a:pt x="15553" y="9054"/>
                </a:cubicBezTo>
                <a:cubicBezTo>
                  <a:pt x="15578" y="9062"/>
                  <a:pt x="15602" y="9071"/>
                  <a:pt x="15627" y="9079"/>
                </a:cubicBezTo>
              </a:path>
              <a:path w="1687" h="473">
                <a:moveTo>
                  <a:pt x="15900" y="8806"/>
                </a:moveTo>
                <a:cubicBezTo>
                  <a:pt x="15836" y="8820"/>
                  <a:pt x="15810" y="8823"/>
                  <a:pt x="15776" y="8880"/>
                </a:cubicBezTo>
                <a:cubicBezTo>
                  <a:pt x="15805" y="8901"/>
                  <a:pt x="15998" y="8985"/>
                  <a:pt x="15949" y="9054"/>
                </a:cubicBezTo>
                <a:cubicBezTo>
                  <a:pt x="15909" y="9109"/>
                  <a:pt x="15806" y="9079"/>
                  <a:pt x="15751" y="9079"/>
                </a:cubicBezTo>
              </a:path>
              <a:path w="1687" h="473">
                <a:moveTo>
                  <a:pt x="15751" y="9079"/>
                </a:moveTo>
                <a:lnTo>
                  <a:pt x="15751" y="907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120" y="3463920"/>
            <a:ext cx="696960" cy="277920"/>
          </a:xfrm>
          <a:custGeom>
            <a:avLst/>
            <a:gdLst/>
            <a:ahLst/>
            <a:rect l="l" t="t" r="r" b="b"/>
            <a:pathLst>
              <a:path w="1936" h="770">
                <a:moveTo>
                  <a:pt x="1389" y="9971"/>
                </a:moveTo>
                <a:cubicBezTo>
                  <a:pt x="1399" y="9914"/>
                  <a:pt x="1404" y="9892"/>
                  <a:pt x="1389" y="9847"/>
                </a:cubicBezTo>
                <a:cubicBezTo>
                  <a:pt x="1264" y="9796"/>
                  <a:pt x="1170" y="9805"/>
                  <a:pt x="1141" y="9971"/>
                </a:cubicBezTo>
                <a:cubicBezTo>
                  <a:pt x="1141" y="10061"/>
                  <a:pt x="1134" y="10087"/>
                  <a:pt x="1191" y="10120"/>
                </a:cubicBezTo>
                <a:cubicBezTo>
                  <a:pt x="1360" y="10092"/>
                  <a:pt x="1369" y="10035"/>
                  <a:pt x="1414" y="9872"/>
                </a:cubicBezTo>
              </a:path>
              <a:path w="1936" h="770">
                <a:moveTo>
                  <a:pt x="1339" y="9624"/>
                </a:moveTo>
                <a:cubicBezTo>
                  <a:pt x="1366" y="9746"/>
                  <a:pt x="1435" y="9864"/>
                  <a:pt x="1463" y="9996"/>
                </a:cubicBezTo>
                <a:cubicBezTo>
                  <a:pt x="1463" y="10004"/>
                  <a:pt x="1463" y="10013"/>
                  <a:pt x="1463" y="10021"/>
                </a:cubicBezTo>
              </a:path>
              <a:path w="1936" h="770">
                <a:moveTo>
                  <a:pt x="1463" y="10021"/>
                </a:moveTo>
                <a:lnTo>
                  <a:pt x="1463" y="10021"/>
                </a:lnTo>
              </a:path>
              <a:path w="1936" h="770">
                <a:moveTo>
                  <a:pt x="1513" y="9872"/>
                </a:moveTo>
                <a:cubicBezTo>
                  <a:pt x="1549" y="9928"/>
                  <a:pt x="1576" y="9959"/>
                  <a:pt x="1588" y="10021"/>
                </a:cubicBezTo>
                <a:cubicBezTo>
                  <a:pt x="1588" y="9961"/>
                  <a:pt x="1565" y="9844"/>
                  <a:pt x="1612" y="9823"/>
                </a:cubicBezTo>
                <a:cubicBezTo>
                  <a:pt x="1701" y="9793"/>
                  <a:pt x="1741" y="9785"/>
                  <a:pt x="1811" y="9798"/>
                </a:cubicBezTo>
              </a:path>
              <a:path w="1936" h="770">
                <a:moveTo>
                  <a:pt x="1910" y="9922"/>
                </a:moveTo>
                <a:cubicBezTo>
                  <a:pt x="1910" y="9996"/>
                  <a:pt x="1910" y="10005"/>
                  <a:pt x="1910" y="10046"/>
                </a:cubicBezTo>
              </a:path>
              <a:path w="1936" h="770">
                <a:moveTo>
                  <a:pt x="1910" y="10046"/>
                </a:moveTo>
                <a:lnTo>
                  <a:pt x="1910" y="10046"/>
                </a:lnTo>
              </a:path>
              <a:path w="1936" h="770">
                <a:moveTo>
                  <a:pt x="1836" y="9723"/>
                </a:moveTo>
                <a:lnTo>
                  <a:pt x="1836" y="9723"/>
                </a:lnTo>
              </a:path>
              <a:path w="1936" h="770">
                <a:moveTo>
                  <a:pt x="2059" y="9847"/>
                </a:moveTo>
                <a:cubicBezTo>
                  <a:pt x="2126" y="9960"/>
                  <a:pt x="2142" y="9992"/>
                  <a:pt x="2208" y="10046"/>
                </a:cubicBezTo>
                <a:cubicBezTo>
                  <a:pt x="2208" y="9972"/>
                  <a:pt x="2161" y="9895"/>
                  <a:pt x="2183" y="9823"/>
                </a:cubicBezTo>
                <a:cubicBezTo>
                  <a:pt x="2191" y="9823"/>
                  <a:pt x="2200" y="9823"/>
                  <a:pt x="2208" y="9823"/>
                </a:cubicBezTo>
              </a:path>
              <a:path w="1936" h="770">
                <a:moveTo>
                  <a:pt x="2381" y="9798"/>
                </a:moveTo>
                <a:cubicBezTo>
                  <a:pt x="2406" y="9897"/>
                  <a:pt x="2414" y="9930"/>
                  <a:pt x="2431" y="9996"/>
                </a:cubicBezTo>
              </a:path>
              <a:path w="1936" h="770">
                <a:moveTo>
                  <a:pt x="2431" y="9996"/>
                </a:moveTo>
                <a:lnTo>
                  <a:pt x="2431" y="9996"/>
                </a:lnTo>
              </a:path>
              <a:path w="1936" h="770">
                <a:moveTo>
                  <a:pt x="2356" y="9723"/>
                </a:moveTo>
                <a:cubicBezTo>
                  <a:pt x="2348" y="9723"/>
                  <a:pt x="2340" y="9723"/>
                  <a:pt x="2332" y="9723"/>
                </a:cubicBezTo>
              </a:path>
              <a:path w="1936" h="770">
                <a:moveTo>
                  <a:pt x="2580" y="9947"/>
                </a:moveTo>
                <a:cubicBezTo>
                  <a:pt x="2580" y="9963"/>
                  <a:pt x="2580" y="9980"/>
                  <a:pt x="2580" y="9996"/>
                </a:cubicBezTo>
                <a:cubicBezTo>
                  <a:pt x="2608" y="9939"/>
                  <a:pt x="2586" y="9758"/>
                  <a:pt x="2704" y="9847"/>
                </a:cubicBezTo>
                <a:cubicBezTo>
                  <a:pt x="2751" y="9882"/>
                  <a:pt x="2789" y="9974"/>
                  <a:pt x="2828" y="10021"/>
                </a:cubicBezTo>
              </a:path>
              <a:path w="1936" h="770">
                <a:moveTo>
                  <a:pt x="2977" y="9823"/>
                </a:moveTo>
                <a:cubicBezTo>
                  <a:pt x="2898" y="9900"/>
                  <a:pt x="2889" y="9905"/>
                  <a:pt x="2877" y="10021"/>
                </a:cubicBezTo>
                <a:cubicBezTo>
                  <a:pt x="2932" y="10049"/>
                  <a:pt x="2923" y="9892"/>
                  <a:pt x="2977" y="9922"/>
                </a:cubicBezTo>
                <a:cubicBezTo>
                  <a:pt x="3065" y="9972"/>
                  <a:pt x="3103" y="10212"/>
                  <a:pt x="3076" y="10294"/>
                </a:cubicBezTo>
                <a:cubicBezTo>
                  <a:pt x="3027" y="10441"/>
                  <a:pt x="2888" y="10370"/>
                  <a:pt x="2803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03200" y="3562200"/>
            <a:ext cx="46080" cy="19080"/>
          </a:xfrm>
          <a:custGeom>
            <a:avLst/>
            <a:gdLst/>
            <a:ahLst/>
            <a:rect l="l" t="t" r="r" b="b"/>
            <a:pathLst>
              <a:path w="126" h="51">
                <a:moveTo>
                  <a:pt x="3621" y="9947"/>
                </a:moveTo>
                <a:cubicBezTo>
                  <a:pt x="3678" y="9919"/>
                  <a:pt x="3702" y="9908"/>
                  <a:pt x="3746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35040" y="3446640"/>
            <a:ext cx="223920" cy="196560"/>
          </a:xfrm>
          <a:custGeom>
            <a:avLst/>
            <a:gdLst/>
            <a:ahLst/>
            <a:rect l="l" t="t" r="r" b="b"/>
            <a:pathLst>
              <a:path w="622" h="546">
                <a:moveTo>
                  <a:pt x="4266" y="9649"/>
                </a:moveTo>
                <a:cubicBezTo>
                  <a:pt x="4266" y="9710"/>
                  <a:pt x="4272" y="9742"/>
                  <a:pt x="4291" y="9798"/>
                </a:cubicBezTo>
              </a:path>
              <a:path w="622" h="546">
                <a:moveTo>
                  <a:pt x="4465" y="9575"/>
                </a:moveTo>
                <a:cubicBezTo>
                  <a:pt x="4508" y="9732"/>
                  <a:pt x="4483" y="9883"/>
                  <a:pt x="4465" y="10046"/>
                </a:cubicBezTo>
                <a:cubicBezTo>
                  <a:pt x="4465" y="10054"/>
                  <a:pt x="4465" y="10063"/>
                  <a:pt x="4465" y="10071"/>
                </a:cubicBezTo>
              </a:path>
              <a:path w="622" h="546">
                <a:moveTo>
                  <a:pt x="4663" y="9823"/>
                </a:moveTo>
                <a:cubicBezTo>
                  <a:pt x="4663" y="9899"/>
                  <a:pt x="4637" y="9930"/>
                  <a:pt x="4738" y="9947"/>
                </a:cubicBezTo>
                <a:cubicBezTo>
                  <a:pt x="4821" y="9947"/>
                  <a:pt x="4837" y="9947"/>
                  <a:pt x="4887" y="9947"/>
                </a:cubicBezTo>
              </a:path>
              <a:path w="622" h="546">
                <a:moveTo>
                  <a:pt x="4862" y="9798"/>
                </a:moveTo>
                <a:cubicBezTo>
                  <a:pt x="4857" y="9908"/>
                  <a:pt x="4837" y="10012"/>
                  <a:pt x="4837" y="10120"/>
                </a:cubicBezTo>
              </a:path>
              <a:path w="622" h="546">
                <a:moveTo>
                  <a:pt x="4837" y="10120"/>
                </a:moveTo>
                <a:lnTo>
                  <a:pt x="4837" y="1012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57240" y="3490920"/>
            <a:ext cx="527040" cy="152280"/>
          </a:xfrm>
          <a:custGeom>
            <a:avLst/>
            <a:gdLst/>
            <a:ahLst/>
            <a:rect l="l" t="t" r="r" b="b"/>
            <a:pathLst>
              <a:path w="1465" h="422">
                <a:moveTo>
                  <a:pt x="5184" y="9897"/>
                </a:moveTo>
                <a:cubicBezTo>
                  <a:pt x="5184" y="9947"/>
                  <a:pt x="5184" y="9996"/>
                  <a:pt x="5184" y="10046"/>
                </a:cubicBezTo>
                <a:cubicBezTo>
                  <a:pt x="5161" y="10000"/>
                  <a:pt x="5129" y="9865"/>
                  <a:pt x="5234" y="9872"/>
                </a:cubicBezTo>
                <a:cubicBezTo>
                  <a:pt x="5377" y="9882"/>
                  <a:pt x="5396" y="9951"/>
                  <a:pt x="5482" y="10046"/>
                </a:cubicBezTo>
                <a:cubicBezTo>
                  <a:pt x="5472" y="9996"/>
                  <a:pt x="5426" y="9835"/>
                  <a:pt x="5556" y="9897"/>
                </a:cubicBezTo>
                <a:cubicBezTo>
                  <a:pt x="5651" y="9942"/>
                  <a:pt x="5633" y="10064"/>
                  <a:pt x="5705" y="10046"/>
                </a:cubicBezTo>
              </a:path>
              <a:path w="1465" h="422">
                <a:moveTo>
                  <a:pt x="5779" y="9897"/>
                </a:moveTo>
                <a:cubicBezTo>
                  <a:pt x="5821" y="9980"/>
                  <a:pt x="5829" y="9996"/>
                  <a:pt x="5854" y="10046"/>
                </a:cubicBezTo>
              </a:path>
              <a:path w="1465" h="422">
                <a:moveTo>
                  <a:pt x="5854" y="10046"/>
                </a:moveTo>
                <a:lnTo>
                  <a:pt x="5854" y="10046"/>
                </a:lnTo>
              </a:path>
              <a:path w="1465" h="422">
                <a:moveTo>
                  <a:pt x="5829" y="9773"/>
                </a:moveTo>
                <a:cubicBezTo>
                  <a:pt x="5821" y="9773"/>
                  <a:pt x="5812" y="9773"/>
                  <a:pt x="5804" y="9773"/>
                </a:cubicBezTo>
              </a:path>
              <a:path w="1465" h="422">
                <a:moveTo>
                  <a:pt x="5978" y="9699"/>
                </a:moveTo>
                <a:cubicBezTo>
                  <a:pt x="6014" y="9831"/>
                  <a:pt x="6031" y="9968"/>
                  <a:pt x="6077" y="10096"/>
                </a:cubicBezTo>
              </a:path>
              <a:path w="1465" h="422">
                <a:moveTo>
                  <a:pt x="6127" y="9947"/>
                </a:moveTo>
                <a:cubicBezTo>
                  <a:pt x="6201" y="9927"/>
                  <a:pt x="6263" y="9922"/>
                  <a:pt x="6300" y="9872"/>
                </a:cubicBezTo>
                <a:cubicBezTo>
                  <a:pt x="6270" y="9826"/>
                  <a:pt x="6193" y="9809"/>
                  <a:pt x="6152" y="9872"/>
                </a:cubicBezTo>
                <a:cubicBezTo>
                  <a:pt x="6034" y="10055"/>
                  <a:pt x="6103" y="10105"/>
                  <a:pt x="6276" y="10096"/>
                </a:cubicBezTo>
              </a:path>
              <a:path w="1465" h="422">
                <a:moveTo>
                  <a:pt x="6276" y="10096"/>
                </a:moveTo>
                <a:lnTo>
                  <a:pt x="6276" y="10096"/>
                </a:lnTo>
              </a:path>
              <a:path w="1465" h="422">
                <a:moveTo>
                  <a:pt x="6573" y="9823"/>
                </a:moveTo>
                <a:cubicBezTo>
                  <a:pt x="6512" y="9838"/>
                  <a:pt x="6497" y="9850"/>
                  <a:pt x="6449" y="9897"/>
                </a:cubicBezTo>
                <a:cubicBezTo>
                  <a:pt x="6526" y="9961"/>
                  <a:pt x="6591" y="9986"/>
                  <a:pt x="6623" y="10071"/>
                </a:cubicBezTo>
                <a:cubicBezTo>
                  <a:pt x="6498" y="10128"/>
                  <a:pt x="6500" y="10128"/>
                  <a:pt x="6375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73200" y="3517920"/>
            <a:ext cx="349200" cy="206280"/>
          </a:xfrm>
          <a:custGeom>
            <a:avLst/>
            <a:gdLst/>
            <a:ahLst/>
            <a:rect l="l" t="t" r="r" b="b"/>
            <a:pathLst>
              <a:path w="968" h="572">
                <a:moveTo>
                  <a:pt x="6921" y="9823"/>
                </a:moveTo>
                <a:cubicBezTo>
                  <a:pt x="6913" y="9831"/>
                  <a:pt x="6904" y="9839"/>
                  <a:pt x="6896" y="9847"/>
                </a:cubicBezTo>
              </a:path>
              <a:path w="968" h="572">
                <a:moveTo>
                  <a:pt x="6921" y="10120"/>
                </a:moveTo>
                <a:cubicBezTo>
                  <a:pt x="6914" y="10194"/>
                  <a:pt x="6932" y="10214"/>
                  <a:pt x="6871" y="10244"/>
                </a:cubicBezTo>
              </a:path>
              <a:path w="968" h="572">
                <a:moveTo>
                  <a:pt x="7243" y="9971"/>
                </a:moveTo>
                <a:cubicBezTo>
                  <a:pt x="7231" y="9914"/>
                  <a:pt x="7209" y="9862"/>
                  <a:pt x="7144" y="9847"/>
                </a:cubicBezTo>
                <a:cubicBezTo>
                  <a:pt x="7025" y="9819"/>
                  <a:pt x="7046" y="9943"/>
                  <a:pt x="7069" y="9996"/>
                </a:cubicBezTo>
                <a:cubicBezTo>
                  <a:pt x="7192" y="10027"/>
                  <a:pt x="7127" y="9977"/>
                  <a:pt x="7193" y="9922"/>
                </a:cubicBezTo>
                <a:cubicBezTo>
                  <a:pt x="7201" y="9922"/>
                  <a:pt x="7210" y="9922"/>
                  <a:pt x="7218" y="9922"/>
                </a:cubicBezTo>
                <a:cubicBezTo>
                  <a:pt x="7292" y="10051"/>
                  <a:pt x="7384" y="10203"/>
                  <a:pt x="7218" y="10319"/>
                </a:cubicBezTo>
                <a:cubicBezTo>
                  <a:pt x="7078" y="10417"/>
                  <a:pt x="7064" y="10303"/>
                  <a:pt x="7045" y="10220"/>
                </a:cubicBezTo>
              </a:path>
              <a:path w="968" h="572">
                <a:moveTo>
                  <a:pt x="7516" y="9872"/>
                </a:moveTo>
                <a:cubicBezTo>
                  <a:pt x="7488" y="9830"/>
                  <a:pt x="7393" y="9852"/>
                  <a:pt x="7367" y="9922"/>
                </a:cubicBezTo>
                <a:cubicBezTo>
                  <a:pt x="7367" y="9947"/>
                  <a:pt x="7367" y="9971"/>
                  <a:pt x="7367" y="9996"/>
                </a:cubicBezTo>
                <a:cubicBezTo>
                  <a:pt x="7483" y="9996"/>
                  <a:pt x="7492" y="9981"/>
                  <a:pt x="7516" y="9872"/>
                </a:cubicBezTo>
                <a:cubicBezTo>
                  <a:pt x="7591" y="9981"/>
                  <a:pt x="7575" y="10004"/>
                  <a:pt x="7689" y="9947"/>
                </a:cubicBezTo>
              </a:path>
              <a:path w="968" h="572">
                <a:moveTo>
                  <a:pt x="7739" y="9773"/>
                </a:moveTo>
                <a:cubicBezTo>
                  <a:pt x="7716" y="9796"/>
                  <a:pt x="7708" y="9800"/>
                  <a:pt x="7714" y="9823"/>
                </a:cubicBezTo>
                <a:cubicBezTo>
                  <a:pt x="7767" y="9860"/>
                  <a:pt x="7899" y="9889"/>
                  <a:pt x="7813" y="9971"/>
                </a:cubicBezTo>
                <a:cubicBezTo>
                  <a:pt x="7757" y="10009"/>
                  <a:pt x="7754" y="10026"/>
                  <a:pt x="7714" y="10021"/>
                </a:cubicBezTo>
              </a:path>
              <a:path w="968" h="572">
                <a:moveTo>
                  <a:pt x="7714" y="10021"/>
                </a:moveTo>
                <a:lnTo>
                  <a:pt x="7714" y="1002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1760" y="3687840"/>
            <a:ext cx="384120" cy="214200"/>
          </a:xfrm>
          <a:custGeom>
            <a:avLst/>
            <a:gdLst/>
            <a:ahLst/>
            <a:rect l="l" t="t" r="r" b="b"/>
            <a:pathLst>
              <a:path w="1068" h="597">
                <a:moveTo>
                  <a:pt x="1389" y="10319"/>
                </a:moveTo>
                <a:cubicBezTo>
                  <a:pt x="1321" y="10302"/>
                  <a:pt x="1292" y="10286"/>
                  <a:pt x="1215" y="10319"/>
                </a:cubicBezTo>
                <a:cubicBezTo>
                  <a:pt x="1091" y="10372"/>
                  <a:pt x="1110" y="10641"/>
                  <a:pt x="1166" y="10740"/>
                </a:cubicBezTo>
                <a:cubicBezTo>
                  <a:pt x="1255" y="10897"/>
                  <a:pt x="1363" y="10827"/>
                  <a:pt x="1463" y="10740"/>
                </a:cubicBezTo>
                <a:cubicBezTo>
                  <a:pt x="1502" y="10702"/>
                  <a:pt x="1519" y="10700"/>
                  <a:pt x="1513" y="10666"/>
                </a:cubicBezTo>
                <a:cubicBezTo>
                  <a:pt x="1411" y="10654"/>
                  <a:pt x="1114" y="10671"/>
                  <a:pt x="1215" y="10691"/>
                </a:cubicBezTo>
                <a:cubicBezTo>
                  <a:pt x="1232" y="10691"/>
                  <a:pt x="1248" y="10691"/>
                  <a:pt x="1265" y="10691"/>
                </a:cubicBezTo>
              </a:path>
              <a:path w="1068" h="597">
                <a:moveTo>
                  <a:pt x="1637" y="10319"/>
                </a:moveTo>
                <a:cubicBezTo>
                  <a:pt x="1637" y="10433"/>
                  <a:pt x="1658" y="10509"/>
                  <a:pt x="1687" y="10616"/>
                </a:cubicBezTo>
                <a:cubicBezTo>
                  <a:pt x="1687" y="10624"/>
                  <a:pt x="1687" y="10633"/>
                  <a:pt x="1687" y="10641"/>
                </a:cubicBezTo>
                <a:cubicBezTo>
                  <a:pt x="1640" y="10526"/>
                  <a:pt x="1582" y="10414"/>
                  <a:pt x="1612" y="10294"/>
                </a:cubicBezTo>
                <a:cubicBezTo>
                  <a:pt x="1620" y="10277"/>
                  <a:pt x="1629" y="10261"/>
                  <a:pt x="1637" y="10244"/>
                </a:cubicBezTo>
                <a:cubicBezTo>
                  <a:pt x="1689" y="10251"/>
                  <a:pt x="1895" y="10293"/>
                  <a:pt x="1811" y="10418"/>
                </a:cubicBezTo>
                <a:cubicBezTo>
                  <a:pt x="1783" y="10460"/>
                  <a:pt x="1708" y="10483"/>
                  <a:pt x="1662" y="10492"/>
                </a:cubicBezTo>
              </a:path>
              <a:path w="1068" h="597">
                <a:moveTo>
                  <a:pt x="2034" y="10244"/>
                </a:moveTo>
                <a:cubicBezTo>
                  <a:pt x="2000" y="10272"/>
                  <a:pt x="1976" y="10286"/>
                  <a:pt x="1960" y="10319"/>
                </a:cubicBezTo>
                <a:cubicBezTo>
                  <a:pt x="2028" y="10340"/>
                  <a:pt x="2247" y="10364"/>
                  <a:pt x="2183" y="10492"/>
                </a:cubicBezTo>
                <a:cubicBezTo>
                  <a:pt x="2139" y="10579"/>
                  <a:pt x="2041" y="10590"/>
                  <a:pt x="1960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9080" y="3724200"/>
            <a:ext cx="81000" cy="17640"/>
          </a:xfrm>
          <a:custGeom>
            <a:avLst/>
            <a:gdLst/>
            <a:ahLst/>
            <a:rect l="l" t="t" r="r" b="b"/>
            <a:pathLst>
              <a:path w="224" h="50">
                <a:moveTo>
                  <a:pt x="2555" y="10393"/>
                </a:moveTo>
                <a:cubicBezTo>
                  <a:pt x="2649" y="10393"/>
                  <a:pt x="2686" y="10380"/>
                  <a:pt x="2778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52360" y="3714840"/>
            <a:ext cx="401760" cy="169920"/>
          </a:xfrm>
          <a:custGeom>
            <a:avLst/>
            <a:gdLst/>
            <a:ahLst/>
            <a:rect l="l" t="t" r="r" b="b"/>
            <a:pathLst>
              <a:path w="1117" h="472">
                <a:moveTo>
                  <a:pt x="3497" y="10542"/>
                </a:moveTo>
                <a:cubicBezTo>
                  <a:pt x="3561" y="10510"/>
                  <a:pt x="3379" y="10477"/>
                  <a:pt x="3349" y="10492"/>
                </a:cubicBezTo>
                <a:cubicBezTo>
                  <a:pt x="3207" y="10562"/>
                  <a:pt x="3118" y="10850"/>
                  <a:pt x="3373" y="10790"/>
                </a:cubicBezTo>
                <a:cubicBezTo>
                  <a:pt x="3492" y="10719"/>
                  <a:pt x="3532" y="10700"/>
                  <a:pt x="3522" y="10592"/>
                </a:cubicBezTo>
              </a:path>
              <a:path w="1117" h="472">
                <a:moveTo>
                  <a:pt x="3423" y="10319"/>
                </a:moveTo>
                <a:cubicBezTo>
                  <a:pt x="3469" y="10427"/>
                  <a:pt x="3515" y="10625"/>
                  <a:pt x="3597" y="10716"/>
                </a:cubicBezTo>
                <a:cubicBezTo>
                  <a:pt x="3597" y="10699"/>
                  <a:pt x="3597" y="10683"/>
                  <a:pt x="3597" y="10666"/>
                </a:cubicBezTo>
              </a:path>
              <a:path w="1117" h="472">
                <a:moveTo>
                  <a:pt x="3597" y="10666"/>
                </a:moveTo>
                <a:lnTo>
                  <a:pt x="3597" y="10666"/>
                </a:lnTo>
              </a:path>
              <a:path w="1117" h="472">
                <a:moveTo>
                  <a:pt x="3646" y="10517"/>
                </a:moveTo>
                <a:cubicBezTo>
                  <a:pt x="3691" y="10579"/>
                  <a:pt x="3723" y="10680"/>
                  <a:pt x="3770" y="10716"/>
                </a:cubicBezTo>
              </a:path>
              <a:path w="1117" h="472">
                <a:moveTo>
                  <a:pt x="3671" y="10344"/>
                </a:moveTo>
                <a:lnTo>
                  <a:pt x="3671" y="10344"/>
                </a:lnTo>
              </a:path>
              <a:path w="1117" h="472">
                <a:moveTo>
                  <a:pt x="3919" y="10517"/>
                </a:moveTo>
                <a:cubicBezTo>
                  <a:pt x="3940" y="10601"/>
                  <a:pt x="3942" y="10620"/>
                  <a:pt x="3969" y="10666"/>
                </a:cubicBezTo>
                <a:cubicBezTo>
                  <a:pt x="3969" y="10574"/>
                  <a:pt x="3941" y="10508"/>
                  <a:pt x="3969" y="10418"/>
                </a:cubicBezTo>
                <a:cubicBezTo>
                  <a:pt x="3997" y="10361"/>
                  <a:pt x="4013" y="10343"/>
                  <a:pt x="4068" y="10344"/>
                </a:cubicBezTo>
              </a:path>
              <a:path w="1117" h="472">
                <a:moveTo>
                  <a:pt x="4217" y="10666"/>
                </a:moveTo>
                <a:cubicBezTo>
                  <a:pt x="4250" y="10658"/>
                  <a:pt x="4283" y="10649"/>
                  <a:pt x="4316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7680" y="4286160"/>
            <a:ext cx="18720" cy="9720"/>
          </a:xfrm>
          <a:custGeom>
            <a:avLst/>
            <a:gdLst/>
            <a:ahLst/>
            <a:rect l="l" t="t" r="r" b="b"/>
            <a:pathLst>
              <a:path w="50" h="26">
                <a:moveTo>
                  <a:pt x="1439" y="11906"/>
                </a:moveTo>
                <a:cubicBezTo>
                  <a:pt x="1439" y="11939"/>
                  <a:pt x="1447" y="11947"/>
                  <a:pt x="1488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6160" y="4456080"/>
            <a:ext cx="1179720" cy="446040"/>
          </a:xfrm>
          <a:custGeom>
            <a:avLst/>
            <a:gdLst/>
            <a:ahLst/>
            <a:rect l="l" t="t" r="r" b="b"/>
            <a:pathLst>
              <a:path w="3275" h="1241">
                <a:moveTo>
                  <a:pt x="2158" y="12626"/>
                </a:moveTo>
                <a:cubicBezTo>
                  <a:pt x="2193" y="12764"/>
                  <a:pt x="2219" y="12905"/>
                  <a:pt x="2232" y="13047"/>
                </a:cubicBezTo>
                <a:cubicBezTo>
                  <a:pt x="2187" y="12954"/>
                  <a:pt x="2146" y="12732"/>
                  <a:pt x="2183" y="12626"/>
                </a:cubicBezTo>
                <a:cubicBezTo>
                  <a:pt x="2269" y="12377"/>
                  <a:pt x="2500" y="12781"/>
                  <a:pt x="2530" y="12849"/>
                </a:cubicBezTo>
                <a:cubicBezTo>
                  <a:pt x="2561" y="12920"/>
                  <a:pt x="2584" y="12984"/>
                  <a:pt x="2530" y="12948"/>
                </a:cubicBezTo>
                <a:cubicBezTo>
                  <a:pt x="2518" y="12815"/>
                  <a:pt x="2477" y="12538"/>
                  <a:pt x="2704" y="12700"/>
                </a:cubicBezTo>
                <a:cubicBezTo>
                  <a:pt x="2822" y="12784"/>
                  <a:pt x="2835" y="12869"/>
                  <a:pt x="2853" y="12998"/>
                </a:cubicBezTo>
              </a:path>
              <a:path w="3275" h="1241">
                <a:moveTo>
                  <a:pt x="2977" y="12700"/>
                </a:moveTo>
                <a:cubicBezTo>
                  <a:pt x="2982" y="12753"/>
                  <a:pt x="3013" y="13146"/>
                  <a:pt x="3175" y="13022"/>
                </a:cubicBezTo>
                <a:cubicBezTo>
                  <a:pt x="3246" y="12904"/>
                  <a:pt x="3270" y="12869"/>
                  <a:pt x="3249" y="12774"/>
                </a:cubicBezTo>
                <a:cubicBezTo>
                  <a:pt x="3249" y="12750"/>
                  <a:pt x="3282" y="12892"/>
                  <a:pt x="3324" y="12948"/>
                </a:cubicBezTo>
                <a:cubicBezTo>
                  <a:pt x="3391" y="13015"/>
                  <a:pt x="3406" y="13040"/>
                  <a:pt x="3473" y="13022"/>
                </a:cubicBezTo>
              </a:path>
              <a:path w="3275" h="1241">
                <a:moveTo>
                  <a:pt x="3522" y="12452"/>
                </a:moveTo>
                <a:cubicBezTo>
                  <a:pt x="3557" y="12608"/>
                  <a:pt x="3566" y="12798"/>
                  <a:pt x="3621" y="12948"/>
                </a:cubicBezTo>
                <a:cubicBezTo>
                  <a:pt x="3638" y="12973"/>
                  <a:pt x="3654" y="12997"/>
                  <a:pt x="3671" y="13022"/>
                </a:cubicBezTo>
              </a:path>
              <a:path w="3275" h="1241">
                <a:moveTo>
                  <a:pt x="3671" y="13022"/>
                </a:moveTo>
                <a:lnTo>
                  <a:pt x="3671" y="13022"/>
                </a:lnTo>
              </a:path>
              <a:path w="3275" h="1241">
                <a:moveTo>
                  <a:pt x="3894" y="12378"/>
                </a:moveTo>
                <a:cubicBezTo>
                  <a:pt x="3951" y="12588"/>
                  <a:pt x="3970" y="12820"/>
                  <a:pt x="4043" y="13022"/>
                </a:cubicBezTo>
                <a:cubicBezTo>
                  <a:pt x="4043" y="13014"/>
                  <a:pt x="4043" y="13006"/>
                  <a:pt x="4043" y="12998"/>
                </a:cubicBezTo>
              </a:path>
              <a:path w="3275" h="1241">
                <a:moveTo>
                  <a:pt x="3795" y="12700"/>
                </a:moveTo>
                <a:cubicBezTo>
                  <a:pt x="3990" y="12711"/>
                  <a:pt x="4155" y="12711"/>
                  <a:pt x="4266" y="12898"/>
                </a:cubicBezTo>
                <a:cubicBezTo>
                  <a:pt x="4285" y="12976"/>
                  <a:pt x="4277" y="12993"/>
                  <a:pt x="4316" y="13022"/>
                </a:cubicBezTo>
              </a:path>
              <a:path w="3275" h="1241">
                <a:moveTo>
                  <a:pt x="4316" y="13022"/>
                </a:moveTo>
                <a:lnTo>
                  <a:pt x="4316" y="13022"/>
                </a:lnTo>
              </a:path>
              <a:path w="3275" h="1241">
                <a:moveTo>
                  <a:pt x="4167" y="12526"/>
                </a:moveTo>
                <a:cubicBezTo>
                  <a:pt x="4167" y="12534"/>
                  <a:pt x="4167" y="12543"/>
                  <a:pt x="4167" y="12551"/>
                </a:cubicBezTo>
              </a:path>
              <a:path w="3275" h="1241">
                <a:moveTo>
                  <a:pt x="4539" y="13122"/>
                </a:moveTo>
                <a:cubicBezTo>
                  <a:pt x="4562" y="13240"/>
                  <a:pt x="4586" y="13332"/>
                  <a:pt x="4614" y="13444"/>
                </a:cubicBezTo>
                <a:cubicBezTo>
                  <a:pt x="4500" y="13206"/>
                  <a:pt x="4436" y="13013"/>
                  <a:pt x="4415" y="12750"/>
                </a:cubicBezTo>
                <a:cubicBezTo>
                  <a:pt x="4477" y="12754"/>
                  <a:pt x="4864" y="12929"/>
                  <a:pt x="4638" y="13022"/>
                </a:cubicBezTo>
                <a:cubicBezTo>
                  <a:pt x="4455" y="13097"/>
                  <a:pt x="4403" y="12960"/>
                  <a:pt x="4366" y="12849"/>
                </a:cubicBezTo>
              </a:path>
              <a:path w="3275" h="1241">
                <a:moveTo>
                  <a:pt x="4787" y="12526"/>
                </a:moveTo>
                <a:cubicBezTo>
                  <a:pt x="4828" y="12713"/>
                  <a:pt x="4847" y="12918"/>
                  <a:pt x="4911" y="13097"/>
                </a:cubicBezTo>
                <a:cubicBezTo>
                  <a:pt x="4911" y="13089"/>
                  <a:pt x="4911" y="13080"/>
                  <a:pt x="4911" y="13072"/>
                </a:cubicBezTo>
              </a:path>
              <a:path w="3275" h="1241">
                <a:moveTo>
                  <a:pt x="5011" y="12799"/>
                </a:moveTo>
                <a:cubicBezTo>
                  <a:pt x="5024" y="12873"/>
                  <a:pt x="5057" y="13092"/>
                  <a:pt x="5184" y="13072"/>
                </a:cubicBezTo>
                <a:cubicBezTo>
                  <a:pt x="5325" y="13050"/>
                  <a:pt x="5273" y="12885"/>
                  <a:pt x="5259" y="12799"/>
                </a:cubicBezTo>
                <a:cubicBezTo>
                  <a:pt x="5312" y="12976"/>
                  <a:pt x="5475" y="13224"/>
                  <a:pt x="5432" y="13419"/>
                </a:cubicBezTo>
                <a:cubicBezTo>
                  <a:pt x="5382" y="13646"/>
                  <a:pt x="5073" y="13675"/>
                  <a:pt x="4911" y="13568"/>
                </a:cubicBezTo>
                <a:cubicBezTo>
                  <a:pt x="4849" y="13475"/>
                  <a:pt x="4847" y="13432"/>
                  <a:pt x="4961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9760" y="4616280"/>
            <a:ext cx="1276200" cy="571680"/>
          </a:xfrm>
          <a:custGeom>
            <a:avLst/>
            <a:gdLst/>
            <a:ahLst/>
            <a:rect l="l" t="t" r="r" b="b"/>
            <a:pathLst>
              <a:path w="3548" h="1589">
                <a:moveTo>
                  <a:pt x="2133" y="13543"/>
                </a:moveTo>
                <a:cubicBezTo>
                  <a:pt x="2141" y="13543"/>
                  <a:pt x="2150" y="13543"/>
                  <a:pt x="2158" y="13543"/>
                </a:cubicBezTo>
              </a:path>
              <a:path w="3548" h="1589">
                <a:moveTo>
                  <a:pt x="1414" y="12824"/>
                </a:moveTo>
                <a:cubicBezTo>
                  <a:pt x="1497" y="12824"/>
                  <a:pt x="1579" y="12824"/>
                  <a:pt x="1662" y="12824"/>
                </a:cubicBezTo>
              </a:path>
              <a:path w="3548" h="1589">
                <a:moveTo>
                  <a:pt x="1612" y="13742"/>
                </a:moveTo>
                <a:cubicBezTo>
                  <a:pt x="1711" y="13742"/>
                  <a:pt x="1796" y="13760"/>
                  <a:pt x="1885" y="13742"/>
                </a:cubicBezTo>
              </a:path>
              <a:path w="3548" h="1589">
                <a:moveTo>
                  <a:pt x="2257" y="13469"/>
                </a:moveTo>
                <a:cubicBezTo>
                  <a:pt x="2140" y="13508"/>
                  <a:pt x="2109" y="13568"/>
                  <a:pt x="2084" y="13692"/>
                </a:cubicBezTo>
                <a:cubicBezTo>
                  <a:pt x="2197" y="13743"/>
                  <a:pt x="2509" y="13796"/>
                  <a:pt x="2381" y="13990"/>
                </a:cubicBezTo>
                <a:cubicBezTo>
                  <a:pt x="2226" y="14225"/>
                  <a:pt x="2105" y="14062"/>
                  <a:pt x="2084" y="13891"/>
                </a:cubicBezTo>
              </a:path>
              <a:path w="3548" h="1589">
                <a:moveTo>
                  <a:pt x="2505" y="13866"/>
                </a:moveTo>
                <a:cubicBezTo>
                  <a:pt x="2547" y="13990"/>
                  <a:pt x="2555" y="14015"/>
                  <a:pt x="2580" y="14089"/>
                </a:cubicBezTo>
              </a:path>
              <a:path w="3548" h="1589">
                <a:moveTo>
                  <a:pt x="2406" y="13543"/>
                </a:moveTo>
                <a:cubicBezTo>
                  <a:pt x="2414" y="13543"/>
                  <a:pt x="2423" y="13543"/>
                  <a:pt x="2431" y="13543"/>
                </a:cubicBezTo>
              </a:path>
              <a:path w="3548" h="1589">
                <a:moveTo>
                  <a:pt x="2778" y="13940"/>
                </a:moveTo>
                <a:cubicBezTo>
                  <a:pt x="2786" y="13965"/>
                  <a:pt x="2795" y="13990"/>
                  <a:pt x="2803" y="14015"/>
                </a:cubicBezTo>
                <a:cubicBezTo>
                  <a:pt x="2788" y="13969"/>
                  <a:pt x="2687" y="13669"/>
                  <a:pt x="2828" y="13717"/>
                </a:cubicBezTo>
                <a:cubicBezTo>
                  <a:pt x="2958" y="13761"/>
                  <a:pt x="3011" y="13853"/>
                  <a:pt x="3051" y="13965"/>
                </a:cubicBezTo>
                <a:cubicBezTo>
                  <a:pt x="3014" y="13818"/>
                  <a:pt x="2977" y="13780"/>
                  <a:pt x="3076" y="13667"/>
                </a:cubicBezTo>
                <a:cubicBezTo>
                  <a:pt x="3140" y="13740"/>
                  <a:pt x="3263" y="13940"/>
                  <a:pt x="3299" y="13940"/>
                </a:cubicBezTo>
              </a:path>
              <a:path w="3548" h="1589">
                <a:moveTo>
                  <a:pt x="3349" y="13742"/>
                </a:moveTo>
                <a:cubicBezTo>
                  <a:pt x="3366" y="13792"/>
                  <a:pt x="3542" y="14241"/>
                  <a:pt x="3547" y="14238"/>
                </a:cubicBezTo>
                <a:cubicBezTo>
                  <a:pt x="3547" y="14221"/>
                  <a:pt x="3547" y="14205"/>
                  <a:pt x="3547" y="14188"/>
                </a:cubicBezTo>
              </a:path>
              <a:path w="3548" h="1589">
                <a:moveTo>
                  <a:pt x="3324" y="13643"/>
                </a:moveTo>
                <a:cubicBezTo>
                  <a:pt x="3403" y="13655"/>
                  <a:pt x="3884" y="13782"/>
                  <a:pt x="3671" y="13965"/>
                </a:cubicBezTo>
                <a:cubicBezTo>
                  <a:pt x="3555" y="14065"/>
                  <a:pt x="3406" y="13973"/>
                  <a:pt x="3349" y="13915"/>
                </a:cubicBezTo>
              </a:path>
              <a:path w="3548" h="1589">
                <a:moveTo>
                  <a:pt x="3770" y="13543"/>
                </a:moveTo>
                <a:cubicBezTo>
                  <a:pt x="3816" y="13647"/>
                  <a:pt x="3907" y="14068"/>
                  <a:pt x="3994" y="13915"/>
                </a:cubicBezTo>
              </a:path>
              <a:path w="3548" h="1589">
                <a:moveTo>
                  <a:pt x="4018" y="13767"/>
                </a:moveTo>
                <a:cubicBezTo>
                  <a:pt x="4080" y="14092"/>
                  <a:pt x="4028" y="13736"/>
                  <a:pt x="4018" y="13643"/>
                </a:cubicBezTo>
              </a:path>
              <a:path w="3548" h="1589">
                <a:moveTo>
                  <a:pt x="3944" y="13419"/>
                </a:moveTo>
                <a:cubicBezTo>
                  <a:pt x="3985" y="13411"/>
                  <a:pt x="4027" y="13403"/>
                  <a:pt x="4068" y="13395"/>
                </a:cubicBezTo>
              </a:path>
              <a:path w="3548" h="1589">
                <a:moveTo>
                  <a:pt x="4465" y="13345"/>
                </a:moveTo>
                <a:cubicBezTo>
                  <a:pt x="4219" y="13482"/>
                  <a:pt x="4245" y="13554"/>
                  <a:pt x="4341" y="13816"/>
                </a:cubicBezTo>
                <a:cubicBezTo>
                  <a:pt x="4390" y="13950"/>
                  <a:pt x="4466" y="14041"/>
                  <a:pt x="4316" y="13940"/>
                </a:cubicBezTo>
              </a:path>
              <a:path w="3548" h="1589">
                <a:moveTo>
                  <a:pt x="4167" y="13667"/>
                </a:moveTo>
                <a:cubicBezTo>
                  <a:pt x="4272" y="13690"/>
                  <a:pt x="4627" y="13700"/>
                  <a:pt x="4638" y="13742"/>
                </a:cubicBezTo>
                <a:cubicBezTo>
                  <a:pt x="4674" y="13886"/>
                  <a:pt x="4723" y="13878"/>
                  <a:pt x="4812" y="13717"/>
                </a:cubicBezTo>
                <a:cubicBezTo>
                  <a:pt x="4829" y="13676"/>
                  <a:pt x="4845" y="13634"/>
                  <a:pt x="4862" y="13593"/>
                </a:cubicBezTo>
                <a:cubicBezTo>
                  <a:pt x="4900" y="13784"/>
                  <a:pt x="5034" y="14066"/>
                  <a:pt x="4961" y="14263"/>
                </a:cubicBezTo>
                <a:cubicBezTo>
                  <a:pt x="4808" y="14416"/>
                  <a:pt x="4725" y="14461"/>
                  <a:pt x="4539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3240" y="5153040"/>
            <a:ext cx="885960" cy="295200"/>
          </a:xfrm>
          <a:custGeom>
            <a:avLst/>
            <a:gdLst/>
            <a:ahLst/>
            <a:rect l="l" t="t" r="r" b="b"/>
            <a:pathLst>
              <a:path w="2457" h="820">
                <a:moveTo>
                  <a:pt x="1761" y="14784"/>
                </a:moveTo>
                <a:cubicBezTo>
                  <a:pt x="1901" y="14756"/>
                  <a:pt x="1958" y="14748"/>
                  <a:pt x="2059" y="14759"/>
                </a:cubicBezTo>
              </a:path>
              <a:path w="2457" h="820">
                <a:moveTo>
                  <a:pt x="2580" y="14833"/>
                </a:moveTo>
                <a:cubicBezTo>
                  <a:pt x="2482" y="14656"/>
                  <a:pt x="2316" y="14684"/>
                  <a:pt x="2183" y="14858"/>
                </a:cubicBezTo>
                <a:cubicBezTo>
                  <a:pt x="2118" y="15008"/>
                  <a:pt x="2082" y="15043"/>
                  <a:pt x="2158" y="15131"/>
                </a:cubicBezTo>
                <a:cubicBezTo>
                  <a:pt x="2472" y="15071"/>
                  <a:pt x="2406" y="15086"/>
                  <a:pt x="2480" y="14759"/>
                </a:cubicBezTo>
              </a:path>
              <a:path w="2457" h="820">
                <a:moveTo>
                  <a:pt x="2406" y="14511"/>
                </a:moveTo>
                <a:cubicBezTo>
                  <a:pt x="2459" y="14627"/>
                  <a:pt x="2588" y="14986"/>
                  <a:pt x="2629" y="15007"/>
                </a:cubicBezTo>
              </a:path>
              <a:path w="2457" h="820">
                <a:moveTo>
                  <a:pt x="2629" y="15007"/>
                </a:moveTo>
                <a:lnTo>
                  <a:pt x="2629" y="15007"/>
                </a:lnTo>
              </a:path>
              <a:path w="2457" h="820">
                <a:moveTo>
                  <a:pt x="2729" y="14784"/>
                </a:moveTo>
                <a:cubicBezTo>
                  <a:pt x="2797" y="14920"/>
                  <a:pt x="2819" y="14957"/>
                  <a:pt x="2828" y="15056"/>
                </a:cubicBezTo>
              </a:path>
              <a:path w="2457" h="820">
                <a:moveTo>
                  <a:pt x="2704" y="14585"/>
                </a:moveTo>
                <a:cubicBezTo>
                  <a:pt x="2720" y="14536"/>
                  <a:pt x="2849" y="14628"/>
                  <a:pt x="2877" y="14660"/>
                </a:cubicBezTo>
                <a:cubicBezTo>
                  <a:pt x="2977" y="14777"/>
                  <a:pt x="2990" y="14935"/>
                  <a:pt x="3101" y="15056"/>
                </a:cubicBezTo>
                <a:cubicBezTo>
                  <a:pt x="3152" y="14941"/>
                  <a:pt x="3148" y="14810"/>
                  <a:pt x="3175" y="14684"/>
                </a:cubicBezTo>
                <a:cubicBezTo>
                  <a:pt x="3235" y="14760"/>
                  <a:pt x="3349" y="14957"/>
                  <a:pt x="3373" y="14957"/>
                </a:cubicBezTo>
              </a:path>
              <a:path w="2457" h="820">
                <a:moveTo>
                  <a:pt x="3274" y="14486"/>
                </a:moveTo>
                <a:cubicBezTo>
                  <a:pt x="3307" y="14503"/>
                  <a:pt x="3340" y="14519"/>
                  <a:pt x="3373" y="14536"/>
                </a:cubicBezTo>
              </a:path>
              <a:path w="2457" h="820">
                <a:moveTo>
                  <a:pt x="3696" y="14635"/>
                </a:moveTo>
                <a:cubicBezTo>
                  <a:pt x="3655" y="14472"/>
                  <a:pt x="3511" y="14707"/>
                  <a:pt x="3497" y="14759"/>
                </a:cubicBezTo>
                <a:cubicBezTo>
                  <a:pt x="3497" y="14888"/>
                  <a:pt x="3480" y="14927"/>
                  <a:pt x="3572" y="14957"/>
                </a:cubicBezTo>
                <a:cubicBezTo>
                  <a:pt x="3813" y="14774"/>
                  <a:pt x="3738" y="14609"/>
                  <a:pt x="3671" y="14312"/>
                </a:cubicBezTo>
                <a:cubicBezTo>
                  <a:pt x="3705" y="14513"/>
                  <a:pt x="3608" y="14987"/>
                  <a:pt x="3795" y="14908"/>
                </a:cubicBezTo>
                <a:cubicBezTo>
                  <a:pt x="3812" y="14883"/>
                  <a:pt x="3828" y="14858"/>
                  <a:pt x="3845" y="14833"/>
                </a:cubicBezTo>
              </a:path>
              <a:path w="2457" h="820">
                <a:moveTo>
                  <a:pt x="3870" y="14660"/>
                </a:moveTo>
                <a:cubicBezTo>
                  <a:pt x="3968" y="14687"/>
                  <a:pt x="4068" y="14717"/>
                  <a:pt x="4167" y="14734"/>
                </a:cubicBezTo>
                <a:cubicBezTo>
                  <a:pt x="4158" y="14680"/>
                  <a:pt x="4107" y="14395"/>
                  <a:pt x="3994" y="14511"/>
                </a:cubicBezTo>
                <a:cubicBezTo>
                  <a:pt x="3865" y="14643"/>
                  <a:pt x="3824" y="15039"/>
                  <a:pt x="4118" y="14982"/>
                </a:cubicBezTo>
                <a:cubicBezTo>
                  <a:pt x="4151" y="14957"/>
                  <a:pt x="4184" y="14933"/>
                  <a:pt x="4217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4040" y="5537160"/>
            <a:ext cx="1160640" cy="222120"/>
          </a:xfrm>
          <a:custGeom>
            <a:avLst/>
            <a:gdLst/>
            <a:ahLst/>
            <a:rect l="l" t="t" r="r" b="b"/>
            <a:pathLst>
              <a:path w="3225" h="621">
                <a:moveTo>
                  <a:pt x="1538" y="15751"/>
                </a:moveTo>
                <a:cubicBezTo>
                  <a:pt x="1650" y="15796"/>
                  <a:pt x="1711" y="15795"/>
                  <a:pt x="1836" y="15801"/>
                </a:cubicBezTo>
              </a:path>
              <a:path w="3225" h="621">
                <a:moveTo>
                  <a:pt x="2431" y="15825"/>
                </a:moveTo>
                <a:cubicBezTo>
                  <a:pt x="2382" y="15713"/>
                  <a:pt x="2267" y="15592"/>
                  <a:pt x="2158" y="15751"/>
                </a:cubicBezTo>
                <a:cubicBezTo>
                  <a:pt x="1996" y="15987"/>
                  <a:pt x="2275" y="16069"/>
                  <a:pt x="2431" y="15925"/>
                </a:cubicBezTo>
                <a:cubicBezTo>
                  <a:pt x="2489" y="15828"/>
                  <a:pt x="2514" y="15818"/>
                  <a:pt x="2505" y="15751"/>
                </a:cubicBezTo>
                <a:cubicBezTo>
                  <a:pt x="2528" y="15909"/>
                  <a:pt x="2567" y="15919"/>
                  <a:pt x="2704" y="15974"/>
                </a:cubicBezTo>
              </a:path>
              <a:path w="3225" h="621">
                <a:moveTo>
                  <a:pt x="3125" y="15701"/>
                </a:moveTo>
                <a:cubicBezTo>
                  <a:pt x="2991" y="15681"/>
                  <a:pt x="2813" y="15701"/>
                  <a:pt x="2778" y="15875"/>
                </a:cubicBezTo>
                <a:cubicBezTo>
                  <a:pt x="2786" y="15900"/>
                  <a:pt x="2795" y="15924"/>
                  <a:pt x="2803" y="15949"/>
                </a:cubicBezTo>
                <a:cubicBezTo>
                  <a:pt x="3054" y="15977"/>
                  <a:pt x="3105" y="15963"/>
                  <a:pt x="3150" y="15726"/>
                </a:cubicBezTo>
              </a:path>
              <a:path w="3225" h="621">
                <a:moveTo>
                  <a:pt x="3001" y="15503"/>
                </a:moveTo>
                <a:cubicBezTo>
                  <a:pt x="3075" y="15658"/>
                  <a:pt x="3134" y="15817"/>
                  <a:pt x="3200" y="15974"/>
                </a:cubicBezTo>
              </a:path>
              <a:path w="3225" h="621">
                <a:moveTo>
                  <a:pt x="3200" y="15974"/>
                </a:moveTo>
                <a:lnTo>
                  <a:pt x="3200" y="15974"/>
                </a:lnTo>
              </a:path>
              <a:path w="3225" h="621">
                <a:moveTo>
                  <a:pt x="3621" y="15825"/>
                </a:moveTo>
                <a:cubicBezTo>
                  <a:pt x="3612" y="15726"/>
                  <a:pt x="3613" y="15726"/>
                  <a:pt x="3547" y="15652"/>
                </a:cubicBezTo>
                <a:cubicBezTo>
                  <a:pt x="3350" y="15678"/>
                  <a:pt x="3324" y="15738"/>
                  <a:pt x="3373" y="15925"/>
                </a:cubicBezTo>
                <a:cubicBezTo>
                  <a:pt x="3624" y="15924"/>
                  <a:pt x="3569" y="15907"/>
                  <a:pt x="3671" y="15677"/>
                </a:cubicBezTo>
              </a:path>
              <a:path w="3225" h="621">
                <a:moveTo>
                  <a:pt x="3497" y="15404"/>
                </a:moveTo>
                <a:cubicBezTo>
                  <a:pt x="3575" y="15576"/>
                  <a:pt x="3641" y="15753"/>
                  <a:pt x="3721" y="15925"/>
                </a:cubicBezTo>
              </a:path>
              <a:path w="3225" h="621">
                <a:moveTo>
                  <a:pt x="3721" y="15925"/>
                </a:moveTo>
                <a:lnTo>
                  <a:pt x="3721" y="15925"/>
                </a:lnTo>
              </a:path>
              <a:path w="3225" h="621">
                <a:moveTo>
                  <a:pt x="3994" y="15726"/>
                </a:moveTo>
                <a:cubicBezTo>
                  <a:pt x="4067" y="15726"/>
                  <a:pt x="4130" y="15728"/>
                  <a:pt x="4192" y="15701"/>
                </a:cubicBezTo>
                <a:cubicBezTo>
                  <a:pt x="4105" y="15648"/>
                  <a:pt x="3996" y="15543"/>
                  <a:pt x="3944" y="15726"/>
                </a:cubicBezTo>
                <a:cubicBezTo>
                  <a:pt x="3846" y="16070"/>
                  <a:pt x="4212" y="15917"/>
                  <a:pt x="4366" y="15875"/>
                </a:cubicBezTo>
              </a:path>
              <a:path w="3225" h="621">
                <a:moveTo>
                  <a:pt x="4688" y="15701"/>
                </a:moveTo>
                <a:cubicBezTo>
                  <a:pt x="4486" y="15639"/>
                  <a:pt x="4453" y="15695"/>
                  <a:pt x="4341" y="15875"/>
                </a:cubicBezTo>
                <a:cubicBezTo>
                  <a:pt x="4508" y="15947"/>
                  <a:pt x="4509" y="15920"/>
                  <a:pt x="4688" y="15850"/>
                </a:cubicBezTo>
              </a:path>
              <a:path w="3225" h="621">
                <a:moveTo>
                  <a:pt x="4638" y="15379"/>
                </a:moveTo>
                <a:cubicBezTo>
                  <a:pt x="4676" y="15561"/>
                  <a:pt x="4705" y="15750"/>
                  <a:pt x="4762" y="15925"/>
                </a:cubicBezTo>
              </a:path>
              <a:path w="3225" h="621">
                <a:moveTo>
                  <a:pt x="4762" y="15925"/>
                </a:moveTo>
                <a:lnTo>
                  <a:pt x="4762" y="1592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8320" y="5840280"/>
            <a:ext cx="1795680" cy="231840"/>
          </a:xfrm>
          <a:custGeom>
            <a:avLst/>
            <a:gdLst/>
            <a:ahLst/>
            <a:rect l="l" t="t" r="r" b="b"/>
            <a:pathLst>
              <a:path w="4987" h="646">
                <a:moveTo>
                  <a:pt x="1662" y="16694"/>
                </a:moveTo>
                <a:cubicBezTo>
                  <a:pt x="1776" y="16694"/>
                  <a:pt x="1873" y="16689"/>
                  <a:pt x="1984" y="16669"/>
                </a:cubicBezTo>
              </a:path>
              <a:path w="4987" h="646">
                <a:moveTo>
                  <a:pt x="2456" y="16421"/>
                </a:moveTo>
                <a:cubicBezTo>
                  <a:pt x="2356" y="16470"/>
                  <a:pt x="2323" y="16486"/>
                  <a:pt x="2257" y="16520"/>
                </a:cubicBezTo>
                <a:cubicBezTo>
                  <a:pt x="2312" y="16631"/>
                  <a:pt x="2483" y="16534"/>
                  <a:pt x="2555" y="16669"/>
                </a:cubicBezTo>
                <a:cubicBezTo>
                  <a:pt x="2649" y="16845"/>
                  <a:pt x="2302" y="16912"/>
                  <a:pt x="2208" y="16818"/>
                </a:cubicBezTo>
                <a:cubicBezTo>
                  <a:pt x="2208" y="16793"/>
                  <a:pt x="2208" y="16768"/>
                  <a:pt x="2208" y="16743"/>
                </a:cubicBezTo>
              </a:path>
              <a:path w="4987" h="646">
                <a:moveTo>
                  <a:pt x="2704" y="16446"/>
                </a:moveTo>
                <a:cubicBezTo>
                  <a:pt x="2717" y="16517"/>
                  <a:pt x="2757" y="16754"/>
                  <a:pt x="2828" y="16793"/>
                </a:cubicBezTo>
                <a:cubicBezTo>
                  <a:pt x="2945" y="16858"/>
                  <a:pt x="2969" y="16653"/>
                  <a:pt x="2977" y="16594"/>
                </a:cubicBezTo>
                <a:cubicBezTo>
                  <a:pt x="2977" y="16670"/>
                  <a:pt x="2983" y="16766"/>
                  <a:pt x="3076" y="16793"/>
                </a:cubicBezTo>
                <a:cubicBezTo>
                  <a:pt x="3170" y="16793"/>
                  <a:pt x="3202" y="16775"/>
                  <a:pt x="3200" y="16669"/>
                </a:cubicBezTo>
              </a:path>
              <a:path w="4987" h="646">
                <a:moveTo>
                  <a:pt x="3125" y="16371"/>
                </a:moveTo>
                <a:cubicBezTo>
                  <a:pt x="3157" y="16513"/>
                  <a:pt x="3232" y="16630"/>
                  <a:pt x="3274" y="16768"/>
                </a:cubicBezTo>
                <a:cubicBezTo>
                  <a:pt x="3274" y="16793"/>
                  <a:pt x="3274" y="16801"/>
                  <a:pt x="3274" y="16768"/>
                </a:cubicBezTo>
                <a:cubicBezTo>
                  <a:pt x="3300" y="16651"/>
                  <a:pt x="3362" y="16428"/>
                  <a:pt x="3497" y="16644"/>
                </a:cubicBezTo>
                <a:cubicBezTo>
                  <a:pt x="3619" y="16840"/>
                  <a:pt x="3297" y="16764"/>
                  <a:pt x="3225" y="16743"/>
                </a:cubicBezTo>
              </a:path>
              <a:path w="4987" h="646">
                <a:moveTo>
                  <a:pt x="3225" y="16743"/>
                </a:moveTo>
                <a:lnTo>
                  <a:pt x="3225" y="16743"/>
                </a:lnTo>
              </a:path>
              <a:path w="4987" h="646">
                <a:moveTo>
                  <a:pt x="3621" y="16346"/>
                </a:moveTo>
                <a:cubicBezTo>
                  <a:pt x="3685" y="16502"/>
                  <a:pt x="3741" y="16675"/>
                  <a:pt x="3820" y="16818"/>
                </a:cubicBezTo>
              </a:path>
              <a:path w="4987" h="646">
                <a:moveTo>
                  <a:pt x="3547" y="16545"/>
                </a:moveTo>
                <a:cubicBezTo>
                  <a:pt x="3685" y="16545"/>
                  <a:pt x="3877" y="16501"/>
                  <a:pt x="3994" y="16594"/>
                </a:cubicBezTo>
                <a:cubicBezTo>
                  <a:pt x="4046" y="16635"/>
                  <a:pt x="4076" y="16716"/>
                  <a:pt x="4118" y="16768"/>
                </a:cubicBezTo>
                <a:cubicBezTo>
                  <a:pt x="4094" y="16649"/>
                  <a:pt x="4043" y="16591"/>
                  <a:pt x="4118" y="16470"/>
                </a:cubicBezTo>
                <a:cubicBezTo>
                  <a:pt x="4197" y="16391"/>
                  <a:pt x="4229" y="16365"/>
                  <a:pt x="4316" y="16371"/>
                </a:cubicBezTo>
              </a:path>
              <a:path w="4987" h="646">
                <a:moveTo>
                  <a:pt x="4589" y="16470"/>
                </a:moveTo>
                <a:cubicBezTo>
                  <a:pt x="4446" y="16470"/>
                  <a:pt x="4383" y="16569"/>
                  <a:pt x="4366" y="16718"/>
                </a:cubicBezTo>
                <a:cubicBezTo>
                  <a:pt x="4374" y="16743"/>
                  <a:pt x="4382" y="16768"/>
                  <a:pt x="4390" y="16793"/>
                </a:cubicBezTo>
                <a:cubicBezTo>
                  <a:pt x="4503" y="16776"/>
                  <a:pt x="4667" y="16727"/>
                  <a:pt x="4564" y="16570"/>
                </a:cubicBezTo>
                <a:cubicBezTo>
                  <a:pt x="4499" y="16471"/>
                  <a:pt x="4713" y="16710"/>
                  <a:pt x="4812" y="16644"/>
                </a:cubicBezTo>
              </a:path>
              <a:path w="4987" h="646">
                <a:moveTo>
                  <a:pt x="4911" y="16470"/>
                </a:moveTo>
                <a:cubicBezTo>
                  <a:pt x="4929" y="16461"/>
                  <a:pt x="4843" y="16437"/>
                  <a:pt x="4812" y="16594"/>
                </a:cubicBezTo>
                <a:cubicBezTo>
                  <a:pt x="4755" y="16887"/>
                  <a:pt x="5053" y="16838"/>
                  <a:pt x="5159" y="16644"/>
                </a:cubicBezTo>
                <a:cubicBezTo>
                  <a:pt x="5176" y="16578"/>
                  <a:pt x="5192" y="16512"/>
                  <a:pt x="5209" y="16446"/>
                </a:cubicBezTo>
              </a:path>
              <a:path w="4987" h="646">
                <a:moveTo>
                  <a:pt x="5159" y="16222"/>
                </a:moveTo>
                <a:cubicBezTo>
                  <a:pt x="5198" y="16378"/>
                  <a:pt x="5214" y="16584"/>
                  <a:pt x="5308" y="16718"/>
                </a:cubicBezTo>
                <a:cubicBezTo>
                  <a:pt x="5308" y="16710"/>
                  <a:pt x="5308" y="16702"/>
                  <a:pt x="5308" y="16694"/>
                </a:cubicBezTo>
              </a:path>
              <a:path w="4987" h="646">
                <a:moveTo>
                  <a:pt x="5308" y="16694"/>
                </a:moveTo>
                <a:lnTo>
                  <a:pt x="5308" y="16694"/>
                </a:lnTo>
              </a:path>
              <a:path w="4987" h="646">
                <a:moveTo>
                  <a:pt x="5035" y="16446"/>
                </a:moveTo>
                <a:cubicBezTo>
                  <a:pt x="5220" y="16446"/>
                  <a:pt x="5389" y="16417"/>
                  <a:pt x="5507" y="16594"/>
                </a:cubicBezTo>
                <a:cubicBezTo>
                  <a:pt x="5544" y="16688"/>
                  <a:pt x="5537" y="16706"/>
                  <a:pt x="5581" y="16743"/>
                </a:cubicBezTo>
              </a:path>
              <a:path w="4987" h="646">
                <a:moveTo>
                  <a:pt x="5482" y="16272"/>
                </a:moveTo>
                <a:cubicBezTo>
                  <a:pt x="5442" y="16272"/>
                  <a:pt x="5444" y="16283"/>
                  <a:pt x="5507" y="16321"/>
                </a:cubicBezTo>
              </a:path>
              <a:path w="4987" h="646">
                <a:moveTo>
                  <a:pt x="5953" y="16421"/>
                </a:moveTo>
                <a:cubicBezTo>
                  <a:pt x="5815" y="16451"/>
                  <a:pt x="5714" y="16574"/>
                  <a:pt x="5829" y="16718"/>
                </a:cubicBezTo>
                <a:cubicBezTo>
                  <a:pt x="5950" y="16870"/>
                  <a:pt x="6200" y="16737"/>
                  <a:pt x="6102" y="16545"/>
                </a:cubicBezTo>
                <a:cubicBezTo>
                  <a:pt x="6048" y="16439"/>
                  <a:pt x="5977" y="16435"/>
                  <a:pt x="5879" y="16421"/>
                </a:cubicBezTo>
              </a:path>
              <a:path w="4987" h="646">
                <a:moveTo>
                  <a:pt x="6251" y="16669"/>
                </a:moveTo>
                <a:cubicBezTo>
                  <a:pt x="6329" y="16693"/>
                  <a:pt x="6246" y="16418"/>
                  <a:pt x="6424" y="16495"/>
                </a:cubicBezTo>
                <a:cubicBezTo>
                  <a:pt x="6560" y="16554"/>
                  <a:pt x="6629" y="16684"/>
                  <a:pt x="6648" y="168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1680" y="6269040"/>
            <a:ext cx="53640" cy="1440"/>
          </a:xfrm>
          <a:custGeom>
            <a:avLst/>
            <a:gdLst/>
            <a:ahLst/>
            <a:rect l="l" t="t" r="r" b="b"/>
            <a:pathLst>
              <a:path w="149" h="1">
                <a:moveTo>
                  <a:pt x="1588" y="17413"/>
                </a:moveTo>
                <a:cubicBezTo>
                  <a:pt x="1637" y="17413"/>
                  <a:pt x="1687" y="17413"/>
                  <a:pt x="1736" y="17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8880" y="6099120"/>
            <a:ext cx="982440" cy="223920"/>
          </a:xfrm>
          <a:custGeom>
            <a:avLst/>
            <a:gdLst/>
            <a:ahLst/>
            <a:rect l="l" t="t" r="r" b="b"/>
            <a:pathLst>
              <a:path w="2730" h="621">
                <a:moveTo>
                  <a:pt x="2208" y="17239"/>
                </a:moveTo>
                <a:cubicBezTo>
                  <a:pt x="2236" y="17239"/>
                  <a:pt x="2246" y="17242"/>
                  <a:pt x="2257" y="17264"/>
                </a:cubicBezTo>
                <a:cubicBezTo>
                  <a:pt x="2257" y="17229"/>
                  <a:pt x="2236" y="17098"/>
                  <a:pt x="2183" y="17140"/>
                </a:cubicBezTo>
                <a:cubicBezTo>
                  <a:pt x="2082" y="17220"/>
                  <a:pt x="2046" y="17557"/>
                  <a:pt x="2232" y="17562"/>
                </a:cubicBezTo>
                <a:cubicBezTo>
                  <a:pt x="2273" y="17545"/>
                  <a:pt x="2315" y="17529"/>
                  <a:pt x="2356" y="17512"/>
                </a:cubicBezTo>
              </a:path>
              <a:path w="2730" h="621">
                <a:moveTo>
                  <a:pt x="2505" y="17264"/>
                </a:moveTo>
                <a:cubicBezTo>
                  <a:pt x="2454" y="17368"/>
                  <a:pt x="2438" y="17406"/>
                  <a:pt x="2480" y="17487"/>
                </a:cubicBezTo>
                <a:cubicBezTo>
                  <a:pt x="2581" y="17498"/>
                  <a:pt x="2938" y="17514"/>
                  <a:pt x="2778" y="17289"/>
                </a:cubicBezTo>
                <a:cubicBezTo>
                  <a:pt x="2726" y="17216"/>
                  <a:pt x="2414" y="17264"/>
                  <a:pt x="2604" y="17264"/>
                </a:cubicBezTo>
              </a:path>
              <a:path w="2730" h="621">
                <a:moveTo>
                  <a:pt x="2877" y="17438"/>
                </a:moveTo>
                <a:cubicBezTo>
                  <a:pt x="2885" y="17454"/>
                  <a:pt x="2894" y="17471"/>
                  <a:pt x="2902" y="17487"/>
                </a:cubicBezTo>
                <a:cubicBezTo>
                  <a:pt x="2887" y="17396"/>
                  <a:pt x="2822" y="17292"/>
                  <a:pt x="2927" y="17239"/>
                </a:cubicBezTo>
                <a:cubicBezTo>
                  <a:pt x="3082" y="17161"/>
                  <a:pt x="3237" y="17339"/>
                  <a:pt x="3249" y="17487"/>
                </a:cubicBezTo>
                <a:cubicBezTo>
                  <a:pt x="3241" y="17487"/>
                  <a:pt x="3233" y="17487"/>
                  <a:pt x="3225" y="17487"/>
                </a:cubicBezTo>
              </a:path>
              <a:path w="2730" h="621">
                <a:moveTo>
                  <a:pt x="3249" y="17289"/>
                </a:moveTo>
                <a:cubicBezTo>
                  <a:pt x="3334" y="17384"/>
                  <a:pt x="3369" y="17463"/>
                  <a:pt x="3473" y="17462"/>
                </a:cubicBezTo>
                <a:cubicBezTo>
                  <a:pt x="3467" y="17416"/>
                  <a:pt x="3435" y="17084"/>
                  <a:pt x="3547" y="17140"/>
                </a:cubicBezTo>
                <a:cubicBezTo>
                  <a:pt x="3572" y="17165"/>
                  <a:pt x="3596" y="17189"/>
                  <a:pt x="3621" y="17214"/>
                </a:cubicBezTo>
              </a:path>
              <a:path w="2730" h="621">
                <a:moveTo>
                  <a:pt x="3696" y="17363"/>
                </a:moveTo>
                <a:cubicBezTo>
                  <a:pt x="3783" y="17309"/>
                  <a:pt x="3820" y="17287"/>
                  <a:pt x="3770" y="17190"/>
                </a:cubicBezTo>
                <a:cubicBezTo>
                  <a:pt x="3706" y="17248"/>
                  <a:pt x="3526" y="17440"/>
                  <a:pt x="3696" y="17512"/>
                </a:cubicBezTo>
                <a:cubicBezTo>
                  <a:pt x="3820" y="17512"/>
                  <a:pt x="3871" y="17494"/>
                  <a:pt x="3919" y="17388"/>
                </a:cubicBezTo>
              </a:path>
              <a:path w="2730" h="621">
                <a:moveTo>
                  <a:pt x="3994" y="17363"/>
                </a:moveTo>
                <a:cubicBezTo>
                  <a:pt x="4014" y="17447"/>
                  <a:pt x="4016" y="17466"/>
                  <a:pt x="4043" y="17512"/>
                </a:cubicBezTo>
                <a:cubicBezTo>
                  <a:pt x="4043" y="17411"/>
                  <a:pt x="4010" y="17341"/>
                  <a:pt x="4043" y="17239"/>
                </a:cubicBezTo>
                <a:cubicBezTo>
                  <a:pt x="4062" y="17181"/>
                  <a:pt x="4325" y="17214"/>
                  <a:pt x="4366" y="17214"/>
                </a:cubicBezTo>
              </a:path>
              <a:path w="2730" h="621">
                <a:moveTo>
                  <a:pt x="4366" y="16966"/>
                </a:moveTo>
                <a:cubicBezTo>
                  <a:pt x="4393" y="16886"/>
                  <a:pt x="4436" y="17069"/>
                  <a:pt x="4440" y="17090"/>
                </a:cubicBezTo>
                <a:cubicBezTo>
                  <a:pt x="4464" y="17200"/>
                  <a:pt x="4437" y="17521"/>
                  <a:pt x="4564" y="17537"/>
                </a:cubicBezTo>
                <a:cubicBezTo>
                  <a:pt x="4683" y="17552"/>
                  <a:pt x="4737" y="17512"/>
                  <a:pt x="4837" y="17462"/>
                </a:cubicBezTo>
              </a:path>
              <a:path w="2730" h="621">
                <a:moveTo>
                  <a:pt x="4465" y="17314"/>
                </a:moveTo>
                <a:cubicBezTo>
                  <a:pt x="4565" y="17300"/>
                  <a:pt x="4640" y="17289"/>
                  <a:pt x="4738" y="17289"/>
                </a:cubicBezTo>
              </a:path>
              <a:path w="2730" h="621">
                <a:moveTo>
                  <a:pt x="4738" y="17289"/>
                </a:moveTo>
                <a:lnTo>
                  <a:pt x="4738" y="17289"/>
                </a:lnTo>
              </a:path>
              <a:path w="2730" h="621">
                <a:moveTo>
                  <a:pt x="4366" y="17264"/>
                </a:moveTo>
                <a:cubicBezTo>
                  <a:pt x="4316" y="17264"/>
                  <a:pt x="4415" y="17264"/>
                  <a:pt x="4465" y="17264"/>
                </a:cubicBezTo>
                <a:cubicBezTo>
                  <a:pt x="4473" y="17264"/>
                  <a:pt x="4482" y="17264"/>
                  <a:pt x="4490" y="17264"/>
                </a:cubicBezTo>
              </a:path>
              <a:path w="2730" h="621">
                <a:moveTo>
                  <a:pt x="4291" y="17264"/>
                </a:moveTo>
                <a:cubicBezTo>
                  <a:pt x="4251" y="17264"/>
                  <a:pt x="4545" y="17266"/>
                  <a:pt x="4589" y="17264"/>
                </a:cubicBezTo>
                <a:cubicBezTo>
                  <a:pt x="4846" y="17252"/>
                  <a:pt x="4546" y="17324"/>
                  <a:pt x="4490" y="17338"/>
                </a:cubicBezTo>
              </a:path>
              <a:path w="2730" h="621">
                <a:moveTo>
                  <a:pt x="4192" y="17363"/>
                </a:moveTo>
                <a:cubicBezTo>
                  <a:pt x="4323" y="17347"/>
                  <a:pt x="4455" y="17297"/>
                  <a:pt x="4589" y="17314"/>
                </a:cubicBezTo>
                <a:cubicBezTo>
                  <a:pt x="4605" y="17322"/>
                  <a:pt x="4622" y="17330"/>
                  <a:pt x="4638" y="17338"/>
                </a:cubicBezTo>
              </a:path>
              <a:path w="2730" h="621">
                <a:moveTo>
                  <a:pt x="4638" y="17338"/>
                </a:moveTo>
                <a:lnTo>
                  <a:pt x="4638" y="1733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73160" y="6000840"/>
            <a:ext cx="1322640" cy="500040"/>
          </a:xfrm>
          <a:custGeom>
            <a:avLst/>
            <a:gdLst/>
            <a:ahLst/>
            <a:rect l="l" t="t" r="r" b="b"/>
            <a:pathLst>
              <a:path w="3672" h="1390">
                <a:moveTo>
                  <a:pt x="5680" y="16966"/>
                </a:moveTo>
                <a:cubicBezTo>
                  <a:pt x="5550" y="17162"/>
                  <a:pt x="5421" y="17415"/>
                  <a:pt x="5507" y="17661"/>
                </a:cubicBezTo>
                <a:cubicBezTo>
                  <a:pt x="5544" y="17767"/>
                  <a:pt x="5634" y="17751"/>
                  <a:pt x="5705" y="17735"/>
                </a:cubicBezTo>
              </a:path>
              <a:path w="3672" h="1390">
                <a:moveTo>
                  <a:pt x="5854" y="17388"/>
                </a:moveTo>
                <a:cubicBezTo>
                  <a:pt x="5904" y="17388"/>
                  <a:pt x="5953" y="17388"/>
                  <a:pt x="6003" y="17388"/>
                </a:cubicBezTo>
                <a:cubicBezTo>
                  <a:pt x="5988" y="17312"/>
                  <a:pt x="5923" y="17230"/>
                  <a:pt x="5829" y="17264"/>
                </a:cubicBezTo>
                <a:cubicBezTo>
                  <a:pt x="5669" y="17322"/>
                  <a:pt x="5770" y="17609"/>
                  <a:pt x="5904" y="17636"/>
                </a:cubicBezTo>
                <a:cubicBezTo>
                  <a:pt x="6052" y="17606"/>
                  <a:pt x="6114" y="17586"/>
                  <a:pt x="6201" y="17512"/>
                </a:cubicBezTo>
              </a:path>
              <a:path w="3672" h="1390">
                <a:moveTo>
                  <a:pt x="6201" y="17314"/>
                </a:moveTo>
                <a:cubicBezTo>
                  <a:pt x="6168" y="17357"/>
                  <a:pt x="5961" y="17645"/>
                  <a:pt x="6176" y="17611"/>
                </a:cubicBezTo>
                <a:cubicBezTo>
                  <a:pt x="6263" y="17597"/>
                  <a:pt x="6272" y="17502"/>
                  <a:pt x="6300" y="17438"/>
                </a:cubicBezTo>
                <a:cubicBezTo>
                  <a:pt x="6300" y="17584"/>
                  <a:pt x="6296" y="17769"/>
                  <a:pt x="6325" y="17909"/>
                </a:cubicBezTo>
                <a:cubicBezTo>
                  <a:pt x="6365" y="18009"/>
                  <a:pt x="6358" y="18038"/>
                  <a:pt x="6424" y="18058"/>
                </a:cubicBezTo>
                <a:cubicBezTo>
                  <a:pt x="6563" y="17905"/>
                  <a:pt x="6538" y="17801"/>
                  <a:pt x="6375" y="17661"/>
                </a:cubicBezTo>
                <a:cubicBezTo>
                  <a:pt x="6350" y="17644"/>
                  <a:pt x="6325" y="17628"/>
                  <a:pt x="6300" y="17611"/>
                </a:cubicBezTo>
              </a:path>
              <a:path w="3672" h="1390">
                <a:moveTo>
                  <a:pt x="6499" y="17264"/>
                </a:moveTo>
                <a:cubicBezTo>
                  <a:pt x="6478" y="17360"/>
                  <a:pt x="6436" y="17608"/>
                  <a:pt x="6623" y="17587"/>
                </a:cubicBezTo>
                <a:cubicBezTo>
                  <a:pt x="6756" y="17572"/>
                  <a:pt x="6747" y="17379"/>
                  <a:pt x="6747" y="17289"/>
                </a:cubicBezTo>
                <a:cubicBezTo>
                  <a:pt x="6747" y="17400"/>
                  <a:pt x="6718" y="17536"/>
                  <a:pt x="6846" y="17587"/>
                </a:cubicBezTo>
                <a:cubicBezTo>
                  <a:pt x="6948" y="17587"/>
                  <a:pt x="6982" y="17561"/>
                  <a:pt x="6970" y="17438"/>
                </a:cubicBezTo>
              </a:path>
              <a:path w="3672" h="1390">
                <a:moveTo>
                  <a:pt x="6995" y="17338"/>
                </a:moveTo>
                <a:cubicBezTo>
                  <a:pt x="6995" y="17380"/>
                  <a:pt x="7016" y="17594"/>
                  <a:pt x="7020" y="17537"/>
                </a:cubicBezTo>
                <a:cubicBezTo>
                  <a:pt x="7020" y="17512"/>
                  <a:pt x="7020" y="17487"/>
                  <a:pt x="7020" y="17462"/>
                </a:cubicBezTo>
              </a:path>
              <a:path w="3672" h="1390">
                <a:moveTo>
                  <a:pt x="7020" y="17462"/>
                </a:moveTo>
                <a:lnTo>
                  <a:pt x="7020" y="17462"/>
                </a:lnTo>
              </a:path>
              <a:path w="3672" h="1390">
                <a:moveTo>
                  <a:pt x="6945" y="17165"/>
                </a:moveTo>
                <a:lnTo>
                  <a:pt x="6945" y="17165"/>
                </a:lnTo>
              </a:path>
              <a:path w="3672" h="1390">
                <a:moveTo>
                  <a:pt x="7045" y="17289"/>
                </a:moveTo>
                <a:cubicBezTo>
                  <a:pt x="7077" y="17367"/>
                  <a:pt x="7115" y="17535"/>
                  <a:pt x="7193" y="17562"/>
                </a:cubicBezTo>
                <a:cubicBezTo>
                  <a:pt x="7252" y="17431"/>
                  <a:pt x="7325" y="17298"/>
                  <a:pt x="7293" y="17165"/>
                </a:cubicBezTo>
              </a:path>
              <a:path w="3672" h="1390">
                <a:moveTo>
                  <a:pt x="7541" y="17115"/>
                </a:moveTo>
                <a:cubicBezTo>
                  <a:pt x="7483" y="17184"/>
                  <a:pt x="7210" y="17487"/>
                  <a:pt x="7441" y="17487"/>
                </a:cubicBezTo>
                <a:cubicBezTo>
                  <a:pt x="7603" y="17487"/>
                  <a:pt x="7559" y="17352"/>
                  <a:pt x="7565" y="17239"/>
                </a:cubicBezTo>
                <a:cubicBezTo>
                  <a:pt x="7560" y="17327"/>
                  <a:pt x="7641" y="17665"/>
                  <a:pt x="7789" y="17438"/>
                </a:cubicBezTo>
                <a:cubicBezTo>
                  <a:pt x="7805" y="17380"/>
                  <a:pt x="7822" y="17322"/>
                  <a:pt x="7838" y="17264"/>
                </a:cubicBezTo>
              </a:path>
              <a:path w="3672" h="1390">
                <a:moveTo>
                  <a:pt x="7764" y="16991"/>
                </a:moveTo>
                <a:cubicBezTo>
                  <a:pt x="7803" y="17164"/>
                  <a:pt x="7689" y="17544"/>
                  <a:pt x="7863" y="17512"/>
                </a:cubicBezTo>
                <a:cubicBezTo>
                  <a:pt x="7880" y="17495"/>
                  <a:pt x="7896" y="17479"/>
                  <a:pt x="7913" y="17462"/>
                </a:cubicBezTo>
              </a:path>
              <a:path w="3672" h="1390">
                <a:moveTo>
                  <a:pt x="7913" y="17462"/>
                </a:moveTo>
                <a:lnTo>
                  <a:pt x="7913" y="17462"/>
                </a:lnTo>
              </a:path>
              <a:path w="3672" h="1390">
                <a:moveTo>
                  <a:pt x="8012" y="17264"/>
                </a:moveTo>
                <a:cubicBezTo>
                  <a:pt x="8110" y="17256"/>
                  <a:pt x="8125" y="17260"/>
                  <a:pt x="8186" y="17190"/>
                </a:cubicBezTo>
                <a:cubicBezTo>
                  <a:pt x="8062" y="17083"/>
                  <a:pt x="7955" y="17192"/>
                  <a:pt x="7938" y="17363"/>
                </a:cubicBezTo>
                <a:cubicBezTo>
                  <a:pt x="7946" y="17396"/>
                  <a:pt x="7954" y="17429"/>
                  <a:pt x="7962" y="17462"/>
                </a:cubicBezTo>
                <a:cubicBezTo>
                  <a:pt x="8161" y="17515"/>
                  <a:pt x="8194" y="17443"/>
                  <a:pt x="8334" y="17289"/>
                </a:cubicBezTo>
              </a:path>
              <a:path w="3672" h="1390">
                <a:moveTo>
                  <a:pt x="8310" y="17388"/>
                </a:moveTo>
                <a:cubicBezTo>
                  <a:pt x="8310" y="17313"/>
                  <a:pt x="8318" y="17140"/>
                  <a:pt x="8434" y="17140"/>
                </a:cubicBezTo>
                <a:cubicBezTo>
                  <a:pt x="8580" y="17140"/>
                  <a:pt x="8529" y="17376"/>
                  <a:pt x="8582" y="17438"/>
                </a:cubicBezTo>
                <a:cubicBezTo>
                  <a:pt x="8652" y="17438"/>
                  <a:pt x="8688" y="17403"/>
                  <a:pt x="8706" y="17314"/>
                </a:cubicBezTo>
              </a:path>
              <a:path w="3672" h="1390">
                <a:moveTo>
                  <a:pt x="8781" y="16842"/>
                </a:moveTo>
                <a:cubicBezTo>
                  <a:pt x="8797" y="16980"/>
                  <a:pt x="8756" y="17299"/>
                  <a:pt x="8855" y="17413"/>
                </a:cubicBezTo>
                <a:cubicBezTo>
                  <a:pt x="8924" y="17493"/>
                  <a:pt x="9111" y="17434"/>
                  <a:pt x="9079" y="17314"/>
                </a:cubicBezTo>
                <a:cubicBezTo>
                  <a:pt x="9062" y="17289"/>
                  <a:pt x="9046" y="17264"/>
                  <a:pt x="9029" y="17239"/>
                </a:cubicBezTo>
              </a:path>
              <a:path w="3672" h="1390">
                <a:moveTo>
                  <a:pt x="8731" y="17140"/>
                </a:moveTo>
                <a:cubicBezTo>
                  <a:pt x="8824" y="17122"/>
                  <a:pt x="8906" y="17128"/>
                  <a:pt x="8954" y="17066"/>
                </a:cubicBezTo>
              </a:path>
              <a:path w="3672" h="1390">
                <a:moveTo>
                  <a:pt x="8954" y="17066"/>
                </a:moveTo>
                <a:lnTo>
                  <a:pt x="8954" y="17066"/>
                </a:lnTo>
              </a:path>
              <a:path w="3672" h="1390">
                <a:moveTo>
                  <a:pt x="8806" y="16669"/>
                </a:moveTo>
                <a:cubicBezTo>
                  <a:pt x="8924" y="16807"/>
                  <a:pt x="9153" y="17036"/>
                  <a:pt x="9153" y="17239"/>
                </a:cubicBezTo>
                <a:cubicBezTo>
                  <a:pt x="9104" y="17360"/>
                  <a:pt x="9090" y="17399"/>
                  <a:pt x="9004" y="17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4960" y="6367320"/>
            <a:ext cx="108000" cy="34920"/>
          </a:xfrm>
          <a:custGeom>
            <a:avLst/>
            <a:gdLst/>
            <a:ahLst/>
            <a:rect l="l" t="t" r="r" b="b"/>
            <a:pathLst>
              <a:path w="299" h="100">
                <a:moveTo>
                  <a:pt x="1488" y="17785"/>
                </a:moveTo>
                <a:cubicBezTo>
                  <a:pt x="1604" y="17723"/>
                  <a:pt x="1657" y="17686"/>
                  <a:pt x="1786" y="176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5880" y="6313320"/>
            <a:ext cx="973080" cy="231840"/>
          </a:xfrm>
          <a:custGeom>
            <a:avLst/>
            <a:gdLst/>
            <a:ahLst/>
            <a:rect l="l" t="t" r="r" b="b"/>
            <a:pathLst>
              <a:path w="2705" h="646">
                <a:moveTo>
                  <a:pt x="2332" y="17611"/>
                </a:moveTo>
                <a:cubicBezTo>
                  <a:pt x="2313" y="17624"/>
                  <a:pt x="2242" y="17616"/>
                  <a:pt x="2183" y="17611"/>
                </a:cubicBezTo>
                <a:cubicBezTo>
                  <a:pt x="2183" y="17706"/>
                  <a:pt x="2126" y="17909"/>
                  <a:pt x="2282" y="17909"/>
                </a:cubicBezTo>
                <a:cubicBezTo>
                  <a:pt x="2390" y="17855"/>
                  <a:pt x="2430" y="17831"/>
                  <a:pt x="2480" y="17760"/>
                </a:cubicBezTo>
              </a:path>
              <a:path w="2705" h="646">
                <a:moveTo>
                  <a:pt x="2530" y="17636"/>
                </a:moveTo>
                <a:cubicBezTo>
                  <a:pt x="2518" y="17734"/>
                  <a:pt x="2488" y="17801"/>
                  <a:pt x="2530" y="17884"/>
                </a:cubicBezTo>
                <a:cubicBezTo>
                  <a:pt x="2627" y="17835"/>
                  <a:pt x="2736" y="17796"/>
                  <a:pt x="2629" y="17735"/>
                </a:cubicBezTo>
                <a:cubicBezTo>
                  <a:pt x="2604" y="17719"/>
                  <a:pt x="2580" y="17702"/>
                  <a:pt x="2555" y="17686"/>
                </a:cubicBezTo>
              </a:path>
              <a:path w="2705" h="646">
                <a:moveTo>
                  <a:pt x="2555" y="17686"/>
                </a:moveTo>
                <a:lnTo>
                  <a:pt x="2555" y="17686"/>
                </a:lnTo>
              </a:path>
              <a:path w="2705" h="646">
                <a:moveTo>
                  <a:pt x="2853" y="17760"/>
                </a:moveTo>
                <a:cubicBezTo>
                  <a:pt x="2879" y="17804"/>
                  <a:pt x="2902" y="17895"/>
                  <a:pt x="2902" y="17859"/>
                </a:cubicBezTo>
                <a:cubicBezTo>
                  <a:pt x="2886" y="17787"/>
                  <a:pt x="2877" y="17674"/>
                  <a:pt x="3001" y="17711"/>
                </a:cubicBezTo>
                <a:cubicBezTo>
                  <a:pt x="3094" y="17757"/>
                  <a:pt x="3124" y="17767"/>
                  <a:pt x="3150" y="17835"/>
                </a:cubicBezTo>
                <a:cubicBezTo>
                  <a:pt x="3134" y="17756"/>
                  <a:pt x="3117" y="17712"/>
                  <a:pt x="3150" y="17636"/>
                </a:cubicBezTo>
                <a:cubicBezTo>
                  <a:pt x="3234" y="17692"/>
                  <a:pt x="3301" y="17761"/>
                  <a:pt x="3373" y="17835"/>
                </a:cubicBezTo>
              </a:path>
              <a:path w="2705" h="646">
                <a:moveTo>
                  <a:pt x="3522" y="17785"/>
                </a:moveTo>
                <a:cubicBezTo>
                  <a:pt x="3559" y="17845"/>
                  <a:pt x="3691" y="18156"/>
                  <a:pt x="3746" y="18182"/>
                </a:cubicBezTo>
                <a:cubicBezTo>
                  <a:pt x="3746" y="18174"/>
                  <a:pt x="3746" y="18165"/>
                  <a:pt x="3746" y="18157"/>
                </a:cubicBezTo>
                <a:cubicBezTo>
                  <a:pt x="3709" y="18116"/>
                  <a:pt x="3377" y="17774"/>
                  <a:pt x="3572" y="17735"/>
                </a:cubicBezTo>
                <a:cubicBezTo>
                  <a:pt x="3695" y="17760"/>
                  <a:pt x="3736" y="17768"/>
                  <a:pt x="3795" y="17835"/>
                </a:cubicBezTo>
                <a:cubicBezTo>
                  <a:pt x="3763" y="17943"/>
                  <a:pt x="3640" y="18025"/>
                  <a:pt x="3497" y="17959"/>
                </a:cubicBezTo>
                <a:cubicBezTo>
                  <a:pt x="3489" y="17942"/>
                  <a:pt x="3481" y="17926"/>
                  <a:pt x="3473" y="17909"/>
                </a:cubicBezTo>
              </a:path>
              <a:path w="2705" h="646">
                <a:moveTo>
                  <a:pt x="3473" y="17909"/>
                </a:moveTo>
                <a:lnTo>
                  <a:pt x="3473" y="17909"/>
                </a:lnTo>
              </a:path>
              <a:path w="2705" h="646">
                <a:moveTo>
                  <a:pt x="3894" y="17661"/>
                </a:moveTo>
                <a:cubicBezTo>
                  <a:pt x="3836" y="17759"/>
                  <a:pt x="3733" y="17809"/>
                  <a:pt x="3795" y="17959"/>
                </a:cubicBezTo>
                <a:cubicBezTo>
                  <a:pt x="3877" y="18158"/>
                  <a:pt x="3969" y="17795"/>
                  <a:pt x="3969" y="17760"/>
                </a:cubicBezTo>
                <a:cubicBezTo>
                  <a:pt x="3898" y="17689"/>
                  <a:pt x="4063" y="17929"/>
                  <a:pt x="4068" y="17934"/>
                </a:cubicBezTo>
                <a:cubicBezTo>
                  <a:pt x="4176" y="18042"/>
                  <a:pt x="4193" y="17766"/>
                  <a:pt x="4217" y="17785"/>
                </a:cubicBezTo>
                <a:cubicBezTo>
                  <a:pt x="4217" y="17853"/>
                  <a:pt x="4230" y="17883"/>
                  <a:pt x="4291" y="17909"/>
                </a:cubicBezTo>
                <a:cubicBezTo>
                  <a:pt x="4291" y="17917"/>
                  <a:pt x="4291" y="17926"/>
                  <a:pt x="4291" y="17934"/>
                </a:cubicBezTo>
                <a:cubicBezTo>
                  <a:pt x="4274" y="17832"/>
                  <a:pt x="4221" y="17722"/>
                  <a:pt x="4316" y="17636"/>
                </a:cubicBezTo>
                <a:cubicBezTo>
                  <a:pt x="4341" y="17628"/>
                  <a:pt x="4365" y="17619"/>
                  <a:pt x="4390" y="17611"/>
                </a:cubicBezTo>
              </a:path>
              <a:path w="2705" h="646">
                <a:moveTo>
                  <a:pt x="4539" y="17661"/>
                </a:moveTo>
                <a:cubicBezTo>
                  <a:pt x="4604" y="17622"/>
                  <a:pt x="4656" y="17517"/>
                  <a:pt x="4638" y="17562"/>
                </a:cubicBezTo>
                <a:cubicBezTo>
                  <a:pt x="4589" y="17683"/>
                  <a:pt x="4583" y="17867"/>
                  <a:pt x="4762" y="17835"/>
                </a:cubicBezTo>
                <a:cubicBezTo>
                  <a:pt x="4804" y="17818"/>
                  <a:pt x="4845" y="17802"/>
                  <a:pt x="4887" y="177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re going to use a part (fraction) of a part (fraction), you would need to multiply fr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89240" y="1401840"/>
            <a:ext cx="1332000" cy="54000"/>
          </a:xfrm>
          <a:custGeom>
            <a:avLst/>
            <a:gdLst/>
            <a:ahLst/>
            <a:rect l="l" t="t" r="r" b="b"/>
            <a:pathLst>
              <a:path w="3696" h="150">
                <a:moveTo>
                  <a:pt x="11361" y="4018"/>
                </a:moveTo>
                <a:cubicBezTo>
                  <a:pt x="11486" y="4047"/>
                  <a:pt x="11604" y="4043"/>
                  <a:pt x="11733" y="4043"/>
                </a:cubicBezTo>
                <a:cubicBezTo>
                  <a:pt x="12024" y="4043"/>
                  <a:pt x="12311" y="4030"/>
                  <a:pt x="12601" y="4018"/>
                </a:cubicBezTo>
                <a:cubicBezTo>
                  <a:pt x="12839" y="4008"/>
                  <a:pt x="13083" y="4013"/>
                  <a:pt x="13320" y="3994"/>
                </a:cubicBezTo>
                <a:cubicBezTo>
                  <a:pt x="13535" y="3977"/>
                  <a:pt x="13750" y="3929"/>
                  <a:pt x="13965" y="3919"/>
                </a:cubicBezTo>
                <a:cubicBezTo>
                  <a:pt x="14255" y="3905"/>
                  <a:pt x="14542" y="3894"/>
                  <a:pt x="14833" y="3894"/>
                </a:cubicBezTo>
                <a:cubicBezTo>
                  <a:pt x="14907" y="3894"/>
                  <a:pt x="14982" y="3894"/>
                  <a:pt x="15056" y="38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16840" y="955800"/>
            <a:ext cx="465120" cy="527040"/>
          </a:xfrm>
          <a:custGeom>
            <a:avLst/>
            <a:gdLst/>
            <a:ahLst/>
            <a:rect l="l" t="t" r="r" b="b"/>
            <a:pathLst>
              <a:path w="1291" h="1465">
                <a:moveTo>
                  <a:pt x="19769" y="3994"/>
                </a:moveTo>
                <a:cubicBezTo>
                  <a:pt x="19888" y="4063"/>
                  <a:pt x="19991" y="4120"/>
                  <a:pt x="20141" y="4118"/>
                </a:cubicBezTo>
                <a:cubicBezTo>
                  <a:pt x="20437" y="4113"/>
                  <a:pt x="20666" y="3990"/>
                  <a:pt x="20861" y="3770"/>
                </a:cubicBezTo>
                <a:cubicBezTo>
                  <a:pt x="20984" y="3631"/>
                  <a:pt x="21055" y="3480"/>
                  <a:pt x="21059" y="3299"/>
                </a:cubicBezTo>
                <a:cubicBezTo>
                  <a:pt x="21064" y="3095"/>
                  <a:pt x="20994" y="2941"/>
                  <a:pt x="20836" y="2803"/>
                </a:cubicBezTo>
                <a:cubicBezTo>
                  <a:pt x="20677" y="2665"/>
                  <a:pt x="20469" y="2605"/>
                  <a:pt x="20265" y="2679"/>
                </a:cubicBezTo>
                <a:cubicBezTo>
                  <a:pt x="20008" y="2773"/>
                  <a:pt x="19899" y="3105"/>
                  <a:pt x="19869" y="3349"/>
                </a:cubicBezTo>
                <a:cubicBezTo>
                  <a:pt x="19829" y="3673"/>
                  <a:pt x="19964" y="3893"/>
                  <a:pt x="20290" y="3944"/>
                </a:cubicBezTo>
                <a:cubicBezTo>
                  <a:pt x="20423" y="3965"/>
                  <a:pt x="20514" y="3933"/>
                  <a:pt x="20638" y="39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5120" y="1973160"/>
            <a:ext cx="2732040" cy="1893960"/>
          </a:xfrm>
          <a:custGeom>
            <a:avLst/>
            <a:gdLst/>
            <a:ahLst/>
            <a:rect l="l" t="t" r="r" b="b"/>
            <a:pathLst>
              <a:path w="7591" h="5259">
                <a:moveTo>
                  <a:pt x="2257" y="5581"/>
                </a:moveTo>
                <a:cubicBezTo>
                  <a:pt x="2427" y="5483"/>
                  <a:pt x="2711" y="5489"/>
                  <a:pt x="2902" y="5482"/>
                </a:cubicBezTo>
                <a:cubicBezTo>
                  <a:pt x="3298" y="5468"/>
                  <a:pt x="3697" y="5482"/>
                  <a:pt x="4093" y="5482"/>
                </a:cubicBezTo>
              </a:path>
              <a:path w="7591" h="5259">
                <a:moveTo>
                  <a:pt x="4167" y="7813"/>
                </a:moveTo>
                <a:cubicBezTo>
                  <a:pt x="4167" y="7759"/>
                  <a:pt x="4156" y="7904"/>
                  <a:pt x="4142" y="7938"/>
                </a:cubicBezTo>
                <a:cubicBezTo>
                  <a:pt x="4118" y="7987"/>
                  <a:pt x="4109" y="8004"/>
                  <a:pt x="4068" y="8012"/>
                </a:cubicBezTo>
                <a:cubicBezTo>
                  <a:pt x="4087" y="8070"/>
                  <a:pt x="4169" y="7962"/>
                  <a:pt x="4242" y="7962"/>
                </a:cubicBezTo>
                <a:cubicBezTo>
                  <a:pt x="4353" y="7962"/>
                  <a:pt x="4471" y="8173"/>
                  <a:pt x="4539" y="8086"/>
                </a:cubicBezTo>
                <a:cubicBezTo>
                  <a:pt x="4547" y="8061"/>
                  <a:pt x="4556" y="8037"/>
                  <a:pt x="4564" y="8012"/>
                </a:cubicBezTo>
              </a:path>
              <a:path w="7591" h="5259">
                <a:moveTo>
                  <a:pt x="4440" y="7466"/>
                </a:moveTo>
                <a:cubicBezTo>
                  <a:pt x="4486" y="7697"/>
                  <a:pt x="4532" y="7926"/>
                  <a:pt x="4564" y="8161"/>
                </a:cubicBezTo>
                <a:cubicBezTo>
                  <a:pt x="4578" y="8266"/>
                  <a:pt x="4589" y="8335"/>
                  <a:pt x="4589" y="8434"/>
                </a:cubicBezTo>
              </a:path>
              <a:path w="7591" h="5259">
                <a:moveTo>
                  <a:pt x="3621" y="8731"/>
                </a:moveTo>
                <a:cubicBezTo>
                  <a:pt x="3869" y="8731"/>
                  <a:pt x="4145" y="8686"/>
                  <a:pt x="4390" y="8657"/>
                </a:cubicBezTo>
                <a:cubicBezTo>
                  <a:pt x="4633" y="8628"/>
                  <a:pt x="4868" y="8577"/>
                  <a:pt x="5110" y="8558"/>
                </a:cubicBezTo>
              </a:path>
              <a:path w="7591" h="5259">
                <a:moveTo>
                  <a:pt x="4614" y="8905"/>
                </a:moveTo>
                <a:cubicBezTo>
                  <a:pt x="4655" y="8841"/>
                  <a:pt x="4362" y="8946"/>
                  <a:pt x="4316" y="8954"/>
                </a:cubicBezTo>
                <a:cubicBezTo>
                  <a:pt x="4191" y="8976"/>
                  <a:pt x="4110" y="8942"/>
                  <a:pt x="4142" y="9054"/>
                </a:cubicBezTo>
                <a:cubicBezTo>
                  <a:pt x="4190" y="9220"/>
                  <a:pt x="4204" y="9270"/>
                  <a:pt x="4242" y="9376"/>
                </a:cubicBezTo>
                <a:cubicBezTo>
                  <a:pt x="4242" y="9384"/>
                  <a:pt x="4242" y="9393"/>
                  <a:pt x="4242" y="9401"/>
                </a:cubicBezTo>
                <a:cubicBezTo>
                  <a:pt x="4253" y="9357"/>
                  <a:pt x="4282" y="9313"/>
                  <a:pt x="4316" y="9277"/>
                </a:cubicBezTo>
                <a:cubicBezTo>
                  <a:pt x="4432" y="9156"/>
                  <a:pt x="4652" y="9117"/>
                  <a:pt x="4738" y="9302"/>
                </a:cubicBezTo>
                <a:cubicBezTo>
                  <a:pt x="4861" y="9568"/>
                  <a:pt x="4599" y="9678"/>
                  <a:pt x="4390" y="9674"/>
                </a:cubicBezTo>
                <a:cubicBezTo>
                  <a:pt x="4317" y="9673"/>
                  <a:pt x="4225" y="9659"/>
                  <a:pt x="4167" y="9624"/>
                </a:cubicBezTo>
              </a:path>
              <a:path w="7591" h="5259">
                <a:moveTo>
                  <a:pt x="1588" y="7888"/>
                </a:moveTo>
                <a:cubicBezTo>
                  <a:pt x="1609" y="7931"/>
                  <a:pt x="1684" y="7781"/>
                  <a:pt x="1761" y="7789"/>
                </a:cubicBezTo>
                <a:cubicBezTo>
                  <a:pt x="2198" y="7836"/>
                  <a:pt x="1884" y="8437"/>
                  <a:pt x="1687" y="8558"/>
                </a:cubicBezTo>
                <a:cubicBezTo>
                  <a:pt x="1491" y="8679"/>
                  <a:pt x="1407" y="8553"/>
                  <a:pt x="1364" y="8434"/>
                </a:cubicBezTo>
                <a:cubicBezTo>
                  <a:pt x="1597" y="8385"/>
                  <a:pt x="1751" y="8392"/>
                  <a:pt x="1960" y="8533"/>
                </a:cubicBezTo>
                <a:cubicBezTo>
                  <a:pt x="1982" y="8555"/>
                  <a:pt x="1990" y="8560"/>
                  <a:pt x="1984" y="8582"/>
                </a:cubicBezTo>
              </a:path>
              <a:path w="7591" h="5259">
                <a:moveTo>
                  <a:pt x="1290" y="8954"/>
                </a:moveTo>
                <a:cubicBezTo>
                  <a:pt x="1572" y="8880"/>
                  <a:pt x="1841" y="8817"/>
                  <a:pt x="2133" y="8806"/>
                </a:cubicBezTo>
                <a:cubicBezTo>
                  <a:pt x="2141" y="8806"/>
                  <a:pt x="2150" y="8806"/>
                  <a:pt x="2158" y="8806"/>
                </a:cubicBezTo>
              </a:path>
              <a:path w="7591" h="5259">
                <a:moveTo>
                  <a:pt x="2158" y="8806"/>
                </a:moveTo>
                <a:lnTo>
                  <a:pt x="2158" y="8806"/>
                </a:lnTo>
              </a:path>
              <a:path w="7591" h="5259">
                <a:moveTo>
                  <a:pt x="1488" y="9327"/>
                </a:moveTo>
                <a:cubicBezTo>
                  <a:pt x="1559" y="9247"/>
                  <a:pt x="1776" y="9075"/>
                  <a:pt x="1885" y="9227"/>
                </a:cubicBezTo>
                <a:cubicBezTo>
                  <a:pt x="1978" y="9357"/>
                  <a:pt x="1703" y="9476"/>
                  <a:pt x="1637" y="9500"/>
                </a:cubicBezTo>
                <a:cubicBezTo>
                  <a:pt x="1785" y="9387"/>
                  <a:pt x="1793" y="9405"/>
                  <a:pt x="1960" y="9475"/>
                </a:cubicBezTo>
                <a:cubicBezTo>
                  <a:pt x="1904" y="9636"/>
                  <a:pt x="1700" y="9951"/>
                  <a:pt x="1463" y="9798"/>
                </a:cubicBezTo>
                <a:cubicBezTo>
                  <a:pt x="1455" y="9757"/>
                  <a:pt x="1447" y="9715"/>
                  <a:pt x="1439" y="9674"/>
                </a:cubicBezTo>
              </a:path>
              <a:path w="7591" h="5259">
                <a:moveTo>
                  <a:pt x="2753" y="8905"/>
                </a:moveTo>
                <a:cubicBezTo>
                  <a:pt x="2731" y="8835"/>
                  <a:pt x="2666" y="8935"/>
                  <a:pt x="2654" y="8979"/>
                </a:cubicBezTo>
                <a:cubicBezTo>
                  <a:pt x="2602" y="9163"/>
                  <a:pt x="2919" y="9024"/>
                  <a:pt x="2952" y="8930"/>
                </a:cubicBezTo>
                <a:cubicBezTo>
                  <a:pt x="3005" y="8778"/>
                  <a:pt x="2791" y="8801"/>
                  <a:pt x="2729" y="8830"/>
                </a:cubicBezTo>
                <a:cubicBezTo>
                  <a:pt x="2737" y="8830"/>
                  <a:pt x="2745" y="8830"/>
                  <a:pt x="2753" y="8830"/>
                </a:cubicBezTo>
              </a:path>
              <a:path w="7591" h="5259">
                <a:moveTo>
                  <a:pt x="3274" y="8334"/>
                </a:moveTo>
                <a:cubicBezTo>
                  <a:pt x="3195" y="8277"/>
                  <a:pt x="3124" y="8338"/>
                  <a:pt x="3101" y="8434"/>
                </a:cubicBezTo>
                <a:cubicBezTo>
                  <a:pt x="3066" y="8583"/>
                  <a:pt x="3161" y="8729"/>
                  <a:pt x="3225" y="8855"/>
                </a:cubicBezTo>
              </a:path>
              <a:path w="7591" h="5259">
                <a:moveTo>
                  <a:pt x="2952" y="8682"/>
                </a:moveTo>
                <a:cubicBezTo>
                  <a:pt x="3049" y="8643"/>
                  <a:pt x="3155" y="8614"/>
                  <a:pt x="3249" y="8582"/>
                </a:cubicBezTo>
                <a:cubicBezTo>
                  <a:pt x="3266" y="8574"/>
                  <a:pt x="3282" y="8566"/>
                  <a:pt x="3299" y="8558"/>
                </a:cubicBezTo>
              </a:path>
              <a:path w="7591" h="5259">
                <a:moveTo>
                  <a:pt x="3299" y="8558"/>
                </a:moveTo>
                <a:lnTo>
                  <a:pt x="3299" y="8558"/>
                </a:lnTo>
              </a:path>
              <a:path w="7591" h="5259">
                <a:moveTo>
                  <a:pt x="5457" y="10740"/>
                </a:moveTo>
                <a:lnTo>
                  <a:pt x="5457" y="10740"/>
                </a:lnTo>
              </a:path>
              <a:path w="7591" h="5259">
                <a:moveTo>
                  <a:pt x="2803" y="9426"/>
                </a:moveTo>
                <a:cubicBezTo>
                  <a:pt x="2880" y="9479"/>
                  <a:pt x="2951" y="9510"/>
                  <a:pt x="3076" y="9500"/>
                </a:cubicBezTo>
                <a:cubicBezTo>
                  <a:pt x="3233" y="9487"/>
                  <a:pt x="3468" y="9399"/>
                  <a:pt x="3597" y="9302"/>
                </a:cubicBezTo>
                <a:cubicBezTo>
                  <a:pt x="3723" y="9207"/>
                  <a:pt x="3766" y="9105"/>
                  <a:pt x="3770" y="8954"/>
                </a:cubicBezTo>
                <a:cubicBezTo>
                  <a:pt x="3774" y="8825"/>
                  <a:pt x="3749" y="8687"/>
                  <a:pt x="3671" y="8582"/>
                </a:cubicBezTo>
                <a:cubicBezTo>
                  <a:pt x="3620" y="8514"/>
                  <a:pt x="3499" y="8422"/>
                  <a:pt x="3423" y="8384"/>
                </a:cubicBezTo>
                <a:cubicBezTo>
                  <a:pt x="3333" y="8339"/>
                  <a:pt x="3207" y="8295"/>
                  <a:pt x="3101" y="8285"/>
                </a:cubicBezTo>
                <a:cubicBezTo>
                  <a:pt x="2956" y="8271"/>
                  <a:pt x="2805" y="8316"/>
                  <a:pt x="2679" y="8384"/>
                </a:cubicBezTo>
                <a:cubicBezTo>
                  <a:pt x="2548" y="8454"/>
                  <a:pt x="2381" y="8547"/>
                  <a:pt x="2282" y="8657"/>
                </a:cubicBezTo>
                <a:cubicBezTo>
                  <a:pt x="2187" y="8762"/>
                  <a:pt x="2137" y="8891"/>
                  <a:pt x="2183" y="9029"/>
                </a:cubicBezTo>
                <a:cubicBezTo>
                  <a:pt x="2226" y="9159"/>
                  <a:pt x="2328" y="9283"/>
                  <a:pt x="2456" y="9327"/>
                </a:cubicBezTo>
                <a:cubicBezTo>
                  <a:pt x="2552" y="9360"/>
                  <a:pt x="2621" y="9351"/>
                  <a:pt x="2704" y="9327"/>
                </a:cubicBezTo>
              </a:path>
              <a:path w="7591" h="5259">
                <a:moveTo>
                  <a:pt x="2902" y="9947"/>
                </a:moveTo>
                <a:cubicBezTo>
                  <a:pt x="2986" y="9947"/>
                  <a:pt x="3088" y="10022"/>
                  <a:pt x="3150" y="10071"/>
                </a:cubicBezTo>
                <a:cubicBezTo>
                  <a:pt x="3212" y="10120"/>
                  <a:pt x="3213" y="10155"/>
                  <a:pt x="3274" y="10170"/>
                </a:cubicBezTo>
              </a:path>
              <a:path w="7591" h="5259">
                <a:moveTo>
                  <a:pt x="3274" y="9773"/>
                </a:moveTo>
                <a:cubicBezTo>
                  <a:pt x="3230" y="9883"/>
                  <a:pt x="3137" y="10007"/>
                  <a:pt x="3076" y="10120"/>
                </a:cubicBezTo>
                <a:cubicBezTo>
                  <a:pt x="3050" y="10169"/>
                  <a:pt x="3013" y="10221"/>
                  <a:pt x="3001" y="10269"/>
                </a:cubicBezTo>
              </a:path>
              <a:path w="7591" h="5259">
                <a:moveTo>
                  <a:pt x="3001" y="10269"/>
                </a:moveTo>
                <a:lnTo>
                  <a:pt x="3001" y="10269"/>
                </a:lnTo>
              </a:path>
              <a:path w="7591" h="5259">
                <a:moveTo>
                  <a:pt x="5705" y="8657"/>
                </a:moveTo>
                <a:cubicBezTo>
                  <a:pt x="5775" y="8626"/>
                  <a:pt x="5900" y="8554"/>
                  <a:pt x="5978" y="8558"/>
                </a:cubicBezTo>
                <a:cubicBezTo>
                  <a:pt x="5986" y="8566"/>
                  <a:pt x="5995" y="8574"/>
                  <a:pt x="6003" y="8582"/>
                </a:cubicBezTo>
              </a:path>
              <a:path w="7591" h="5259">
                <a:moveTo>
                  <a:pt x="5829" y="8855"/>
                </a:moveTo>
                <a:cubicBezTo>
                  <a:pt x="5936" y="8828"/>
                  <a:pt x="6044" y="8797"/>
                  <a:pt x="6152" y="8781"/>
                </a:cubicBezTo>
              </a:path>
              <a:path w="7591" h="5259">
                <a:moveTo>
                  <a:pt x="6152" y="8781"/>
                </a:moveTo>
                <a:lnTo>
                  <a:pt x="6152" y="8781"/>
                </a:lnTo>
              </a:path>
              <a:path w="7591" h="5259">
                <a:moveTo>
                  <a:pt x="7987" y="7590"/>
                </a:moveTo>
                <a:cubicBezTo>
                  <a:pt x="7980" y="7570"/>
                  <a:pt x="7948" y="7507"/>
                  <a:pt x="7913" y="7491"/>
                </a:cubicBezTo>
                <a:cubicBezTo>
                  <a:pt x="7757" y="7419"/>
                  <a:pt x="7610" y="7524"/>
                  <a:pt x="7491" y="7615"/>
                </a:cubicBezTo>
                <a:cubicBezTo>
                  <a:pt x="7483" y="7623"/>
                  <a:pt x="7474" y="7632"/>
                  <a:pt x="7466" y="7640"/>
                </a:cubicBezTo>
                <a:cubicBezTo>
                  <a:pt x="7537" y="7816"/>
                  <a:pt x="7687" y="7856"/>
                  <a:pt x="7789" y="8012"/>
                </a:cubicBezTo>
                <a:cubicBezTo>
                  <a:pt x="7884" y="8156"/>
                  <a:pt x="7838" y="8218"/>
                  <a:pt x="7764" y="8334"/>
                </a:cubicBezTo>
                <a:cubicBezTo>
                  <a:pt x="7590" y="8236"/>
                  <a:pt x="7566" y="8116"/>
                  <a:pt x="7640" y="7913"/>
                </a:cubicBezTo>
                <a:cubicBezTo>
                  <a:pt x="7680" y="7803"/>
                  <a:pt x="7838" y="7658"/>
                  <a:pt x="7838" y="7541"/>
                </a:cubicBezTo>
                <a:cubicBezTo>
                  <a:pt x="7838" y="7496"/>
                  <a:pt x="7793" y="7596"/>
                  <a:pt x="7789" y="7640"/>
                </a:cubicBezTo>
              </a:path>
              <a:path w="7591" h="5259">
                <a:moveTo>
                  <a:pt x="7094" y="8607"/>
                </a:moveTo>
                <a:cubicBezTo>
                  <a:pt x="7159" y="8570"/>
                  <a:pt x="7261" y="8567"/>
                  <a:pt x="7367" y="8558"/>
                </a:cubicBezTo>
                <a:cubicBezTo>
                  <a:pt x="7788" y="8523"/>
                  <a:pt x="8210" y="8472"/>
                  <a:pt x="8632" y="8458"/>
                </a:cubicBezTo>
                <a:cubicBezTo>
                  <a:pt x="8640" y="8458"/>
                  <a:pt x="8649" y="8458"/>
                  <a:pt x="8657" y="8458"/>
                </a:cubicBezTo>
              </a:path>
              <a:path w="7591" h="5259">
                <a:moveTo>
                  <a:pt x="7441" y="8781"/>
                </a:moveTo>
                <a:cubicBezTo>
                  <a:pt x="7441" y="8930"/>
                  <a:pt x="7464" y="9077"/>
                  <a:pt x="7466" y="9227"/>
                </a:cubicBezTo>
                <a:cubicBezTo>
                  <a:pt x="7469" y="9381"/>
                  <a:pt x="7421" y="9483"/>
                  <a:pt x="7516" y="9327"/>
                </a:cubicBezTo>
              </a:path>
              <a:path w="7591" h="5259">
                <a:moveTo>
                  <a:pt x="8186" y="8756"/>
                </a:moveTo>
                <a:cubicBezTo>
                  <a:pt x="8097" y="8756"/>
                  <a:pt x="8026" y="8761"/>
                  <a:pt x="7938" y="8781"/>
                </a:cubicBezTo>
                <a:cubicBezTo>
                  <a:pt x="7903" y="8789"/>
                  <a:pt x="7767" y="8793"/>
                  <a:pt x="7764" y="8830"/>
                </a:cubicBezTo>
                <a:cubicBezTo>
                  <a:pt x="7756" y="8927"/>
                  <a:pt x="7772" y="9009"/>
                  <a:pt x="7789" y="9103"/>
                </a:cubicBezTo>
                <a:cubicBezTo>
                  <a:pt x="7819" y="9083"/>
                  <a:pt x="7823" y="9000"/>
                  <a:pt x="7888" y="8979"/>
                </a:cubicBezTo>
                <a:cubicBezTo>
                  <a:pt x="7999" y="8943"/>
                  <a:pt x="8126" y="9010"/>
                  <a:pt x="8186" y="9103"/>
                </a:cubicBezTo>
                <a:cubicBezTo>
                  <a:pt x="8262" y="9220"/>
                  <a:pt x="8170" y="9312"/>
                  <a:pt x="8062" y="9351"/>
                </a:cubicBezTo>
                <a:cubicBezTo>
                  <a:pt x="7984" y="9379"/>
                  <a:pt x="7917" y="9376"/>
                  <a:pt x="7838" y="9376"/>
                </a:cubicBezTo>
              </a:path>
              <a:path w="7591" h="5259">
                <a:moveTo>
                  <a:pt x="2803" y="7342"/>
                </a:moveTo>
                <a:cubicBezTo>
                  <a:pt x="2887" y="7363"/>
                  <a:pt x="2981" y="7482"/>
                  <a:pt x="3051" y="7541"/>
                </a:cubicBezTo>
                <a:cubicBezTo>
                  <a:pt x="3059" y="7549"/>
                  <a:pt x="3068" y="7557"/>
                  <a:pt x="3076" y="7565"/>
                </a:cubicBezTo>
              </a:path>
              <a:path w="7591" h="5259">
                <a:moveTo>
                  <a:pt x="3026" y="7218"/>
                </a:moveTo>
                <a:cubicBezTo>
                  <a:pt x="2975" y="7321"/>
                  <a:pt x="2970" y="7448"/>
                  <a:pt x="2927" y="7541"/>
                </a:cubicBezTo>
                <a:cubicBezTo>
                  <a:pt x="2902" y="7541"/>
                  <a:pt x="2894" y="7541"/>
                  <a:pt x="2902" y="7565"/>
                </a:cubicBezTo>
              </a:path>
              <a:path w="7591" h="5259">
                <a:moveTo>
                  <a:pt x="2902" y="7565"/>
                </a:moveTo>
                <a:lnTo>
                  <a:pt x="2902" y="7565"/>
                </a:lnTo>
              </a:path>
              <a:path w="7591" h="5259">
                <a:moveTo>
                  <a:pt x="5011" y="7441"/>
                </a:moveTo>
                <a:cubicBezTo>
                  <a:pt x="5274" y="7304"/>
                  <a:pt x="5554" y="7216"/>
                  <a:pt x="5854" y="7193"/>
                </a:cubicBezTo>
                <a:cubicBezTo>
                  <a:pt x="6111" y="7173"/>
                  <a:pt x="6446" y="7158"/>
                  <a:pt x="6697" y="7243"/>
                </a:cubicBezTo>
                <a:cubicBezTo>
                  <a:pt x="6762" y="7265"/>
                  <a:pt x="6832" y="7295"/>
                  <a:pt x="6896" y="7317"/>
                </a:cubicBezTo>
              </a:path>
              <a:path w="7591" h="5259">
                <a:moveTo>
                  <a:pt x="5060" y="9847"/>
                </a:moveTo>
                <a:cubicBezTo>
                  <a:pt x="5084" y="9850"/>
                  <a:pt x="5216" y="9899"/>
                  <a:pt x="5283" y="9922"/>
                </a:cubicBezTo>
                <a:cubicBezTo>
                  <a:pt x="5533" y="10007"/>
                  <a:pt x="5815" y="10032"/>
                  <a:pt x="6077" y="10021"/>
                </a:cubicBezTo>
                <a:cubicBezTo>
                  <a:pt x="6383" y="10008"/>
                  <a:pt x="6698" y="9973"/>
                  <a:pt x="6995" y="9897"/>
                </a:cubicBezTo>
                <a:cubicBezTo>
                  <a:pt x="7223" y="9839"/>
                  <a:pt x="7387" y="9753"/>
                  <a:pt x="7590" y="9649"/>
                </a:cubicBezTo>
                <a:cubicBezTo>
                  <a:pt x="7632" y="9628"/>
                  <a:pt x="7677" y="9616"/>
                  <a:pt x="7714" y="9599"/>
                </a:cubicBezTo>
              </a:path>
              <a:path w="7591" h="5259">
                <a:moveTo>
                  <a:pt x="7193" y="9475"/>
                </a:moveTo>
                <a:cubicBezTo>
                  <a:pt x="7268" y="9512"/>
                  <a:pt x="7360" y="9564"/>
                  <a:pt x="7441" y="9599"/>
                </a:cubicBezTo>
                <a:cubicBezTo>
                  <a:pt x="7597" y="9667"/>
                  <a:pt x="7760" y="9609"/>
                  <a:pt x="7913" y="9575"/>
                </a:cubicBezTo>
                <a:cubicBezTo>
                  <a:pt x="8057" y="9543"/>
                  <a:pt x="8211" y="9517"/>
                  <a:pt x="8334" y="9426"/>
                </a:cubicBezTo>
                <a:cubicBezTo>
                  <a:pt x="8451" y="9339"/>
                  <a:pt x="8576" y="9200"/>
                  <a:pt x="8657" y="9079"/>
                </a:cubicBezTo>
                <a:cubicBezTo>
                  <a:pt x="8769" y="8912"/>
                  <a:pt x="8815" y="8752"/>
                  <a:pt x="8855" y="8558"/>
                </a:cubicBezTo>
                <a:cubicBezTo>
                  <a:pt x="8891" y="8384"/>
                  <a:pt x="8864" y="8258"/>
                  <a:pt x="8830" y="8086"/>
                </a:cubicBezTo>
                <a:cubicBezTo>
                  <a:pt x="8800" y="7932"/>
                  <a:pt x="8776" y="7802"/>
                  <a:pt x="8706" y="7665"/>
                </a:cubicBezTo>
                <a:cubicBezTo>
                  <a:pt x="8659" y="7572"/>
                  <a:pt x="8592" y="7434"/>
                  <a:pt x="8508" y="7367"/>
                </a:cubicBezTo>
                <a:cubicBezTo>
                  <a:pt x="8371" y="7257"/>
                  <a:pt x="8135" y="7186"/>
                  <a:pt x="7962" y="7169"/>
                </a:cubicBezTo>
                <a:cubicBezTo>
                  <a:pt x="7809" y="7154"/>
                  <a:pt x="7687" y="7199"/>
                  <a:pt x="7541" y="7218"/>
                </a:cubicBezTo>
                <a:cubicBezTo>
                  <a:pt x="7420" y="7234"/>
                  <a:pt x="7308" y="7266"/>
                  <a:pt x="7193" y="7317"/>
                </a:cubicBezTo>
                <a:cubicBezTo>
                  <a:pt x="7076" y="7368"/>
                  <a:pt x="6971" y="7418"/>
                  <a:pt x="6896" y="7516"/>
                </a:cubicBezTo>
                <a:cubicBezTo>
                  <a:pt x="6802" y="7638"/>
                  <a:pt x="6780" y="7794"/>
                  <a:pt x="6747" y="7938"/>
                </a:cubicBezTo>
                <a:cubicBezTo>
                  <a:pt x="6720" y="8056"/>
                  <a:pt x="6722" y="8164"/>
                  <a:pt x="6722" y="8285"/>
                </a:cubicBezTo>
                <a:cubicBezTo>
                  <a:pt x="6722" y="8399"/>
                  <a:pt x="6728" y="8544"/>
                  <a:pt x="6747" y="8657"/>
                </a:cubicBezTo>
                <a:cubicBezTo>
                  <a:pt x="6766" y="8768"/>
                  <a:pt x="6789" y="8871"/>
                  <a:pt x="6821" y="8979"/>
                </a:cubicBezTo>
                <a:cubicBezTo>
                  <a:pt x="6849" y="9075"/>
                  <a:pt x="6870" y="9161"/>
                  <a:pt x="6896" y="9252"/>
                </a:cubicBezTo>
                <a:cubicBezTo>
                  <a:pt x="6916" y="9320"/>
                  <a:pt x="6913" y="9390"/>
                  <a:pt x="6945" y="9451"/>
                </a:cubicBezTo>
                <a:cubicBezTo>
                  <a:pt x="6975" y="9508"/>
                  <a:pt x="7015" y="9534"/>
                  <a:pt x="7069" y="9575"/>
                </a:cubicBezTo>
                <a:cubicBezTo>
                  <a:pt x="7123" y="9616"/>
                  <a:pt x="7171" y="9638"/>
                  <a:pt x="7218" y="9674"/>
                </a:cubicBezTo>
                <a:cubicBezTo>
                  <a:pt x="7226" y="9682"/>
                  <a:pt x="7235" y="9691"/>
                  <a:pt x="7243" y="9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multiply fra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Practic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547640" y="2097000"/>
                <a:ext cx="7128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841320" y="3300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536840" y="3035160"/>
                <a:ext cx="73656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-224280" y="4495680"/>
            <a:ext cx="967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thirds of the school is participating in the pump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st this week.  If one eight of the two thirds wins a prize,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ction of the school will win priz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76240" y="2143080"/>
            <a:ext cx="260640" cy="731880"/>
          </a:xfrm>
          <a:custGeom>
            <a:avLst/>
            <a:gdLst/>
            <a:ahLst/>
            <a:rect l="l" t="t" r="r" b="b"/>
            <a:pathLst>
              <a:path w="720" h="2035">
                <a:moveTo>
                  <a:pt x="5060" y="6052"/>
                </a:moveTo>
                <a:cubicBezTo>
                  <a:pt x="5185" y="6003"/>
                  <a:pt x="5219" y="5941"/>
                  <a:pt x="5383" y="5953"/>
                </a:cubicBezTo>
                <a:cubicBezTo>
                  <a:pt x="5488" y="5961"/>
                  <a:pt x="5518" y="6030"/>
                  <a:pt x="5606" y="6052"/>
                </a:cubicBezTo>
              </a:path>
              <a:path w="720" h="2035">
                <a:moveTo>
                  <a:pt x="4936" y="7789"/>
                </a:moveTo>
                <a:cubicBezTo>
                  <a:pt x="5016" y="7988"/>
                  <a:pt x="5198" y="8013"/>
                  <a:pt x="5407" y="7962"/>
                </a:cubicBezTo>
                <a:cubicBezTo>
                  <a:pt x="5555" y="7899"/>
                  <a:pt x="5594" y="7894"/>
                  <a:pt x="5655" y="78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19200" y="2017800"/>
            <a:ext cx="974880" cy="876240"/>
          </a:xfrm>
          <a:custGeom>
            <a:avLst/>
            <a:gdLst/>
            <a:ahLst/>
            <a:rect l="l" t="t" r="r" b="b"/>
            <a:pathLst>
              <a:path w="2705" h="2432">
                <a:moveTo>
                  <a:pt x="6722" y="6796"/>
                </a:moveTo>
                <a:cubicBezTo>
                  <a:pt x="6838" y="6780"/>
                  <a:pt x="6951" y="6755"/>
                  <a:pt x="7069" y="6747"/>
                </a:cubicBezTo>
              </a:path>
              <a:path w="2705" h="2432">
                <a:moveTo>
                  <a:pt x="6871" y="6970"/>
                </a:moveTo>
                <a:cubicBezTo>
                  <a:pt x="7020" y="6945"/>
                  <a:pt x="7070" y="6937"/>
                  <a:pt x="7169" y="6921"/>
                </a:cubicBezTo>
              </a:path>
              <a:path w="2705" h="2432">
                <a:moveTo>
                  <a:pt x="7169" y="6921"/>
                </a:moveTo>
                <a:lnTo>
                  <a:pt x="7169" y="6921"/>
                </a:lnTo>
              </a:path>
              <a:path w="2705" h="2432">
                <a:moveTo>
                  <a:pt x="8806" y="6350"/>
                </a:moveTo>
                <a:cubicBezTo>
                  <a:pt x="8680" y="6212"/>
                  <a:pt x="8527" y="6169"/>
                  <a:pt x="8384" y="6350"/>
                </a:cubicBezTo>
                <a:cubicBezTo>
                  <a:pt x="8358" y="6452"/>
                  <a:pt x="8351" y="6487"/>
                  <a:pt x="8409" y="6548"/>
                </a:cubicBezTo>
                <a:cubicBezTo>
                  <a:pt x="8591" y="6508"/>
                  <a:pt x="8668" y="6438"/>
                  <a:pt x="8806" y="6300"/>
                </a:cubicBezTo>
                <a:cubicBezTo>
                  <a:pt x="8829" y="6429"/>
                  <a:pt x="8949" y="6739"/>
                  <a:pt x="8880" y="6871"/>
                </a:cubicBezTo>
                <a:cubicBezTo>
                  <a:pt x="8847" y="6888"/>
                  <a:pt x="8814" y="6904"/>
                  <a:pt x="8781" y="6921"/>
                </a:cubicBezTo>
              </a:path>
              <a:path w="2705" h="2432">
                <a:moveTo>
                  <a:pt x="8409" y="7094"/>
                </a:moveTo>
                <a:cubicBezTo>
                  <a:pt x="8667" y="7082"/>
                  <a:pt x="8920" y="7049"/>
                  <a:pt x="9178" y="7045"/>
                </a:cubicBezTo>
                <a:cubicBezTo>
                  <a:pt x="9269" y="7045"/>
                  <a:pt x="9310" y="7012"/>
                  <a:pt x="9302" y="7069"/>
                </a:cubicBezTo>
              </a:path>
              <a:path w="2705" h="2432">
                <a:moveTo>
                  <a:pt x="8012" y="7441"/>
                </a:moveTo>
                <a:cubicBezTo>
                  <a:pt x="8191" y="7378"/>
                  <a:pt x="8241" y="7403"/>
                  <a:pt x="8384" y="7516"/>
                </a:cubicBezTo>
                <a:cubicBezTo>
                  <a:pt x="8266" y="7713"/>
                  <a:pt x="8107" y="7890"/>
                  <a:pt x="7838" y="7838"/>
                </a:cubicBezTo>
                <a:cubicBezTo>
                  <a:pt x="7822" y="7822"/>
                  <a:pt x="7805" y="7805"/>
                  <a:pt x="7789" y="7789"/>
                </a:cubicBezTo>
                <a:cubicBezTo>
                  <a:pt x="7963" y="7652"/>
                  <a:pt x="8048" y="7649"/>
                  <a:pt x="8260" y="7714"/>
                </a:cubicBezTo>
                <a:cubicBezTo>
                  <a:pt x="8320" y="7734"/>
                  <a:pt x="8335" y="7733"/>
                  <a:pt x="8359" y="7764"/>
                </a:cubicBezTo>
              </a:path>
              <a:path w="2705" h="2432">
                <a:moveTo>
                  <a:pt x="8806" y="7441"/>
                </a:moveTo>
                <a:cubicBezTo>
                  <a:pt x="8687" y="7494"/>
                  <a:pt x="8565" y="7633"/>
                  <a:pt x="8632" y="7789"/>
                </a:cubicBezTo>
                <a:cubicBezTo>
                  <a:pt x="8719" y="7993"/>
                  <a:pt x="9040" y="7793"/>
                  <a:pt x="9004" y="7615"/>
                </a:cubicBezTo>
                <a:cubicBezTo>
                  <a:pt x="8939" y="7528"/>
                  <a:pt x="8928" y="7500"/>
                  <a:pt x="8855" y="7491"/>
                </a:cubicBezTo>
              </a:path>
              <a:path w="2705" h="2432">
                <a:moveTo>
                  <a:pt x="7392" y="7020"/>
                </a:moveTo>
                <a:cubicBezTo>
                  <a:pt x="7392" y="7221"/>
                  <a:pt x="7404" y="7417"/>
                  <a:pt x="7417" y="7615"/>
                </a:cubicBezTo>
                <a:cubicBezTo>
                  <a:pt x="7426" y="7742"/>
                  <a:pt x="7414" y="7810"/>
                  <a:pt x="7491" y="7888"/>
                </a:cubicBezTo>
                <a:cubicBezTo>
                  <a:pt x="7585" y="7983"/>
                  <a:pt x="7741" y="7984"/>
                  <a:pt x="7863" y="7987"/>
                </a:cubicBezTo>
                <a:cubicBezTo>
                  <a:pt x="7990" y="7990"/>
                  <a:pt x="8134" y="7993"/>
                  <a:pt x="8260" y="8012"/>
                </a:cubicBezTo>
                <a:cubicBezTo>
                  <a:pt x="8400" y="8033"/>
                  <a:pt x="8492" y="8024"/>
                  <a:pt x="8632" y="8012"/>
                </a:cubicBezTo>
                <a:cubicBezTo>
                  <a:pt x="8781" y="7999"/>
                  <a:pt x="8933" y="7998"/>
                  <a:pt x="9079" y="7962"/>
                </a:cubicBezTo>
                <a:cubicBezTo>
                  <a:pt x="9153" y="7944"/>
                  <a:pt x="9202" y="7918"/>
                  <a:pt x="9252" y="7863"/>
                </a:cubicBezTo>
                <a:cubicBezTo>
                  <a:pt x="9322" y="7787"/>
                  <a:pt x="9364" y="7618"/>
                  <a:pt x="9376" y="7516"/>
                </a:cubicBezTo>
                <a:cubicBezTo>
                  <a:pt x="9393" y="7368"/>
                  <a:pt x="9381" y="7216"/>
                  <a:pt x="9401" y="7069"/>
                </a:cubicBezTo>
                <a:cubicBezTo>
                  <a:pt x="9422" y="6910"/>
                  <a:pt x="9426" y="6760"/>
                  <a:pt x="9426" y="6598"/>
                </a:cubicBezTo>
                <a:cubicBezTo>
                  <a:pt x="9426" y="6416"/>
                  <a:pt x="9443" y="6230"/>
                  <a:pt x="9401" y="6052"/>
                </a:cubicBezTo>
                <a:cubicBezTo>
                  <a:pt x="9378" y="5954"/>
                  <a:pt x="9386" y="5843"/>
                  <a:pt x="9327" y="5755"/>
                </a:cubicBezTo>
                <a:cubicBezTo>
                  <a:pt x="9274" y="5676"/>
                  <a:pt x="9201" y="5626"/>
                  <a:pt x="9103" y="5606"/>
                </a:cubicBezTo>
                <a:cubicBezTo>
                  <a:pt x="8767" y="5536"/>
                  <a:pt x="8291" y="5585"/>
                  <a:pt x="7962" y="5631"/>
                </a:cubicBezTo>
                <a:cubicBezTo>
                  <a:pt x="7860" y="5645"/>
                  <a:pt x="7844" y="5658"/>
                  <a:pt x="7789" y="5705"/>
                </a:cubicBezTo>
                <a:cubicBezTo>
                  <a:pt x="7679" y="5797"/>
                  <a:pt x="7652" y="5943"/>
                  <a:pt x="7615" y="6077"/>
                </a:cubicBezTo>
                <a:cubicBezTo>
                  <a:pt x="7587" y="6181"/>
                  <a:pt x="7550" y="6342"/>
                  <a:pt x="7565" y="6449"/>
                </a:cubicBezTo>
                <a:cubicBezTo>
                  <a:pt x="7579" y="6549"/>
                  <a:pt x="7570" y="6596"/>
                  <a:pt x="7565" y="6697"/>
                </a:cubicBezTo>
                <a:cubicBezTo>
                  <a:pt x="7561" y="6783"/>
                  <a:pt x="7543" y="6860"/>
                  <a:pt x="7541" y="6945"/>
                </a:cubicBezTo>
                <a:cubicBezTo>
                  <a:pt x="7539" y="7037"/>
                  <a:pt x="7536" y="7129"/>
                  <a:pt x="7516" y="7218"/>
                </a:cubicBezTo>
                <a:cubicBezTo>
                  <a:pt x="7512" y="7234"/>
                  <a:pt x="7497" y="7271"/>
                  <a:pt x="7491" y="72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04960" y="3062160"/>
            <a:ext cx="295200" cy="849600"/>
          </a:xfrm>
          <a:custGeom>
            <a:avLst/>
            <a:gdLst/>
            <a:ahLst/>
            <a:rect l="l" t="t" r="r" b="b"/>
            <a:pathLst>
              <a:path w="819" h="2357">
                <a:moveTo>
                  <a:pt x="5011" y="8607"/>
                </a:moveTo>
                <a:cubicBezTo>
                  <a:pt x="5132" y="8546"/>
                  <a:pt x="5265" y="8476"/>
                  <a:pt x="5407" y="8508"/>
                </a:cubicBezTo>
                <a:cubicBezTo>
                  <a:pt x="5489" y="8527"/>
                  <a:pt x="5528" y="8597"/>
                  <a:pt x="5556" y="8582"/>
                </a:cubicBezTo>
              </a:path>
              <a:path w="819" h="2357">
                <a:moveTo>
                  <a:pt x="4738" y="10666"/>
                </a:moveTo>
                <a:cubicBezTo>
                  <a:pt x="4752" y="10722"/>
                  <a:pt x="4814" y="10778"/>
                  <a:pt x="4862" y="10815"/>
                </a:cubicBezTo>
                <a:cubicBezTo>
                  <a:pt x="4956" y="10889"/>
                  <a:pt x="5124" y="10886"/>
                  <a:pt x="5234" y="10840"/>
                </a:cubicBezTo>
                <a:cubicBezTo>
                  <a:pt x="5301" y="10812"/>
                  <a:pt x="5366" y="10742"/>
                  <a:pt x="5432" y="10716"/>
                </a:cubicBezTo>
                <a:cubicBezTo>
                  <a:pt x="5470" y="10701"/>
                  <a:pt x="5443" y="10704"/>
                  <a:pt x="5482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00200" y="3062160"/>
            <a:ext cx="1000080" cy="706680"/>
          </a:xfrm>
          <a:custGeom>
            <a:avLst/>
            <a:gdLst/>
            <a:ahLst/>
            <a:rect l="l" t="t" r="r" b="b"/>
            <a:pathLst>
              <a:path w="2779" h="1961">
                <a:moveTo>
                  <a:pt x="6970" y="9599"/>
                </a:moveTo>
                <a:cubicBezTo>
                  <a:pt x="7020" y="9599"/>
                  <a:pt x="7069" y="9599"/>
                  <a:pt x="7119" y="9599"/>
                </a:cubicBezTo>
              </a:path>
              <a:path w="2779" h="1961">
                <a:moveTo>
                  <a:pt x="6945" y="9748"/>
                </a:moveTo>
                <a:cubicBezTo>
                  <a:pt x="7062" y="9748"/>
                  <a:pt x="7097" y="9750"/>
                  <a:pt x="7169" y="9723"/>
                </a:cubicBezTo>
              </a:path>
              <a:path w="2779" h="1961">
                <a:moveTo>
                  <a:pt x="7169" y="9723"/>
                </a:moveTo>
                <a:lnTo>
                  <a:pt x="7169" y="9723"/>
                </a:lnTo>
              </a:path>
              <a:path w="2779" h="1961">
                <a:moveTo>
                  <a:pt x="8508" y="8756"/>
                </a:moveTo>
                <a:cubicBezTo>
                  <a:pt x="8608" y="8756"/>
                  <a:pt x="8709" y="8728"/>
                  <a:pt x="8806" y="8706"/>
                </a:cubicBezTo>
                <a:cubicBezTo>
                  <a:pt x="8880" y="8688"/>
                  <a:pt x="8887" y="8680"/>
                  <a:pt x="8930" y="8682"/>
                </a:cubicBezTo>
                <a:cubicBezTo>
                  <a:pt x="8906" y="8825"/>
                  <a:pt x="8845" y="8958"/>
                  <a:pt x="8830" y="9103"/>
                </a:cubicBezTo>
                <a:cubicBezTo>
                  <a:pt x="8830" y="9111"/>
                  <a:pt x="8830" y="9120"/>
                  <a:pt x="8830" y="9128"/>
                </a:cubicBezTo>
              </a:path>
              <a:path w="2779" h="1961">
                <a:moveTo>
                  <a:pt x="8285" y="9475"/>
                </a:moveTo>
                <a:cubicBezTo>
                  <a:pt x="8507" y="9448"/>
                  <a:pt x="8730" y="9424"/>
                  <a:pt x="8954" y="9401"/>
                </a:cubicBezTo>
                <a:cubicBezTo>
                  <a:pt x="9094" y="9387"/>
                  <a:pt x="9207" y="9356"/>
                  <a:pt x="9327" y="9401"/>
                </a:cubicBezTo>
              </a:path>
              <a:path w="2779" h="1961">
                <a:moveTo>
                  <a:pt x="8458" y="9699"/>
                </a:moveTo>
                <a:cubicBezTo>
                  <a:pt x="8438" y="9874"/>
                  <a:pt x="8434" y="10043"/>
                  <a:pt x="8434" y="10220"/>
                </a:cubicBezTo>
              </a:path>
              <a:path w="2779" h="1961">
                <a:moveTo>
                  <a:pt x="8905" y="9674"/>
                </a:moveTo>
                <a:cubicBezTo>
                  <a:pt x="8890" y="9735"/>
                  <a:pt x="8852" y="9805"/>
                  <a:pt x="8830" y="9872"/>
                </a:cubicBezTo>
                <a:cubicBezTo>
                  <a:pt x="8802" y="9957"/>
                  <a:pt x="8806" y="10032"/>
                  <a:pt x="8806" y="10120"/>
                </a:cubicBezTo>
                <a:cubicBezTo>
                  <a:pt x="8806" y="10174"/>
                  <a:pt x="8844" y="10200"/>
                  <a:pt x="8905" y="10220"/>
                </a:cubicBezTo>
                <a:cubicBezTo>
                  <a:pt x="8974" y="10243"/>
                  <a:pt x="9070" y="10207"/>
                  <a:pt x="9128" y="10170"/>
                </a:cubicBezTo>
                <a:cubicBezTo>
                  <a:pt x="9171" y="10142"/>
                  <a:pt x="9198" y="10095"/>
                  <a:pt x="9203" y="10046"/>
                </a:cubicBezTo>
                <a:cubicBezTo>
                  <a:pt x="9208" y="9991"/>
                  <a:pt x="9196" y="9989"/>
                  <a:pt x="9153" y="9971"/>
                </a:cubicBezTo>
                <a:cubicBezTo>
                  <a:pt x="9080" y="9941"/>
                  <a:pt x="9045" y="9976"/>
                  <a:pt x="9004" y="10046"/>
                </a:cubicBezTo>
                <a:cubicBezTo>
                  <a:pt x="8990" y="10069"/>
                  <a:pt x="8953" y="10169"/>
                  <a:pt x="8979" y="10195"/>
                </a:cubicBezTo>
                <a:cubicBezTo>
                  <a:pt x="9004" y="10195"/>
                  <a:pt x="9012" y="10195"/>
                  <a:pt x="9004" y="10220"/>
                </a:cubicBezTo>
              </a:path>
              <a:path w="2779" h="1961">
                <a:moveTo>
                  <a:pt x="8830" y="8533"/>
                </a:moveTo>
                <a:cubicBezTo>
                  <a:pt x="8726" y="8548"/>
                  <a:pt x="8613" y="8575"/>
                  <a:pt x="8508" y="8582"/>
                </a:cubicBezTo>
                <a:cubicBezTo>
                  <a:pt x="8309" y="8595"/>
                  <a:pt x="8110" y="8589"/>
                  <a:pt x="7913" y="8607"/>
                </a:cubicBezTo>
                <a:cubicBezTo>
                  <a:pt x="7851" y="8613"/>
                  <a:pt x="7819" y="8618"/>
                  <a:pt x="7764" y="8632"/>
                </a:cubicBezTo>
                <a:cubicBezTo>
                  <a:pt x="7797" y="8773"/>
                  <a:pt x="7827" y="8933"/>
                  <a:pt x="7838" y="9079"/>
                </a:cubicBezTo>
                <a:cubicBezTo>
                  <a:pt x="7854" y="9287"/>
                  <a:pt x="7846" y="9495"/>
                  <a:pt x="7838" y="9699"/>
                </a:cubicBezTo>
                <a:cubicBezTo>
                  <a:pt x="7828" y="9955"/>
                  <a:pt x="7838" y="10212"/>
                  <a:pt x="7838" y="10468"/>
                </a:cubicBezTo>
                <a:cubicBezTo>
                  <a:pt x="7965" y="10425"/>
                  <a:pt x="8008" y="10450"/>
                  <a:pt x="8136" y="10443"/>
                </a:cubicBezTo>
                <a:cubicBezTo>
                  <a:pt x="8303" y="10433"/>
                  <a:pt x="8459" y="10393"/>
                  <a:pt x="8632" y="10393"/>
                </a:cubicBezTo>
                <a:cubicBezTo>
                  <a:pt x="8822" y="10393"/>
                  <a:pt x="8992" y="10428"/>
                  <a:pt x="9178" y="10443"/>
                </a:cubicBezTo>
                <a:cubicBezTo>
                  <a:pt x="9351" y="10457"/>
                  <a:pt x="9503" y="10449"/>
                  <a:pt x="9674" y="10443"/>
                </a:cubicBezTo>
                <a:cubicBezTo>
                  <a:pt x="9699" y="10443"/>
                  <a:pt x="9707" y="10443"/>
                  <a:pt x="9723" y="10443"/>
                </a:cubicBezTo>
                <a:cubicBezTo>
                  <a:pt x="9699" y="10324"/>
                  <a:pt x="9677" y="10218"/>
                  <a:pt x="9674" y="10096"/>
                </a:cubicBezTo>
                <a:cubicBezTo>
                  <a:pt x="9670" y="9897"/>
                  <a:pt x="9673" y="9697"/>
                  <a:pt x="9649" y="9500"/>
                </a:cubicBezTo>
                <a:cubicBezTo>
                  <a:pt x="9634" y="9380"/>
                  <a:pt x="9624" y="9245"/>
                  <a:pt x="9599" y="9128"/>
                </a:cubicBezTo>
                <a:cubicBezTo>
                  <a:pt x="9581" y="9044"/>
                  <a:pt x="9560" y="8966"/>
                  <a:pt x="9550" y="8880"/>
                </a:cubicBezTo>
                <a:cubicBezTo>
                  <a:pt x="9542" y="8807"/>
                  <a:pt x="9528" y="8779"/>
                  <a:pt x="9525" y="8706"/>
                </a:cubicBezTo>
                <a:cubicBezTo>
                  <a:pt x="9523" y="8648"/>
                  <a:pt x="9525" y="8591"/>
                  <a:pt x="9525" y="8533"/>
                </a:cubicBezTo>
                <a:cubicBezTo>
                  <a:pt x="9307" y="8533"/>
                  <a:pt x="9089" y="8524"/>
                  <a:pt x="8880" y="8508"/>
                </a:cubicBezTo>
                <a:cubicBezTo>
                  <a:pt x="8746" y="8498"/>
                  <a:pt x="8613" y="8507"/>
                  <a:pt x="8483" y="8533"/>
                </a:cubicBezTo>
                <a:cubicBezTo>
                  <a:pt x="8406" y="8548"/>
                  <a:pt x="8302" y="8569"/>
                  <a:pt x="8235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51080" y="5749920"/>
            <a:ext cx="266760" cy="573120"/>
          </a:xfrm>
          <a:custGeom>
            <a:avLst/>
            <a:gdLst/>
            <a:ahLst/>
            <a:rect l="l" t="t" r="r" b="b"/>
            <a:pathLst>
              <a:path w="745" h="1589">
                <a:moveTo>
                  <a:pt x="6672" y="15974"/>
                </a:moveTo>
                <a:cubicBezTo>
                  <a:pt x="6776" y="15997"/>
                  <a:pt x="6777" y="16045"/>
                  <a:pt x="6846" y="16098"/>
                </a:cubicBezTo>
                <a:cubicBezTo>
                  <a:pt x="6929" y="16162"/>
                  <a:pt x="6699" y="16329"/>
                  <a:pt x="6648" y="16371"/>
                </a:cubicBezTo>
                <a:cubicBezTo>
                  <a:pt x="6536" y="16460"/>
                  <a:pt x="6509" y="16486"/>
                  <a:pt x="6424" y="16520"/>
                </a:cubicBezTo>
                <a:cubicBezTo>
                  <a:pt x="6542" y="16520"/>
                  <a:pt x="6652" y="16459"/>
                  <a:pt x="6772" y="16446"/>
                </a:cubicBezTo>
                <a:cubicBezTo>
                  <a:pt x="6846" y="16446"/>
                  <a:pt x="6855" y="16446"/>
                  <a:pt x="6896" y="16446"/>
                </a:cubicBezTo>
              </a:path>
              <a:path w="745" h="1589">
                <a:moveTo>
                  <a:pt x="6251" y="16718"/>
                </a:moveTo>
                <a:cubicBezTo>
                  <a:pt x="6485" y="16684"/>
                  <a:pt x="6709" y="16669"/>
                  <a:pt x="6945" y="16669"/>
                </a:cubicBezTo>
                <a:cubicBezTo>
                  <a:pt x="6987" y="16669"/>
                  <a:pt x="7003" y="16661"/>
                  <a:pt x="6995" y="16694"/>
                </a:cubicBezTo>
              </a:path>
              <a:path w="745" h="1589">
                <a:moveTo>
                  <a:pt x="6995" y="16694"/>
                </a:moveTo>
                <a:lnTo>
                  <a:pt x="6995" y="16694"/>
                </a:lnTo>
              </a:path>
              <a:path w="745" h="1589">
                <a:moveTo>
                  <a:pt x="6424" y="16942"/>
                </a:moveTo>
                <a:cubicBezTo>
                  <a:pt x="6514" y="16942"/>
                  <a:pt x="6623" y="16921"/>
                  <a:pt x="6697" y="16966"/>
                </a:cubicBezTo>
                <a:cubicBezTo>
                  <a:pt x="6782" y="17018"/>
                  <a:pt x="6625" y="17093"/>
                  <a:pt x="6598" y="17115"/>
                </a:cubicBezTo>
                <a:cubicBezTo>
                  <a:pt x="6581" y="17123"/>
                  <a:pt x="6565" y="17132"/>
                  <a:pt x="6548" y="17140"/>
                </a:cubicBezTo>
                <a:cubicBezTo>
                  <a:pt x="6663" y="17154"/>
                  <a:pt x="6800" y="17150"/>
                  <a:pt x="6796" y="17289"/>
                </a:cubicBezTo>
                <a:cubicBezTo>
                  <a:pt x="6790" y="17492"/>
                  <a:pt x="6574" y="17500"/>
                  <a:pt x="6424" y="17537"/>
                </a:cubicBezTo>
                <a:cubicBezTo>
                  <a:pt x="6350" y="17556"/>
                  <a:pt x="6317" y="17590"/>
                  <a:pt x="6325" y="175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5040" y="6000840"/>
            <a:ext cx="81000" cy="125280"/>
          </a:xfrm>
          <a:custGeom>
            <a:avLst/>
            <a:gdLst/>
            <a:ahLst/>
            <a:rect l="l" t="t" r="r" b="b"/>
            <a:pathLst>
              <a:path w="224" h="348">
                <a:moveTo>
                  <a:pt x="7516" y="16768"/>
                </a:moveTo>
                <a:cubicBezTo>
                  <a:pt x="7536" y="16847"/>
                  <a:pt x="7623" y="16897"/>
                  <a:pt x="7665" y="16966"/>
                </a:cubicBezTo>
                <a:cubicBezTo>
                  <a:pt x="7665" y="16991"/>
                  <a:pt x="7665" y="16999"/>
                  <a:pt x="7689" y="16991"/>
                </a:cubicBezTo>
              </a:path>
              <a:path w="224" h="348">
                <a:moveTo>
                  <a:pt x="7739" y="16669"/>
                </a:moveTo>
                <a:cubicBezTo>
                  <a:pt x="7686" y="16782"/>
                  <a:pt x="7649" y="16913"/>
                  <a:pt x="7590" y="17016"/>
                </a:cubicBezTo>
              </a:path>
              <a:path w="224" h="348">
                <a:moveTo>
                  <a:pt x="7590" y="17016"/>
                </a:moveTo>
                <a:lnTo>
                  <a:pt x="7590" y="1701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09960" y="5840280"/>
            <a:ext cx="169920" cy="428760"/>
          </a:xfrm>
          <a:custGeom>
            <a:avLst/>
            <a:gdLst/>
            <a:ahLst/>
            <a:rect l="l" t="t" r="r" b="b"/>
            <a:pathLst>
              <a:path w="472" h="1192">
                <a:moveTo>
                  <a:pt x="8607" y="16222"/>
                </a:moveTo>
                <a:cubicBezTo>
                  <a:pt x="8613" y="16330"/>
                  <a:pt x="8667" y="16489"/>
                  <a:pt x="8632" y="16594"/>
                </a:cubicBezTo>
                <a:cubicBezTo>
                  <a:pt x="8624" y="16602"/>
                  <a:pt x="8615" y="16611"/>
                  <a:pt x="8607" y="16619"/>
                </a:cubicBezTo>
              </a:path>
              <a:path w="472" h="1192">
                <a:moveTo>
                  <a:pt x="8359" y="16718"/>
                </a:moveTo>
                <a:cubicBezTo>
                  <a:pt x="8507" y="16694"/>
                  <a:pt x="8658" y="16654"/>
                  <a:pt x="8806" y="16644"/>
                </a:cubicBezTo>
                <a:cubicBezTo>
                  <a:pt x="8814" y="16644"/>
                  <a:pt x="8822" y="16644"/>
                  <a:pt x="8830" y="16644"/>
                </a:cubicBezTo>
              </a:path>
              <a:path w="472" h="1192">
                <a:moveTo>
                  <a:pt x="8830" y="16644"/>
                </a:moveTo>
                <a:lnTo>
                  <a:pt x="8830" y="16644"/>
                </a:lnTo>
              </a:path>
              <a:path w="472" h="1192">
                <a:moveTo>
                  <a:pt x="8806" y="16892"/>
                </a:moveTo>
                <a:cubicBezTo>
                  <a:pt x="8702" y="16927"/>
                  <a:pt x="8542" y="17015"/>
                  <a:pt x="8458" y="17090"/>
                </a:cubicBezTo>
                <a:cubicBezTo>
                  <a:pt x="8350" y="17186"/>
                  <a:pt x="8607" y="17286"/>
                  <a:pt x="8657" y="17314"/>
                </a:cubicBezTo>
                <a:cubicBezTo>
                  <a:pt x="8657" y="17347"/>
                  <a:pt x="8657" y="17363"/>
                  <a:pt x="8657" y="17388"/>
                </a:cubicBezTo>
                <a:cubicBezTo>
                  <a:pt x="8521" y="17418"/>
                  <a:pt x="8544" y="17293"/>
                  <a:pt x="8607" y="17165"/>
                </a:cubicBezTo>
                <a:cubicBezTo>
                  <a:pt x="8668" y="17084"/>
                  <a:pt x="8673" y="17062"/>
                  <a:pt x="8731" y="170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5965920"/>
            <a:ext cx="117360" cy="71280"/>
          </a:xfrm>
          <a:custGeom>
            <a:avLst/>
            <a:gdLst/>
            <a:ahLst/>
            <a:rect l="l" t="t" r="r" b="b"/>
            <a:pathLst>
              <a:path w="324" h="199">
                <a:moveTo>
                  <a:pt x="9500" y="16644"/>
                </a:moveTo>
                <a:cubicBezTo>
                  <a:pt x="9542" y="16613"/>
                  <a:pt x="9649" y="16565"/>
                  <a:pt x="9699" y="16570"/>
                </a:cubicBezTo>
                <a:cubicBezTo>
                  <a:pt x="9699" y="16578"/>
                  <a:pt x="9699" y="16586"/>
                  <a:pt x="9699" y="16594"/>
                </a:cubicBezTo>
              </a:path>
              <a:path w="324" h="199">
                <a:moveTo>
                  <a:pt x="9500" y="16768"/>
                </a:moveTo>
                <a:cubicBezTo>
                  <a:pt x="9628" y="16736"/>
                  <a:pt x="9705" y="16706"/>
                  <a:pt x="9823" y="16644"/>
                </a:cubicBezTo>
              </a:path>
              <a:path w="324" h="199">
                <a:moveTo>
                  <a:pt x="9823" y="16644"/>
                </a:moveTo>
                <a:lnTo>
                  <a:pt x="9823" y="1664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51200" y="5749920"/>
            <a:ext cx="554040" cy="501480"/>
          </a:xfrm>
          <a:custGeom>
            <a:avLst/>
            <a:gdLst/>
            <a:ahLst/>
            <a:rect l="l" t="t" r="r" b="b"/>
            <a:pathLst>
              <a:path w="1539" h="1390">
                <a:moveTo>
                  <a:pt x="10790" y="15974"/>
                </a:moveTo>
                <a:cubicBezTo>
                  <a:pt x="10867" y="16013"/>
                  <a:pt x="10972" y="16003"/>
                  <a:pt x="11063" y="16024"/>
                </a:cubicBezTo>
                <a:cubicBezTo>
                  <a:pt x="11063" y="16165"/>
                  <a:pt x="10913" y="16205"/>
                  <a:pt x="10790" y="16297"/>
                </a:cubicBezTo>
                <a:cubicBezTo>
                  <a:pt x="10782" y="16305"/>
                  <a:pt x="10773" y="16313"/>
                  <a:pt x="10765" y="16321"/>
                </a:cubicBezTo>
                <a:cubicBezTo>
                  <a:pt x="10862" y="16312"/>
                  <a:pt x="11001" y="16241"/>
                  <a:pt x="11088" y="16247"/>
                </a:cubicBezTo>
                <a:cubicBezTo>
                  <a:pt x="11096" y="16255"/>
                  <a:pt x="11104" y="16264"/>
                  <a:pt x="11112" y="16272"/>
                </a:cubicBezTo>
              </a:path>
              <a:path w="1539" h="1390">
                <a:moveTo>
                  <a:pt x="10616" y="16594"/>
                </a:moveTo>
                <a:cubicBezTo>
                  <a:pt x="10797" y="16558"/>
                  <a:pt x="11104" y="16441"/>
                  <a:pt x="11286" y="16520"/>
                </a:cubicBezTo>
                <a:cubicBezTo>
                  <a:pt x="11303" y="16537"/>
                  <a:pt x="11319" y="16553"/>
                  <a:pt x="11336" y="16570"/>
                </a:cubicBezTo>
              </a:path>
              <a:path w="1539" h="1390">
                <a:moveTo>
                  <a:pt x="10542" y="17041"/>
                </a:moveTo>
                <a:cubicBezTo>
                  <a:pt x="10636" y="17057"/>
                  <a:pt x="10767" y="17111"/>
                  <a:pt x="10716" y="17239"/>
                </a:cubicBezTo>
                <a:cubicBezTo>
                  <a:pt x="10686" y="17314"/>
                  <a:pt x="10495" y="17418"/>
                  <a:pt x="10418" y="17363"/>
                </a:cubicBezTo>
                <a:cubicBezTo>
                  <a:pt x="10418" y="17355"/>
                  <a:pt x="10418" y="17346"/>
                  <a:pt x="10418" y="17338"/>
                </a:cubicBezTo>
                <a:cubicBezTo>
                  <a:pt x="10539" y="17273"/>
                  <a:pt x="10585" y="17274"/>
                  <a:pt x="10716" y="17289"/>
                </a:cubicBezTo>
              </a:path>
              <a:path w="1539" h="1390">
                <a:moveTo>
                  <a:pt x="10939" y="16917"/>
                </a:moveTo>
                <a:cubicBezTo>
                  <a:pt x="10948" y="17014"/>
                  <a:pt x="10951" y="17092"/>
                  <a:pt x="11063" y="17115"/>
                </a:cubicBezTo>
                <a:cubicBezTo>
                  <a:pt x="11159" y="17134"/>
                  <a:pt x="11167" y="17061"/>
                  <a:pt x="11212" y="16991"/>
                </a:cubicBezTo>
              </a:path>
              <a:path w="1539" h="1390">
                <a:moveTo>
                  <a:pt x="11187" y="16867"/>
                </a:moveTo>
                <a:cubicBezTo>
                  <a:pt x="11170" y="16982"/>
                  <a:pt x="11178" y="17099"/>
                  <a:pt x="11162" y="17214"/>
                </a:cubicBezTo>
                <a:cubicBezTo>
                  <a:pt x="11143" y="17288"/>
                  <a:pt x="11135" y="17295"/>
                  <a:pt x="11137" y="17338"/>
                </a:cubicBezTo>
              </a:path>
              <a:path w="1539" h="1390">
                <a:moveTo>
                  <a:pt x="11137" y="17338"/>
                </a:moveTo>
                <a:lnTo>
                  <a:pt x="11137" y="17338"/>
                </a:lnTo>
              </a:path>
              <a:path w="1539" h="1390">
                <a:moveTo>
                  <a:pt x="11460" y="16173"/>
                </a:moveTo>
                <a:cubicBezTo>
                  <a:pt x="11506" y="16200"/>
                  <a:pt x="11527" y="16197"/>
                  <a:pt x="11584" y="16197"/>
                </a:cubicBezTo>
              </a:path>
              <a:path w="1539" h="1390">
                <a:moveTo>
                  <a:pt x="11534" y="15974"/>
                </a:moveTo>
                <a:cubicBezTo>
                  <a:pt x="11534" y="15999"/>
                  <a:pt x="11534" y="16024"/>
                  <a:pt x="11534" y="16049"/>
                </a:cubicBezTo>
              </a:path>
              <a:path w="1539" h="1390">
                <a:moveTo>
                  <a:pt x="11534" y="16049"/>
                </a:moveTo>
                <a:lnTo>
                  <a:pt x="11534" y="16049"/>
                </a:lnTo>
              </a:path>
              <a:path w="1539" h="1390">
                <a:moveTo>
                  <a:pt x="11534" y="16421"/>
                </a:moveTo>
                <a:lnTo>
                  <a:pt x="11534" y="16421"/>
                </a:lnTo>
              </a:path>
              <a:path w="1539" h="1390">
                <a:moveTo>
                  <a:pt x="11782" y="16024"/>
                </a:moveTo>
                <a:cubicBezTo>
                  <a:pt x="11848" y="16038"/>
                  <a:pt x="11968" y="16061"/>
                  <a:pt x="11956" y="16148"/>
                </a:cubicBezTo>
                <a:cubicBezTo>
                  <a:pt x="11943" y="16242"/>
                  <a:pt x="11862" y="16259"/>
                  <a:pt x="11807" y="16321"/>
                </a:cubicBezTo>
                <a:cubicBezTo>
                  <a:pt x="11881" y="16346"/>
                  <a:pt x="11906" y="16354"/>
                  <a:pt x="11956" y="163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83080" y="5759280"/>
            <a:ext cx="554040" cy="241560"/>
          </a:xfrm>
          <a:custGeom>
            <a:avLst/>
            <a:gdLst/>
            <a:ahLst/>
            <a:rect l="l" t="t" r="r" b="b"/>
            <a:pathLst>
              <a:path w="1539" h="671">
                <a:moveTo>
                  <a:pt x="12477" y="16545"/>
                </a:moveTo>
                <a:cubicBezTo>
                  <a:pt x="12518" y="16545"/>
                  <a:pt x="12560" y="16545"/>
                  <a:pt x="12601" y="16545"/>
                </a:cubicBezTo>
              </a:path>
              <a:path w="1539" h="671">
                <a:moveTo>
                  <a:pt x="12452" y="16669"/>
                </a:moveTo>
                <a:cubicBezTo>
                  <a:pt x="12581" y="16660"/>
                  <a:pt x="12677" y="16635"/>
                  <a:pt x="12799" y="16594"/>
                </a:cubicBezTo>
              </a:path>
              <a:path w="1539" h="671">
                <a:moveTo>
                  <a:pt x="12799" y="16594"/>
                </a:moveTo>
                <a:lnTo>
                  <a:pt x="12799" y="16594"/>
                </a:lnTo>
              </a:path>
              <a:path w="1539" h="671">
                <a:moveTo>
                  <a:pt x="13643" y="15999"/>
                </a:moveTo>
                <a:cubicBezTo>
                  <a:pt x="13643" y="16115"/>
                  <a:pt x="13643" y="16230"/>
                  <a:pt x="13643" y="16346"/>
                </a:cubicBezTo>
              </a:path>
              <a:path w="1539" h="671">
                <a:moveTo>
                  <a:pt x="13196" y="16520"/>
                </a:moveTo>
                <a:cubicBezTo>
                  <a:pt x="13428" y="16468"/>
                  <a:pt x="13702" y="16435"/>
                  <a:pt x="13940" y="16446"/>
                </a:cubicBezTo>
                <a:cubicBezTo>
                  <a:pt x="13957" y="16454"/>
                  <a:pt x="13973" y="16462"/>
                  <a:pt x="13990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84720" y="4867200"/>
            <a:ext cx="3143160" cy="463680"/>
          </a:xfrm>
          <a:custGeom>
            <a:avLst/>
            <a:gdLst/>
            <a:ahLst/>
            <a:rect l="l" t="t" r="r" b="b"/>
            <a:pathLst>
              <a:path w="8732" h="1290">
                <a:moveTo>
                  <a:pt x="9773" y="14808"/>
                </a:moveTo>
                <a:cubicBezTo>
                  <a:pt x="9723" y="14808"/>
                  <a:pt x="9674" y="14808"/>
                  <a:pt x="9624" y="14808"/>
                </a:cubicBezTo>
                <a:cubicBezTo>
                  <a:pt x="9740" y="14751"/>
                  <a:pt x="9842" y="14720"/>
                  <a:pt x="9971" y="14709"/>
                </a:cubicBezTo>
                <a:cubicBezTo>
                  <a:pt x="10112" y="14697"/>
                  <a:pt x="10255" y="14694"/>
                  <a:pt x="10393" y="14660"/>
                </a:cubicBezTo>
                <a:cubicBezTo>
                  <a:pt x="10526" y="14627"/>
                  <a:pt x="10677" y="14602"/>
                  <a:pt x="10815" y="14585"/>
                </a:cubicBezTo>
                <a:cubicBezTo>
                  <a:pt x="11002" y="14561"/>
                  <a:pt x="11202" y="14592"/>
                  <a:pt x="11385" y="14610"/>
                </a:cubicBezTo>
                <a:cubicBezTo>
                  <a:pt x="11500" y="14622"/>
                  <a:pt x="11618" y="14631"/>
                  <a:pt x="11733" y="14635"/>
                </a:cubicBezTo>
                <a:cubicBezTo>
                  <a:pt x="11867" y="14639"/>
                  <a:pt x="11994" y="14660"/>
                  <a:pt x="12129" y="14660"/>
                </a:cubicBezTo>
                <a:cubicBezTo>
                  <a:pt x="12191" y="14660"/>
                  <a:pt x="12206" y="14651"/>
                  <a:pt x="12229" y="14684"/>
                </a:cubicBezTo>
              </a:path>
              <a:path w="8732" h="1290">
                <a:moveTo>
                  <a:pt x="12626" y="14436"/>
                </a:moveTo>
                <a:cubicBezTo>
                  <a:pt x="12646" y="14486"/>
                  <a:pt x="12663" y="14540"/>
                  <a:pt x="12700" y="14585"/>
                </a:cubicBezTo>
                <a:cubicBezTo>
                  <a:pt x="12791" y="14695"/>
                  <a:pt x="12974" y="14675"/>
                  <a:pt x="13097" y="14635"/>
                </a:cubicBezTo>
                <a:cubicBezTo>
                  <a:pt x="13250" y="14585"/>
                  <a:pt x="13276" y="14448"/>
                  <a:pt x="13320" y="14312"/>
                </a:cubicBezTo>
                <a:cubicBezTo>
                  <a:pt x="13348" y="14226"/>
                  <a:pt x="13345" y="14154"/>
                  <a:pt x="13345" y="14064"/>
                </a:cubicBezTo>
                <a:cubicBezTo>
                  <a:pt x="13345" y="13985"/>
                  <a:pt x="13325" y="13862"/>
                  <a:pt x="13295" y="13791"/>
                </a:cubicBezTo>
                <a:cubicBezTo>
                  <a:pt x="13264" y="13717"/>
                  <a:pt x="13209" y="13664"/>
                  <a:pt x="13146" y="13618"/>
                </a:cubicBezTo>
                <a:cubicBezTo>
                  <a:pt x="13051" y="13549"/>
                  <a:pt x="12940" y="13496"/>
                  <a:pt x="12824" y="13543"/>
                </a:cubicBezTo>
                <a:cubicBezTo>
                  <a:pt x="12672" y="13604"/>
                  <a:pt x="12633" y="13750"/>
                  <a:pt x="12601" y="13891"/>
                </a:cubicBezTo>
                <a:cubicBezTo>
                  <a:pt x="12563" y="14059"/>
                  <a:pt x="12575" y="14222"/>
                  <a:pt x="12626" y="14387"/>
                </a:cubicBezTo>
                <a:cubicBezTo>
                  <a:pt x="12676" y="14547"/>
                  <a:pt x="12740" y="14601"/>
                  <a:pt x="12898" y="14610"/>
                </a:cubicBezTo>
                <a:cubicBezTo>
                  <a:pt x="12906" y="14610"/>
                  <a:pt x="12915" y="14610"/>
                  <a:pt x="12923" y="14610"/>
                </a:cubicBezTo>
              </a:path>
              <a:path w="8732" h="1290">
                <a:moveTo>
                  <a:pt x="14610" y="14610"/>
                </a:moveTo>
                <a:cubicBezTo>
                  <a:pt x="14710" y="14573"/>
                  <a:pt x="14797" y="14562"/>
                  <a:pt x="14908" y="14560"/>
                </a:cubicBezTo>
                <a:cubicBezTo>
                  <a:pt x="15126" y="14555"/>
                  <a:pt x="15337" y="14576"/>
                  <a:pt x="15553" y="14585"/>
                </a:cubicBezTo>
                <a:cubicBezTo>
                  <a:pt x="16259" y="14614"/>
                  <a:pt x="17072" y="14658"/>
                  <a:pt x="17760" y="14610"/>
                </a:cubicBezTo>
                <a:cubicBezTo>
                  <a:pt x="17829" y="14605"/>
                  <a:pt x="17863" y="14606"/>
                  <a:pt x="17934" y="14610"/>
                </a:cubicBezTo>
                <a:cubicBezTo>
                  <a:pt x="17999" y="14614"/>
                  <a:pt x="18046" y="14625"/>
                  <a:pt x="18107" y="14635"/>
                </a:cubicBezTo>
                <a:cubicBezTo>
                  <a:pt x="18115" y="14635"/>
                  <a:pt x="18124" y="14635"/>
                  <a:pt x="18132" y="14635"/>
                </a:cubicBezTo>
              </a:path>
              <a:path w="8732" h="1290">
                <a:moveTo>
                  <a:pt x="9401" y="14684"/>
                </a:moveTo>
                <a:cubicBezTo>
                  <a:pt x="9475" y="14684"/>
                  <a:pt x="9530" y="14677"/>
                  <a:pt x="9599" y="14660"/>
                </a:cubicBezTo>
                <a:cubicBezTo>
                  <a:pt x="9659" y="14646"/>
                  <a:pt x="9738" y="14646"/>
                  <a:pt x="9798" y="14635"/>
                </a:cubicBezTo>
                <a:cubicBezTo>
                  <a:pt x="9855" y="14625"/>
                  <a:pt x="9912" y="14610"/>
                  <a:pt x="9971" y="14610"/>
                </a:cubicBezTo>
                <a:cubicBezTo>
                  <a:pt x="10165" y="14610"/>
                  <a:pt x="10352" y="14621"/>
                  <a:pt x="10542" y="14635"/>
                </a:cubicBezTo>
                <a:cubicBezTo>
                  <a:pt x="10659" y="14644"/>
                  <a:pt x="10771" y="14660"/>
                  <a:pt x="10889" y="14660"/>
                </a:cubicBezTo>
              </a:path>
              <a:path w="8732" h="1290">
                <a:moveTo>
                  <a:pt x="12898" y="14660"/>
                </a:moveTo>
                <a:cubicBezTo>
                  <a:pt x="12839" y="14640"/>
                  <a:pt x="12892" y="14642"/>
                  <a:pt x="12923" y="14635"/>
                </a:cubicBezTo>
                <a:cubicBezTo>
                  <a:pt x="13011" y="14616"/>
                  <a:pt x="13081" y="14610"/>
                  <a:pt x="13171" y="14610"/>
                </a:cubicBezTo>
                <a:cubicBezTo>
                  <a:pt x="13146" y="14686"/>
                  <a:pt x="12912" y="14659"/>
                  <a:pt x="12849" y="14660"/>
                </a:cubicBezTo>
                <a:cubicBezTo>
                  <a:pt x="12603" y="14665"/>
                  <a:pt x="12692" y="14666"/>
                  <a:pt x="12898" y="14635"/>
                </a:cubicBezTo>
                <a:cubicBezTo>
                  <a:pt x="12997" y="14620"/>
                  <a:pt x="13197" y="14610"/>
                  <a:pt x="13097" y="14610"/>
                </a:cubicBezTo>
                <a:cubicBezTo>
                  <a:pt x="12987" y="14610"/>
                  <a:pt x="12699" y="14654"/>
                  <a:pt x="12998" y="14585"/>
                </a:cubicBezTo>
                <a:cubicBezTo>
                  <a:pt x="13064" y="14569"/>
                  <a:pt x="13130" y="14552"/>
                  <a:pt x="13196" y="14536"/>
                </a:cubicBezTo>
                <a:cubicBezTo>
                  <a:pt x="13237" y="14528"/>
                  <a:pt x="13279" y="14519"/>
                  <a:pt x="13320" y="14511"/>
                </a:cubicBezTo>
                <a:cubicBezTo>
                  <a:pt x="13192" y="14529"/>
                  <a:pt x="13043" y="14551"/>
                  <a:pt x="12923" y="14585"/>
                </a:cubicBezTo>
                <a:cubicBezTo>
                  <a:pt x="12808" y="14618"/>
                  <a:pt x="13334" y="14548"/>
                  <a:pt x="13221" y="14511"/>
                </a:cubicBezTo>
                <a:cubicBezTo>
                  <a:pt x="13102" y="14472"/>
                  <a:pt x="12728" y="14591"/>
                  <a:pt x="12849" y="14560"/>
                </a:cubicBezTo>
                <a:cubicBezTo>
                  <a:pt x="12991" y="14533"/>
                  <a:pt x="13049" y="14520"/>
                  <a:pt x="13146" y="14486"/>
                </a:cubicBezTo>
                <a:cubicBezTo>
                  <a:pt x="13290" y="14399"/>
                  <a:pt x="12938" y="14526"/>
                  <a:pt x="12898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16240" y="5643720"/>
            <a:ext cx="1063800" cy="696600"/>
          </a:xfrm>
          <a:custGeom>
            <a:avLst/>
            <a:gdLst/>
            <a:ahLst/>
            <a:rect l="l" t="t" r="r" b="b"/>
            <a:pathLst>
              <a:path w="2953" h="1935">
                <a:moveTo>
                  <a:pt x="11435" y="17165"/>
                </a:moveTo>
                <a:cubicBezTo>
                  <a:pt x="11523" y="17165"/>
                  <a:pt x="11578" y="17167"/>
                  <a:pt x="11658" y="17140"/>
                </a:cubicBezTo>
              </a:path>
              <a:path w="2953" h="1935">
                <a:moveTo>
                  <a:pt x="11509" y="16917"/>
                </a:moveTo>
                <a:cubicBezTo>
                  <a:pt x="11517" y="16942"/>
                  <a:pt x="11526" y="16966"/>
                  <a:pt x="11534" y="16991"/>
                </a:cubicBezTo>
              </a:path>
              <a:path w="2953" h="1935">
                <a:moveTo>
                  <a:pt x="11534" y="16991"/>
                </a:moveTo>
                <a:lnTo>
                  <a:pt x="11534" y="16991"/>
                </a:lnTo>
              </a:path>
              <a:path w="2953" h="1935">
                <a:moveTo>
                  <a:pt x="11509" y="17363"/>
                </a:moveTo>
                <a:lnTo>
                  <a:pt x="11509" y="17363"/>
                </a:lnTo>
              </a:path>
              <a:path w="2953" h="1935">
                <a:moveTo>
                  <a:pt x="11857" y="17016"/>
                </a:moveTo>
                <a:cubicBezTo>
                  <a:pt x="11922" y="17025"/>
                  <a:pt x="12060" y="17035"/>
                  <a:pt x="12030" y="17140"/>
                </a:cubicBezTo>
                <a:cubicBezTo>
                  <a:pt x="11984" y="17233"/>
                  <a:pt x="11973" y="17262"/>
                  <a:pt x="11906" y="17289"/>
                </a:cubicBezTo>
                <a:cubicBezTo>
                  <a:pt x="11830" y="17439"/>
                  <a:pt x="12279" y="17272"/>
                  <a:pt x="12303" y="17264"/>
                </a:cubicBezTo>
              </a:path>
              <a:path w="2953" h="1935">
                <a:moveTo>
                  <a:pt x="13494" y="16818"/>
                </a:moveTo>
                <a:cubicBezTo>
                  <a:pt x="13494" y="16917"/>
                  <a:pt x="13494" y="17016"/>
                  <a:pt x="13494" y="17115"/>
                </a:cubicBezTo>
              </a:path>
              <a:path w="2953" h="1935">
                <a:moveTo>
                  <a:pt x="13692" y="16768"/>
                </a:moveTo>
                <a:cubicBezTo>
                  <a:pt x="13748" y="16759"/>
                  <a:pt x="13951" y="16753"/>
                  <a:pt x="13866" y="16892"/>
                </a:cubicBezTo>
                <a:cubicBezTo>
                  <a:pt x="13834" y="16944"/>
                  <a:pt x="13617" y="17089"/>
                  <a:pt x="13667" y="17115"/>
                </a:cubicBezTo>
                <a:cubicBezTo>
                  <a:pt x="13723" y="17130"/>
                  <a:pt x="13880" y="17178"/>
                  <a:pt x="13940" y="17140"/>
                </a:cubicBezTo>
                <a:cubicBezTo>
                  <a:pt x="13940" y="17132"/>
                  <a:pt x="13940" y="17123"/>
                  <a:pt x="13940" y="17115"/>
                </a:cubicBezTo>
              </a:path>
              <a:path w="2953" h="1935">
                <a:moveTo>
                  <a:pt x="14188" y="16049"/>
                </a:moveTo>
                <a:cubicBezTo>
                  <a:pt x="14183" y="15978"/>
                  <a:pt x="14181" y="15919"/>
                  <a:pt x="14163" y="15850"/>
                </a:cubicBezTo>
                <a:cubicBezTo>
                  <a:pt x="14145" y="15779"/>
                  <a:pt x="14127" y="15732"/>
                  <a:pt x="14039" y="15701"/>
                </a:cubicBezTo>
                <a:cubicBezTo>
                  <a:pt x="13950" y="15669"/>
                  <a:pt x="13836" y="15677"/>
                  <a:pt x="13742" y="15677"/>
                </a:cubicBezTo>
                <a:cubicBezTo>
                  <a:pt x="13635" y="15677"/>
                  <a:pt x="13546" y="15691"/>
                  <a:pt x="13444" y="15701"/>
                </a:cubicBezTo>
                <a:cubicBezTo>
                  <a:pt x="13366" y="15709"/>
                  <a:pt x="13272" y="15708"/>
                  <a:pt x="13196" y="15726"/>
                </a:cubicBezTo>
                <a:cubicBezTo>
                  <a:pt x="13144" y="15739"/>
                  <a:pt x="13088" y="15747"/>
                  <a:pt x="13047" y="15776"/>
                </a:cubicBezTo>
                <a:cubicBezTo>
                  <a:pt x="13035" y="15784"/>
                  <a:pt x="12982" y="15819"/>
                  <a:pt x="12973" y="15850"/>
                </a:cubicBezTo>
                <a:cubicBezTo>
                  <a:pt x="12948" y="15938"/>
                  <a:pt x="12951" y="16054"/>
                  <a:pt x="12948" y="16148"/>
                </a:cubicBezTo>
                <a:cubicBezTo>
                  <a:pt x="12943" y="16309"/>
                  <a:pt x="12910" y="16520"/>
                  <a:pt x="12923" y="16669"/>
                </a:cubicBezTo>
                <a:cubicBezTo>
                  <a:pt x="12929" y="16744"/>
                  <a:pt x="12946" y="16814"/>
                  <a:pt x="12948" y="16892"/>
                </a:cubicBezTo>
                <a:cubicBezTo>
                  <a:pt x="12953" y="17064"/>
                  <a:pt x="12909" y="17287"/>
                  <a:pt x="12973" y="17438"/>
                </a:cubicBezTo>
                <a:cubicBezTo>
                  <a:pt x="12993" y="17484"/>
                  <a:pt x="13046" y="17511"/>
                  <a:pt x="13097" y="17537"/>
                </a:cubicBezTo>
                <a:cubicBezTo>
                  <a:pt x="13169" y="17574"/>
                  <a:pt x="13266" y="17600"/>
                  <a:pt x="13345" y="17611"/>
                </a:cubicBezTo>
                <a:cubicBezTo>
                  <a:pt x="13448" y="17625"/>
                  <a:pt x="13542" y="17591"/>
                  <a:pt x="13643" y="17587"/>
                </a:cubicBezTo>
                <a:cubicBezTo>
                  <a:pt x="13701" y="17585"/>
                  <a:pt x="13773" y="17566"/>
                  <a:pt x="13816" y="17562"/>
                </a:cubicBezTo>
                <a:cubicBezTo>
                  <a:pt x="13881" y="17556"/>
                  <a:pt x="13929" y="17555"/>
                  <a:pt x="13990" y="17537"/>
                </a:cubicBezTo>
                <a:cubicBezTo>
                  <a:pt x="14049" y="17520"/>
                  <a:pt x="14099" y="17525"/>
                  <a:pt x="14163" y="17512"/>
                </a:cubicBezTo>
                <a:cubicBezTo>
                  <a:pt x="14233" y="17498"/>
                  <a:pt x="14252" y="17494"/>
                  <a:pt x="14288" y="17438"/>
                </a:cubicBezTo>
                <a:cubicBezTo>
                  <a:pt x="14330" y="17372"/>
                  <a:pt x="14310" y="17289"/>
                  <a:pt x="14312" y="17214"/>
                </a:cubicBezTo>
                <a:cubicBezTo>
                  <a:pt x="14314" y="17148"/>
                  <a:pt x="14320" y="17056"/>
                  <a:pt x="14337" y="16991"/>
                </a:cubicBezTo>
                <a:cubicBezTo>
                  <a:pt x="14353" y="16929"/>
                  <a:pt x="14378" y="16884"/>
                  <a:pt x="14387" y="16818"/>
                </a:cubicBezTo>
                <a:cubicBezTo>
                  <a:pt x="14410" y="16649"/>
                  <a:pt x="14350" y="16452"/>
                  <a:pt x="14362" y="16297"/>
                </a:cubicBezTo>
                <a:cubicBezTo>
                  <a:pt x="14370" y="16200"/>
                  <a:pt x="14401" y="16189"/>
                  <a:pt x="14362" y="16098"/>
                </a:cubicBezTo>
                <a:cubicBezTo>
                  <a:pt x="14319" y="15997"/>
                  <a:pt x="14320" y="16089"/>
                  <a:pt x="14263" y="16049"/>
                </a:cubicBezTo>
                <a:cubicBezTo>
                  <a:pt x="14263" y="16041"/>
                  <a:pt x="14263" y="16032"/>
                  <a:pt x="14263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73800" y="5384880"/>
            <a:ext cx="1590480" cy="588960"/>
          </a:xfrm>
          <a:custGeom>
            <a:avLst/>
            <a:gdLst/>
            <a:ahLst/>
            <a:rect l="l" t="t" r="r" b="b"/>
            <a:pathLst>
              <a:path w="4417" h="1638">
                <a:moveTo>
                  <a:pt x="17388" y="14957"/>
                </a:moveTo>
                <a:cubicBezTo>
                  <a:pt x="17388" y="15090"/>
                  <a:pt x="17409" y="15220"/>
                  <a:pt x="17413" y="15354"/>
                </a:cubicBezTo>
                <a:cubicBezTo>
                  <a:pt x="17414" y="15395"/>
                  <a:pt x="17413" y="15437"/>
                  <a:pt x="17413" y="15478"/>
                </a:cubicBezTo>
              </a:path>
              <a:path w="4417" h="1638">
                <a:moveTo>
                  <a:pt x="17016" y="15627"/>
                </a:moveTo>
                <a:cubicBezTo>
                  <a:pt x="17305" y="15566"/>
                  <a:pt x="17564" y="15528"/>
                  <a:pt x="17859" y="15528"/>
                </a:cubicBezTo>
                <a:cubicBezTo>
                  <a:pt x="17867" y="15528"/>
                  <a:pt x="17876" y="15528"/>
                  <a:pt x="17884" y="15528"/>
                </a:cubicBezTo>
              </a:path>
              <a:path w="4417" h="1638">
                <a:moveTo>
                  <a:pt x="17562" y="15925"/>
                </a:moveTo>
                <a:cubicBezTo>
                  <a:pt x="17453" y="15859"/>
                  <a:pt x="17375" y="15956"/>
                  <a:pt x="17289" y="16024"/>
                </a:cubicBezTo>
                <a:cubicBezTo>
                  <a:pt x="17360" y="16151"/>
                  <a:pt x="17502" y="16143"/>
                  <a:pt x="17611" y="16247"/>
                </a:cubicBezTo>
                <a:cubicBezTo>
                  <a:pt x="17619" y="16264"/>
                  <a:pt x="17628" y="16280"/>
                  <a:pt x="17636" y="16297"/>
                </a:cubicBezTo>
                <a:cubicBezTo>
                  <a:pt x="17507" y="16376"/>
                  <a:pt x="17367" y="16368"/>
                  <a:pt x="17413" y="16148"/>
                </a:cubicBezTo>
                <a:cubicBezTo>
                  <a:pt x="17433" y="16052"/>
                  <a:pt x="17497" y="15962"/>
                  <a:pt x="17587" y="15949"/>
                </a:cubicBezTo>
              </a:path>
              <a:path w="4417" h="1638">
                <a:moveTo>
                  <a:pt x="18157" y="15627"/>
                </a:moveTo>
                <a:cubicBezTo>
                  <a:pt x="18338" y="15645"/>
                  <a:pt x="18369" y="15740"/>
                  <a:pt x="18479" y="15875"/>
                </a:cubicBezTo>
                <a:cubicBezTo>
                  <a:pt x="18487" y="15883"/>
                  <a:pt x="18496" y="15892"/>
                  <a:pt x="18504" y="15900"/>
                </a:cubicBezTo>
              </a:path>
              <a:path w="4417" h="1638">
                <a:moveTo>
                  <a:pt x="18430" y="15503"/>
                </a:moveTo>
                <a:cubicBezTo>
                  <a:pt x="18363" y="15662"/>
                  <a:pt x="18299" y="15830"/>
                  <a:pt x="18256" y="15999"/>
                </a:cubicBezTo>
                <a:cubicBezTo>
                  <a:pt x="18256" y="16007"/>
                  <a:pt x="18256" y="16016"/>
                  <a:pt x="18256" y="16024"/>
                </a:cubicBezTo>
              </a:path>
              <a:path w="4417" h="1638">
                <a:moveTo>
                  <a:pt x="18256" y="16024"/>
                </a:moveTo>
                <a:lnTo>
                  <a:pt x="18256" y="16024"/>
                </a:lnTo>
              </a:path>
              <a:path w="4417" h="1638">
                <a:moveTo>
                  <a:pt x="18976" y="15007"/>
                </a:moveTo>
                <a:cubicBezTo>
                  <a:pt x="19111" y="14928"/>
                  <a:pt x="19230" y="14935"/>
                  <a:pt x="19248" y="15131"/>
                </a:cubicBezTo>
                <a:cubicBezTo>
                  <a:pt x="19256" y="15218"/>
                  <a:pt x="19095" y="15622"/>
                  <a:pt x="18951" y="15453"/>
                </a:cubicBezTo>
                <a:cubicBezTo>
                  <a:pt x="18943" y="15420"/>
                  <a:pt x="18934" y="15387"/>
                  <a:pt x="18926" y="15354"/>
                </a:cubicBezTo>
                <a:cubicBezTo>
                  <a:pt x="19027" y="15303"/>
                  <a:pt x="19149" y="15342"/>
                  <a:pt x="19248" y="15404"/>
                </a:cubicBezTo>
                <a:cubicBezTo>
                  <a:pt x="19287" y="15442"/>
                  <a:pt x="19289" y="15459"/>
                  <a:pt x="19323" y="15453"/>
                </a:cubicBezTo>
              </a:path>
              <a:path w="4417" h="1638">
                <a:moveTo>
                  <a:pt x="18926" y="15652"/>
                </a:moveTo>
                <a:cubicBezTo>
                  <a:pt x="19151" y="15605"/>
                  <a:pt x="19365" y="15562"/>
                  <a:pt x="19596" y="15553"/>
                </a:cubicBezTo>
                <a:cubicBezTo>
                  <a:pt x="19631" y="15553"/>
                  <a:pt x="19635" y="15562"/>
                  <a:pt x="19596" y="15602"/>
                </a:cubicBezTo>
              </a:path>
              <a:path w="4417" h="1638">
                <a:moveTo>
                  <a:pt x="19100" y="15900"/>
                </a:moveTo>
                <a:cubicBezTo>
                  <a:pt x="19195" y="15841"/>
                  <a:pt x="19334" y="15844"/>
                  <a:pt x="19447" y="15875"/>
                </a:cubicBezTo>
                <a:cubicBezTo>
                  <a:pt x="19562" y="15906"/>
                  <a:pt x="19337" y="16036"/>
                  <a:pt x="19224" y="16073"/>
                </a:cubicBezTo>
                <a:cubicBezTo>
                  <a:pt x="19207" y="16081"/>
                  <a:pt x="19191" y="16090"/>
                  <a:pt x="19174" y="16098"/>
                </a:cubicBezTo>
                <a:cubicBezTo>
                  <a:pt x="19340" y="16081"/>
                  <a:pt x="19399" y="16054"/>
                  <a:pt x="19546" y="16148"/>
                </a:cubicBezTo>
                <a:cubicBezTo>
                  <a:pt x="19554" y="16156"/>
                  <a:pt x="19563" y="16165"/>
                  <a:pt x="19571" y="16173"/>
                </a:cubicBezTo>
                <a:cubicBezTo>
                  <a:pt x="19414" y="16303"/>
                  <a:pt x="19317" y="16273"/>
                  <a:pt x="19124" y="16222"/>
                </a:cubicBezTo>
                <a:cubicBezTo>
                  <a:pt x="19100" y="16222"/>
                  <a:pt x="19092" y="16222"/>
                  <a:pt x="19100" y="16197"/>
                </a:cubicBezTo>
              </a:path>
              <a:path w="4417" h="1638">
                <a:moveTo>
                  <a:pt x="16495" y="15999"/>
                </a:moveTo>
                <a:cubicBezTo>
                  <a:pt x="16424" y="15945"/>
                  <a:pt x="16072" y="16175"/>
                  <a:pt x="16024" y="16197"/>
                </a:cubicBezTo>
                <a:cubicBezTo>
                  <a:pt x="15835" y="16285"/>
                  <a:pt x="15621" y="16381"/>
                  <a:pt x="15429" y="16446"/>
                </a:cubicBezTo>
              </a:path>
              <a:path w="4417" h="1638">
                <a:moveTo>
                  <a:pt x="15503" y="15999"/>
                </a:moveTo>
                <a:cubicBezTo>
                  <a:pt x="15438" y="16160"/>
                  <a:pt x="15402" y="16297"/>
                  <a:pt x="15304" y="16446"/>
                </a:cubicBezTo>
                <a:cubicBezTo>
                  <a:pt x="15244" y="16527"/>
                  <a:pt x="15229" y="16539"/>
                  <a:pt x="15205" y="16594"/>
                </a:cubicBezTo>
                <a:cubicBezTo>
                  <a:pt x="15346" y="16594"/>
                  <a:pt x="15486" y="16594"/>
                  <a:pt x="15627" y="165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8080" y="15238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f you have a whole number or a mixed nu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71800" y="1982880"/>
            <a:ext cx="4795560" cy="714240"/>
          </a:xfrm>
          <a:custGeom>
            <a:avLst/>
            <a:gdLst/>
            <a:ahLst/>
            <a:rect l="l" t="t" r="r" b="b"/>
            <a:pathLst>
              <a:path w="13321" h="1985">
                <a:moveTo>
                  <a:pt x="16743" y="5507"/>
                </a:moveTo>
                <a:cubicBezTo>
                  <a:pt x="16748" y="5548"/>
                  <a:pt x="16728" y="5577"/>
                  <a:pt x="16768" y="5606"/>
                </a:cubicBezTo>
                <a:cubicBezTo>
                  <a:pt x="16919" y="5716"/>
                  <a:pt x="17248" y="5590"/>
                  <a:pt x="17413" y="5581"/>
                </a:cubicBezTo>
                <a:cubicBezTo>
                  <a:pt x="17964" y="5552"/>
                  <a:pt x="18523" y="5581"/>
                  <a:pt x="19075" y="5581"/>
                </a:cubicBezTo>
              </a:path>
              <a:path w="13321" h="1985">
                <a:moveTo>
                  <a:pt x="5755" y="7491"/>
                </a:moveTo>
                <a:cubicBezTo>
                  <a:pt x="6592" y="7369"/>
                  <a:pt x="7441" y="7430"/>
                  <a:pt x="8285" y="7392"/>
                </a:cubicBezTo>
                <a:cubicBezTo>
                  <a:pt x="8878" y="7366"/>
                  <a:pt x="9481" y="7343"/>
                  <a:pt x="10071" y="7293"/>
                </a:cubicBezTo>
                <a:cubicBezTo>
                  <a:pt x="10427" y="7263"/>
                  <a:pt x="10778" y="7296"/>
                  <a:pt x="11137" y="7268"/>
                </a:cubicBezTo>
                <a:cubicBezTo>
                  <a:pt x="11511" y="7239"/>
                  <a:pt x="11880" y="7238"/>
                  <a:pt x="12254" y="7218"/>
                </a:cubicBezTo>
                <a:cubicBezTo>
                  <a:pt x="12692" y="7195"/>
                  <a:pt x="13128" y="7193"/>
                  <a:pt x="13568" y="7193"/>
                </a:cubicBezTo>
                <a:cubicBezTo>
                  <a:pt x="13967" y="7193"/>
                  <a:pt x="14361" y="7214"/>
                  <a:pt x="14759" y="7218"/>
                </a:cubicBezTo>
                <a:cubicBezTo>
                  <a:pt x="15647" y="7227"/>
                  <a:pt x="16619" y="7182"/>
                  <a:pt x="17462" y="7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3384720"/>
            <a:ext cx="187560" cy="330120"/>
          </a:xfrm>
          <a:custGeom>
            <a:avLst/>
            <a:gdLst/>
            <a:ahLst/>
            <a:rect l="l" t="t" r="r" b="b"/>
            <a:pathLst>
              <a:path w="522" h="919">
                <a:moveTo>
                  <a:pt x="3746" y="9699"/>
                </a:moveTo>
                <a:cubicBezTo>
                  <a:pt x="3714" y="9800"/>
                  <a:pt x="3713" y="9898"/>
                  <a:pt x="3597" y="9922"/>
                </a:cubicBezTo>
                <a:cubicBezTo>
                  <a:pt x="3787" y="9869"/>
                  <a:pt x="3875" y="9924"/>
                  <a:pt x="4068" y="9971"/>
                </a:cubicBezTo>
                <a:cubicBezTo>
                  <a:pt x="4133" y="9987"/>
                  <a:pt x="4108" y="9864"/>
                  <a:pt x="4118" y="9798"/>
                </a:cubicBezTo>
              </a:path>
              <a:path w="522" h="919">
                <a:moveTo>
                  <a:pt x="4093" y="9401"/>
                </a:moveTo>
                <a:cubicBezTo>
                  <a:pt x="4070" y="9648"/>
                  <a:pt x="4049" y="9898"/>
                  <a:pt x="4018" y="10145"/>
                </a:cubicBezTo>
                <a:cubicBezTo>
                  <a:pt x="4001" y="10253"/>
                  <a:pt x="3993" y="10260"/>
                  <a:pt x="3994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30680" y="3000240"/>
            <a:ext cx="563400" cy="635040"/>
          </a:xfrm>
          <a:custGeom>
            <a:avLst/>
            <a:gdLst/>
            <a:ahLst/>
            <a:rect l="l" t="t" r="r" b="b"/>
            <a:pathLst>
              <a:path w="1564" h="1763">
                <a:moveTo>
                  <a:pt x="8037" y="8905"/>
                </a:moveTo>
                <a:cubicBezTo>
                  <a:pt x="8012" y="9178"/>
                  <a:pt x="7958" y="9452"/>
                  <a:pt x="7913" y="9723"/>
                </a:cubicBezTo>
                <a:cubicBezTo>
                  <a:pt x="7896" y="9826"/>
                  <a:pt x="7869" y="9926"/>
                  <a:pt x="7888" y="9823"/>
                </a:cubicBezTo>
              </a:path>
              <a:path w="1564" h="1763">
                <a:moveTo>
                  <a:pt x="8830" y="8409"/>
                </a:moveTo>
                <a:cubicBezTo>
                  <a:pt x="8959" y="8356"/>
                  <a:pt x="9038" y="8341"/>
                  <a:pt x="9178" y="8334"/>
                </a:cubicBezTo>
                <a:cubicBezTo>
                  <a:pt x="9178" y="8524"/>
                  <a:pt x="9086" y="8523"/>
                  <a:pt x="8930" y="8607"/>
                </a:cubicBezTo>
                <a:cubicBezTo>
                  <a:pt x="8938" y="8607"/>
                  <a:pt x="8946" y="8607"/>
                  <a:pt x="8954" y="8607"/>
                </a:cubicBezTo>
                <a:cubicBezTo>
                  <a:pt x="9028" y="8613"/>
                  <a:pt x="9321" y="8649"/>
                  <a:pt x="9153" y="8781"/>
                </a:cubicBezTo>
                <a:cubicBezTo>
                  <a:pt x="9073" y="8844"/>
                  <a:pt x="8925" y="8864"/>
                  <a:pt x="8830" y="8880"/>
                </a:cubicBezTo>
              </a:path>
              <a:path w="1564" h="1763">
                <a:moveTo>
                  <a:pt x="8706" y="9079"/>
                </a:moveTo>
                <a:cubicBezTo>
                  <a:pt x="8940" y="9079"/>
                  <a:pt x="9169" y="9082"/>
                  <a:pt x="9401" y="9103"/>
                </a:cubicBezTo>
                <a:cubicBezTo>
                  <a:pt x="9434" y="9103"/>
                  <a:pt x="9443" y="9111"/>
                  <a:pt x="9426" y="9153"/>
                </a:cubicBezTo>
              </a:path>
              <a:path w="1564" h="1763">
                <a:moveTo>
                  <a:pt x="8756" y="9401"/>
                </a:moveTo>
                <a:cubicBezTo>
                  <a:pt x="8747" y="9453"/>
                  <a:pt x="8682" y="9578"/>
                  <a:pt x="8706" y="9624"/>
                </a:cubicBezTo>
                <a:cubicBezTo>
                  <a:pt x="8772" y="9748"/>
                  <a:pt x="8961" y="9662"/>
                  <a:pt x="9054" y="9624"/>
                </a:cubicBezTo>
              </a:path>
              <a:path w="1564" h="1763">
                <a:moveTo>
                  <a:pt x="8954" y="9351"/>
                </a:moveTo>
                <a:cubicBezTo>
                  <a:pt x="8907" y="9544"/>
                  <a:pt x="8875" y="9748"/>
                  <a:pt x="8855" y="9947"/>
                </a:cubicBezTo>
                <a:cubicBezTo>
                  <a:pt x="8850" y="9995"/>
                  <a:pt x="8855" y="10047"/>
                  <a:pt x="8855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5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71920" y="2813040"/>
            <a:ext cx="1643040" cy="81000"/>
          </a:xfrm>
          <a:custGeom>
            <a:avLst/>
            <a:gdLst/>
            <a:ahLst/>
            <a:rect l="l" t="t" r="r" b="b"/>
            <a:pathLst>
              <a:path w="4565" h="225">
                <a:moveTo>
                  <a:pt x="9922" y="8037"/>
                </a:moveTo>
                <a:cubicBezTo>
                  <a:pt x="10097" y="8018"/>
                  <a:pt x="10265" y="8012"/>
                  <a:pt x="10443" y="8012"/>
                </a:cubicBezTo>
                <a:cubicBezTo>
                  <a:pt x="10710" y="8012"/>
                  <a:pt x="10971" y="7990"/>
                  <a:pt x="11237" y="7987"/>
                </a:cubicBezTo>
                <a:cubicBezTo>
                  <a:pt x="11635" y="7983"/>
                  <a:pt x="12031" y="7953"/>
                  <a:pt x="12427" y="7913"/>
                </a:cubicBezTo>
                <a:cubicBezTo>
                  <a:pt x="12717" y="7884"/>
                  <a:pt x="13005" y="7884"/>
                  <a:pt x="13295" y="7863"/>
                </a:cubicBezTo>
                <a:cubicBezTo>
                  <a:pt x="13610" y="7841"/>
                  <a:pt x="13921" y="7838"/>
                  <a:pt x="14238" y="7838"/>
                </a:cubicBezTo>
                <a:cubicBezTo>
                  <a:pt x="14332" y="7838"/>
                  <a:pt x="14396" y="7827"/>
                  <a:pt x="14486" y="78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1:39:29Z</dcterms:created>
  <dc:creator>Brian McGrath</dc:creator>
  <dc:description/>
  <dc:language>en-US</dc:language>
  <cp:lastModifiedBy>deanne elizabeth mcgrath</cp:lastModifiedBy>
  <dcterms:modified xsi:type="dcterms:W3CDTF">2011-10-24T19:18:42Z</dcterms:modified>
  <cp:revision>3</cp:revision>
  <dc:subject/>
  <dc:title>Warm-up:</dc:title>
</cp:coreProperties>
</file>